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2.jpeg" ContentType="image/jpeg"/>
  <Override PartName="/ppt/media/image9.png" ContentType="image/png"/>
  <Override PartName="/ppt/media/image46.gif" ContentType="image/gif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0.jpeg" ContentType="image/jpeg"/>
  <Override PartName="/ppt/media/image47.gif" ContentType="image/gif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4.jpeg" ContentType="image/jpeg"/>
  <Override PartName="/ppt/media/image28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39.jpeg" ContentType="image/jpeg"/>
  <Override PartName="/ppt/media/image8.jpeg" ContentType="image/jpeg"/>
  <Override PartName="/ppt/media/image45.gif" ContentType="image/gif"/>
  <Override PartName="/ppt/media/image12.jpeg" ContentType="image/jpeg"/>
  <Override PartName="/ppt/media/image3.jpeg" ContentType="image/jpeg"/>
  <Override PartName="/ppt/media/image37.jpeg" ContentType="image/jpeg"/>
  <Override PartName="/ppt/media/image43.jpeg" ContentType="image/jpeg"/>
  <Override PartName="/ppt/media/image11.jpeg" ContentType="image/jpeg"/>
  <Override PartName="/ppt/media/image6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330C-1EFF-49CC-AD17-F5FB82F1C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6215-1E8E-4CF2-BD84-ACDD53267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C0A5-4B8A-4BFC-9BBE-2130ED88C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0FA4-6C9E-4E13-8FE2-D7BE93887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8350-A22A-49CA-BE8D-2AD59C027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FDC3-2BE4-4F6A-964B-9BE0EEB25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BB15-7D9A-4EF7-8239-16CEFB339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FD96-C7F2-43E7-BFB5-B5841BE2C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35A6-ECCF-4876-A3AE-FCA1EEF16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AC9E-424D-4A99-B667-84D2D5CD7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5F08-ED88-4627-8702-462357033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8DDE-60C7-4B6C-987A-B79B5FA65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58B9D-09B6-4C3D-B505-9330362C20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image" Target="../media/image38.jpeg"/><Relationship Id="rId8" Type="http://schemas.openxmlformats.org/officeDocument/2006/relationships/slide" Target="slide14.xml"/><Relationship Id="rId9" Type="http://schemas.openxmlformats.org/officeDocument/2006/relationships/image" Target="../media/image39.jpeg"/><Relationship Id="rId10" Type="http://schemas.openxmlformats.org/officeDocument/2006/relationships/image" Target="../media/image32.jpeg"/><Relationship Id="rId11" Type="http://schemas.openxmlformats.org/officeDocument/2006/relationships/image" Target="../media/image33.jpeg"/><Relationship Id="rId12" Type="http://schemas.openxmlformats.org/officeDocument/2006/relationships/image" Target="../media/image34.jpeg"/><Relationship Id="rId13" Type="http://schemas.openxmlformats.org/officeDocument/2006/relationships/image" Target="../media/image35.jpeg"/><Relationship Id="rId14" Type="http://schemas.openxmlformats.org/officeDocument/2006/relationships/image" Target="../media/image36.jpeg"/><Relationship Id="rId15" Type="http://schemas.openxmlformats.org/officeDocument/2006/relationships/image" Target="../media/image37.jpeg"/><Relationship Id="rId16" Type="http://schemas.openxmlformats.org/officeDocument/2006/relationships/image" Target="../media/image38.jpeg"/><Relationship Id="rId17" Type="http://schemas.openxmlformats.org/officeDocument/2006/relationships/slide" Target="slide14.xml"/><Relationship Id="rId18" Type="http://schemas.openxmlformats.org/officeDocument/2006/relationships/image" Target="../media/image39.jpeg"/><Relationship Id="rId19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hyperlink" Target="file:///../../Local%20Settings/Temp/Rar$EX01.578/551067/indikat_port/IMAGE3/pen2.jpg" TargetMode="External"/><Relationship Id="rId7" Type="http://schemas.openxmlformats.org/officeDocument/2006/relationships/image" Target="../media/image7.jpeg"/><Relationship Id="rId8" Type="http://schemas.openxmlformats.org/officeDocument/2006/relationships/hyperlink" Target="file:///../../Local%20Settings/Temp/Rar$EX01.578/551067/indikat_port/IMAGE3/derevo2.jpg" TargetMode="External"/><Relationship Id="rId9" Type="http://schemas.openxmlformats.org/officeDocument/2006/relationships/image" Target="../media/image8.jpeg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5.gif"/><Relationship Id="rId2" Type="http://schemas.openxmlformats.org/officeDocument/2006/relationships/slide" Target="slide18.xm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gif"/><Relationship Id="rId2" Type="http://schemas.openxmlformats.org/officeDocument/2006/relationships/image" Target="../media/image47.gif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0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4572000"/>
            <a:ext cx="8153280" cy="20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Царство ядерных организмов, выполняющих роль разрушителей в прир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457200" y="304920"/>
          <a:ext cx="8437680" cy="4167000"/>
        </p:xfrm>
        <a:graphic>
          <a:graphicData uri="http://schemas.openxmlformats.org/drawingml/2006/table">
            <a:tbl>
              <a:tblPr/>
              <a:tblGrid>
                <a:gridCol w="538200"/>
                <a:gridCol w="538200"/>
                <a:gridCol w="538200"/>
                <a:gridCol w="538200"/>
                <a:gridCol w="537840"/>
                <a:gridCol w="568440"/>
                <a:gridCol w="507960"/>
                <a:gridCol w="527040"/>
                <a:gridCol w="519120"/>
                <a:gridCol w="519120"/>
                <a:gridCol w="519120"/>
                <a:gridCol w="517680"/>
                <a:gridCol w="520560"/>
                <a:gridCol w="515880"/>
                <a:gridCol w="516240"/>
                <a:gridCol w="515880"/>
              </a:tblGrid>
              <a:tr h="595080"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                                   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ff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54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   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5440">
                <a:tc gridSpan="6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                   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5440">
                <a:tc gridSpan="4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        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        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54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17680" y="4532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43000" y="4800600"/>
            <a:ext cx="8001000" cy="17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. Низшие одноклеточные и многоклеточные раст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4572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     О      Р     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4952880"/>
            <a:ext cx="861084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Организмы, питающиеся органическим веществом отмерших организм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33720" y="1066680"/>
            <a:ext cx="46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       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П      Р     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Ф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Т     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5181480"/>
            <a:ext cx="777240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Гифы гриба образую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34120" y="160020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Ц     Е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Л     И      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3581280"/>
            <a:ext cx="4572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33920" y="2209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       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И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71600" y="5791320"/>
            <a:ext cx="655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38280" y="502920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Тело водорос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43200" y="281952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      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О      Е      В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Щ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743200" y="33526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     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Д      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Р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С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Л     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4800600"/>
            <a:ext cx="8381880" cy="23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. Процесс создания растениями органических веществ из углекислого газа и воды с использованием энергии св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396252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Ф      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Т      О     С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      Н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Т      Е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001000" y="1600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72428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Специальные клетки гриба для размножения и рассе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380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34120" y="3808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57800" y="990720"/>
            <a:ext cx="533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990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257800" y="990720"/>
            <a:ext cx="4730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34120" y="1523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34120" y="2209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34120" y="2819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34120" y="3352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34120" y="3962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92468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40"/>
                            </p:stCondLst>
                            <p:childTnLst>
                              <p:par>
                                <p:cTn id="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"/>
                            </p:stCondLst>
                            <p:childTnLst>
                              <p:par>
                                <p:cTn id="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20"/>
                            </p:stCondLst>
                            <p:childTnLst>
                              <p:par>
                                <p:cTn id="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40"/>
                            </p:stCondLst>
                            <p:childTnLst>
                              <p:par>
                                <p:cTn id="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"/>
                            </p:stCondLst>
                            <p:childTnLst>
                              <p:par>
                                <p:cTn id="1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161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4" dur="189962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05b"/>
            </a:gs>
            <a:gs pos="100000">
              <a:srgbClr val="75672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Гравюра Юлиуса Шнорр фон Карольсфельда "/>
          <p:cNvPicPr/>
          <p:nvPr/>
        </p:nvPicPr>
        <p:blipFill>
          <a:blip r:embed="rId1"/>
          <a:srcRect l="3947" t="0" r="0" b="0"/>
          <a:stretch/>
        </p:blipFill>
        <p:spPr>
          <a:xfrm>
            <a:off x="469800" y="533520"/>
            <a:ext cx="2730600" cy="59436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Aspicilia"/>
          <p:cNvPicPr/>
          <p:nvPr/>
        </p:nvPicPr>
        <p:blipFill>
          <a:blip r:embed="rId2"/>
          <a:stretch/>
        </p:blipFill>
        <p:spPr>
          <a:xfrm>
            <a:off x="4038480" y="2077920"/>
            <a:ext cx="4191120" cy="23115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809880" y="487692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Аспицилия съедоб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52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Monotype Corsiva"/>
              </a:rPr>
              <a:t>«Манна небесная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495680" y="556272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05b"/>
            </a:gs>
            <a:gs pos="100000">
              <a:srgbClr val="75672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533520" y="1752480"/>
            <a:ext cx="8839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Лишайники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– это единые организмы, состоящие из гриба и водоросли и связанные симбиотическими отношения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05b"/>
            </a:gs>
            <a:gs pos="100000">
              <a:srgbClr val="75672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533520" y="1143000"/>
            <a:ext cx="83055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Лишайник </a:t>
            </a: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(греч.) – чешуйчат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Лихенология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(лат.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Lichen</a:t>
            </a: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 – лишайник) – наука о лишайниках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8153280" y="6019920"/>
            <a:ext cx="38124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212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5" dur="189962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05b"/>
            </a:gs>
            <a:gs pos="100000">
              <a:srgbClr val="75672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сфинкс"/>
          <p:cNvPicPr/>
          <p:nvPr/>
        </p:nvPicPr>
        <p:blipFill>
          <a:blip r:embed="rId1"/>
          <a:stretch/>
        </p:blipFill>
        <p:spPr>
          <a:xfrm>
            <a:off x="6477120" y="152280"/>
            <a:ext cx="2481120" cy="3733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67" name="" descr="сфинкс"/>
          <p:cNvPicPr/>
          <p:nvPr/>
        </p:nvPicPr>
        <p:blipFill>
          <a:blip r:embed="rId2"/>
          <a:stretch/>
        </p:blipFill>
        <p:spPr>
          <a:xfrm>
            <a:off x="152280" y="3886200"/>
            <a:ext cx="2576520" cy="2743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68" name="" descr="Фото автора"/>
          <p:cNvPicPr/>
          <p:nvPr/>
        </p:nvPicPr>
        <p:blipFill>
          <a:blip r:embed="rId3"/>
          <a:stretch/>
        </p:blipFill>
        <p:spPr>
          <a:xfrm>
            <a:off x="2895480" y="2286000"/>
            <a:ext cx="3429000" cy="2367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Monotype Corsiva"/>
              </a:rPr>
              <a:t>«Растение-сфинкс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419720" y="5105520"/>
            <a:ext cx="4114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Двойная природ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водоросль и гри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05b"/>
            </a:gs>
            <a:gs pos="100000">
              <a:srgbClr val="75672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Monotype Corsiva"/>
              </a:rPr>
              <a:t>Среда обита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rcRect l="0" t="0" r="1666" b="0"/>
          <a:stretch/>
        </p:blipFill>
        <p:spPr>
          <a:xfrm>
            <a:off x="2133720" y="1143000"/>
            <a:ext cx="4495680" cy="54864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2133720" y="1143000"/>
            <a:ext cx="4505040" cy="54864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2133720" y="1143000"/>
            <a:ext cx="4581360" cy="54864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2133720" y="1143000"/>
            <a:ext cx="4581360" cy="54864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5"/>
          <a:stretch/>
        </p:blipFill>
        <p:spPr>
          <a:xfrm>
            <a:off x="2133720" y="1143000"/>
            <a:ext cx="4581360" cy="54864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6"/>
          <a:stretch/>
        </p:blipFill>
        <p:spPr>
          <a:xfrm>
            <a:off x="2133720" y="1143000"/>
            <a:ext cx="4581360" cy="54864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7"/>
          <a:stretch/>
        </p:blipFill>
        <p:spPr>
          <a:xfrm>
            <a:off x="2133720" y="1143000"/>
            <a:ext cx="4581360" cy="54864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2133720" y="1143000"/>
            <a:ext cx="4581360" cy="54864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10"/>
          <a:stretch/>
        </p:blipFill>
        <p:spPr>
          <a:xfrm>
            <a:off x="2133720" y="1143000"/>
            <a:ext cx="4581360" cy="54864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11"/>
          <a:stretch/>
        </p:blipFill>
        <p:spPr>
          <a:xfrm>
            <a:off x="2133720" y="1143000"/>
            <a:ext cx="4572000" cy="54864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12"/>
          <a:stretch/>
        </p:blipFill>
        <p:spPr>
          <a:xfrm>
            <a:off x="2133720" y="1143000"/>
            <a:ext cx="4581360" cy="5486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13"/>
          <a:stretch/>
        </p:blipFill>
        <p:spPr>
          <a:xfrm>
            <a:off x="2133720" y="1143000"/>
            <a:ext cx="4581360" cy="54864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14"/>
          <a:stretch/>
        </p:blipFill>
        <p:spPr>
          <a:xfrm>
            <a:off x="2133720" y="1143000"/>
            <a:ext cx="4581360" cy="54864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15"/>
          <a:stretch/>
        </p:blipFill>
        <p:spPr>
          <a:xfrm>
            <a:off x="2133720" y="1143000"/>
            <a:ext cx="4581360" cy="54864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16"/>
          <a:stretch/>
        </p:blipFill>
        <p:spPr>
          <a:xfrm>
            <a:off x="2133720" y="1143000"/>
            <a:ext cx="4581360" cy="54864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2133720" y="1143000"/>
            <a:ext cx="4581360" cy="54864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659040" y="5029200"/>
            <a:ext cx="531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Лишайниковые кисл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648680" y="5538960"/>
            <a:ext cx="336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Вынослив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600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9000"/>
                            </p:stCondLst>
                            <p:childTnLst>
                              <p:par>
                                <p:cTn id="24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4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7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8000"/>
                            </p:stCondLst>
                            <p:childTnLst>
                              <p:par>
                                <p:cTn id="250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6000"/>
                            </p:stCondLst>
                            <p:childTnLst>
                              <p:par>
                                <p:cTn id="26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9000"/>
                            </p:stCondLst>
                            <p:childTnLst>
                              <p:par>
                                <p:cTn id="266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2000"/>
                            </p:stCondLst>
                            <p:childTnLst>
                              <p:par>
                                <p:cTn id="26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5000"/>
                            </p:stCondLst>
                            <p:childTnLst>
                              <p:par>
                                <p:cTn id="27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50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80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100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400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7000"/>
                            </p:stCondLst>
                            <p:childTnLst>
                              <p:par>
                                <p:cTn id="2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700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300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1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8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05b"/>
            </a:gs>
            <a:gs pos="100000">
              <a:srgbClr val="75672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моаи"/>
          <p:cNvPicPr/>
          <p:nvPr/>
        </p:nvPicPr>
        <p:blipFill>
          <a:blip r:embed="rId1"/>
          <a:stretch/>
        </p:blipFill>
        <p:spPr>
          <a:xfrm>
            <a:off x="5943600" y="457200"/>
            <a:ext cx="2590920" cy="1927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91" name="" descr="моаи"/>
          <p:cNvPicPr/>
          <p:nvPr/>
        </p:nvPicPr>
        <p:blipFill>
          <a:blip r:embed="rId2"/>
          <a:stretch/>
        </p:blipFill>
        <p:spPr>
          <a:xfrm>
            <a:off x="685800" y="3962520"/>
            <a:ext cx="1523880" cy="2361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52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Monotype Corsiva"/>
              </a:rPr>
              <a:t>Рост и долголет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57200" y="45720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Гигантские статуи на острове Пасх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57150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Медленный р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05b"/>
            </a:gs>
            <a:gs pos="100000">
              <a:srgbClr val="75672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Monotype Corsiva"/>
              </a:rPr>
              <a:t>Особенности лишайнико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Лишайник – симбиотическое сожительство двух организм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собые жизненные формы, не встречающиеся ни у грибов, ни у водорос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пецифические лишайниковые вещ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пособ размн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едленный р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никальная вынослив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7d36b"/>
            </a:gs>
            <a:gs pos="100000">
              <a:srgbClr val="6a613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3505320" cy="2629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98" name="" descr="трикотаж"/>
          <p:cNvPicPr/>
          <p:nvPr/>
        </p:nvPicPr>
        <p:blipFill>
          <a:blip r:embed="rId2"/>
          <a:stretch/>
        </p:blipFill>
        <p:spPr>
          <a:xfrm>
            <a:off x="4419720" y="1066680"/>
            <a:ext cx="1773000" cy="26672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380880" y="3962520"/>
            <a:ext cx="3505320" cy="2628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Monotype Corsiva"/>
              </a:rPr>
              <a:t>Значение лишайнико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05b"/>
            </a:gs>
            <a:gs pos="100000">
              <a:srgbClr val="75672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600200" y="29718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048120" y="29718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0" y="29718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095880" y="29718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167652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048120" y="167652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0" y="167652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>
            <a:hlinkClick r:id="rId1" action="ppaction://hlinksldjump"/>
          </p:cNvPr>
          <p:cNvSpPr/>
          <p:nvPr/>
        </p:nvSpPr>
        <p:spPr>
          <a:xfrm>
            <a:off x="6095880" y="167652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228600" y="1676520"/>
            <a:ext cx="8763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акие существуют формы лишайник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а) кустисты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) накипны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) листоват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>
            <a:hlinkClick r:id="rId1" action="ppaction://hlinksldjump"/>
          </p:cNvPr>
          <p:cNvSpPr/>
          <p:nvPr/>
        </p:nvSpPr>
        <p:spPr>
          <a:xfrm>
            <a:off x="8001000" y="60199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70080" cy="29718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3200400" y="0"/>
            <a:ext cx="2622600" cy="29718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6937200" y="0"/>
            <a:ext cx="2206800" cy="29718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3429000" y="3886200"/>
            <a:ext cx="2170080" cy="29718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Фото автора, можно приблизить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0" y="4618080"/>
            <a:ext cx="2590920" cy="2239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77" name="" descr="Фото автора, щелчок приближает объект">
            <a:hlinkClick r:id="rId8"/>
          </p:cNvPr>
          <p:cNvPicPr/>
          <p:nvPr/>
        </p:nvPicPr>
        <p:blipFill>
          <a:blip r:embed="rId9"/>
          <a:srcRect l="0" t="0" r="19048" b="0"/>
          <a:stretch/>
        </p:blipFill>
        <p:spPr>
          <a:xfrm>
            <a:off x="6553080" y="4627440"/>
            <a:ext cx="2590920" cy="22305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78" name=""/>
          <p:cNvSpPr txBox="1"/>
          <p:nvPr/>
        </p:nvSpPr>
        <p:spPr>
          <a:xfrm>
            <a:off x="1371600" y="2895480"/>
            <a:ext cx="5943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eff61"/>
                </a:solidFill>
                <a:effectLst>
                  <a:outerShdw dist="17819" dir="2700000" blurRad="0" rotWithShape="0">
                    <a:srgbClr val="ffffff">
                      <a:alpha val="80000"/>
                    </a:srgbClr>
                  </a:outerShdw>
                </a:effectLst>
                <a:latin typeface="Monotype Corsiva"/>
              </a:rPr>
              <a:t>Лишайник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eff61"/>
              </a:solidFill>
              <a:effectLst>
                <a:outerShdw dist="17819" dir="2700000" blurRad="0" rotWithShape="0">
                  <a:srgbClr val="ffffff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79" name=""/>
          <p:cNvSpPr/>
          <p:nvPr/>
        </p:nvSpPr>
        <p:spPr>
          <a:xfrm>
            <a:off x="6994440" y="3925800"/>
            <a:ext cx="214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172200" y="3581280"/>
            <a:ext cx="4019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Презентация к уро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учителя би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гимназии № 44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Санкт-Петербур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5f9bf"/>
                </a:solidFill>
                <a:latin typeface="Arial"/>
              </a:rPr>
              <a:t>Деларовой Е.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учитель биологии           Деларова Е.В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925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4" dur="1925" fill="hold"/>
                                        <p:tgtEl>
                                          <p:spTgt spid="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5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6" dur="1925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7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8" dur="1925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9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Тело лишайников называется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а) грибни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б) слоевищ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>
            <a:hlinkClick r:id="rId1" action="ppaction://hlinksldjump"/>
          </p:cNvPr>
          <p:cNvSpPr/>
          <p:nvPr/>
        </p:nvSpPr>
        <p:spPr>
          <a:xfrm>
            <a:off x="815328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219320" y="1676520"/>
            <a:ext cx="7162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Лишайники – эт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а) водорос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б) гриб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в) симбиоз гриба и водорос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>
            <a:hlinkClick r:id="rId1" action="ppaction://hlinksldjump"/>
          </p:cNvPr>
          <p:cNvSpPr/>
          <p:nvPr/>
        </p:nvSpPr>
        <p:spPr>
          <a:xfrm>
            <a:off x="815328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Органические вещества лишайнику поставля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а) водорос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б) гри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>
            <a:hlinkClick r:id="rId1" action="ppaction://hlinksldjump"/>
          </p:cNvPr>
          <p:cNvSpPr/>
          <p:nvPr/>
        </p:nvSpPr>
        <p:spPr>
          <a:xfrm>
            <a:off x="845820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3657600" y="2209680"/>
            <a:ext cx="2228760" cy="1708200"/>
          </a:xfrm>
          <a:prstGeom prst="rect">
            <a:avLst/>
          </a:prstGeom>
          <a:ln w="0">
            <a:noFill/>
          </a:ln>
        </p:spPr>
      </p:pic>
      <p:sp>
        <p:nvSpPr>
          <p:cNvPr id="218" name="">
            <a:hlinkClick r:id="rId2" action="ppaction://hlinksldjump"/>
          </p:cNvPr>
          <p:cNvSpPr/>
          <p:nvPr/>
        </p:nvSpPr>
        <p:spPr>
          <a:xfrm>
            <a:off x="8153280" y="6095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2133720" y="2819520"/>
            <a:ext cx="1353960" cy="21142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5638680" y="1828800"/>
            <a:ext cx="765360" cy="765000"/>
          </a:xfrm>
          <a:prstGeom prst="rect">
            <a:avLst/>
          </a:prstGeom>
          <a:ln w="0">
            <a:noFill/>
          </a:ln>
        </p:spPr>
      </p:pic>
      <p:sp>
        <p:nvSpPr>
          <p:cNvPr id="221" name="">
            <a:hlinkClick r:id="rId3" action="ppaction://hlinksldjump"/>
          </p:cNvPr>
          <p:cNvSpPr/>
          <p:nvPr/>
        </p:nvSpPr>
        <p:spPr>
          <a:xfrm>
            <a:off x="800100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05b"/>
            </a:gs>
            <a:gs pos="100000">
              <a:srgbClr val="75672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Monotype Corsiva"/>
              </a:rPr>
              <a:t>Строение лишайни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4348440" cy="38098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172200" y="16002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ерхняя к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72200" y="2209680"/>
            <a:ext cx="243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летки водоросл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095880" y="32004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ердцев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72200" y="40384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Гифы гри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72200" y="457200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ижняя к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172200" y="51814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изои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7280" y="1676520"/>
            <a:ext cx="152640" cy="609480"/>
          </a:xfrm>
          <a:custGeom>
            <a:avLst/>
            <a:gdLst>
              <a:gd name="textAreaLeft" fmla="*/ 0 w 152640"/>
              <a:gd name="textAreaRight" fmla="*/ 55080 w 15264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257800" y="2590920"/>
            <a:ext cx="99072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029200" y="4191120"/>
            <a:ext cx="121932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867280" y="2286000"/>
            <a:ext cx="114480" cy="2209680"/>
          </a:xfrm>
          <a:custGeom>
            <a:avLst/>
            <a:gdLst>
              <a:gd name="textAreaLeft" fmla="*/ 0 w 114480"/>
              <a:gd name="textAreaRight" fmla="*/ 41400 w 11448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867280" y="4495680"/>
            <a:ext cx="152640" cy="609840"/>
          </a:xfrm>
          <a:custGeom>
            <a:avLst/>
            <a:gdLst>
              <a:gd name="textAreaLeft" fmla="*/ 0 w 152640"/>
              <a:gd name="textAreaRight" fmla="*/ 55080 w 15264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33920" y="5257800"/>
            <a:ext cx="2438280" cy="1522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05b"/>
            </a:gs>
            <a:gs pos="100000">
              <a:srgbClr val="75672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Monotype Corsiva"/>
              </a:rPr>
              <a:t>Питание лишайнико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371600" y="3048120"/>
            <a:ext cx="21337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водорос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38680" y="3048120"/>
            <a:ext cx="21337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гри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03480" y="4456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05320" y="3505320"/>
            <a:ext cx="2133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 rot="7972200">
            <a:off x="2499480" y="1386360"/>
            <a:ext cx="4302720" cy="450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711" y="1274"/>
                </a:moveTo>
                <a:arcTo wR="10800" hR="10800" stAng="-7086757" swAng="8905212"/>
                <a:lnTo>
                  <a:pt x="10800" y="10800"/>
                </a:lnTo>
                <a:close/>
              </a:path>
              <a:path fill="none" w="21600" h="21600">
                <a:moveTo>
                  <a:pt x="5711" y="1274"/>
                </a:moveTo>
                <a:arcTo wR="10800" hR="10800" stAng="-7086757" swAng="8905212"/>
              </a:path>
            </a:pathLst>
          </a:cu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 flipV="1" rot="18823800">
            <a:off x="2426760" y="1127160"/>
            <a:ext cx="4302720" cy="450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711" y="1274"/>
                </a:moveTo>
                <a:arcTo wR="10800" hR="10800" stAng="-7086757" swAng="8905212"/>
                <a:lnTo>
                  <a:pt x="10800" y="10800"/>
                </a:lnTo>
                <a:close/>
              </a:path>
              <a:path fill="none" w="21600" h="21600">
                <a:moveTo>
                  <a:pt x="5711" y="1274"/>
                </a:moveTo>
                <a:arcTo wR="10800" hR="10800" stAng="-7086757" swAng="8905212"/>
              </a:path>
            </a:pathLst>
          </a:cu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057400" y="2286000"/>
            <a:ext cx="5181480" cy="3657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46456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оду и минеральные вещества</a:t>
            </a:r>
            <a:endParaRPr b="0" i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3" name=""/>
          <p:cNvSpPr/>
          <p:nvPr/>
        </p:nvSpPr>
        <p:spPr>
          <a:xfrm rot="20014200">
            <a:off x="6400800" y="2514240"/>
            <a:ext cx="457200" cy="533520"/>
          </a:xfrm>
          <a:prstGeom prst="flowChartMerg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9214200">
            <a:off x="2361960" y="3962160"/>
            <a:ext cx="457200" cy="533160"/>
          </a:xfrm>
          <a:prstGeom prst="flowChartMerg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209680" y="1066680"/>
            <a:ext cx="4800600" cy="3038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58839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рганические вещества</a:t>
            </a:r>
            <a:endParaRPr b="0" i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05b"/>
            </a:gs>
            <a:gs pos="100000">
              <a:srgbClr val="75672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219320" y="533520"/>
            <a:ext cx="67053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Monotype Corsiva"/>
              </a:rPr>
              <a:t>Способы размноже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4419720"/>
            <a:ext cx="36576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егетатив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кусочками слоевищ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52480" y="2514600"/>
            <a:ext cx="22100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беспол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181480" y="2514600"/>
            <a:ext cx="22100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поло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724280" y="4419720"/>
            <a:ext cx="36576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пециализирова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группы кле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495680" y="1447920"/>
            <a:ext cx="0" cy="533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19520" y="1981080"/>
            <a:ext cx="3429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819520" y="19810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248520" y="19810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819520" y="342900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752480" y="3886200"/>
            <a:ext cx="33530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05520" y="388620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52480" y="388620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пертузария горькая"/>
          <p:cNvPicPr/>
          <p:nvPr/>
        </p:nvPicPr>
        <p:blipFill>
          <a:blip r:embed="rId2"/>
          <a:srcRect l="0" t="0" r="0" b="10938"/>
          <a:stretch/>
        </p:blipFill>
        <p:spPr>
          <a:xfrm>
            <a:off x="0" y="0"/>
            <a:ext cx="3200400" cy="2819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21" name="" descr="ксантория постенная"/>
          <p:cNvPicPr/>
          <p:nvPr/>
        </p:nvPicPr>
        <p:blipFill>
          <a:blip r:embed="rId3"/>
          <a:stretch/>
        </p:blipFill>
        <p:spPr>
          <a:xfrm>
            <a:off x="5943600" y="0"/>
            <a:ext cx="3200400" cy="2782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22" name="" descr="петильгера ложная"/>
          <p:cNvPicPr/>
          <p:nvPr/>
        </p:nvPicPr>
        <p:blipFill>
          <a:blip r:embed="rId4"/>
          <a:srcRect l="9091" t="0" r="14548" b="0"/>
          <a:stretch/>
        </p:blipFill>
        <p:spPr>
          <a:xfrm>
            <a:off x="0" y="3944880"/>
            <a:ext cx="3200400" cy="2913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23" name="" descr="60-тикратное увеличение"/>
          <p:cNvPicPr/>
          <p:nvPr/>
        </p:nvPicPr>
        <p:blipFill>
          <a:blip r:embed="rId5"/>
          <a:stretch/>
        </p:blipFill>
        <p:spPr>
          <a:xfrm>
            <a:off x="5943600" y="3913200"/>
            <a:ext cx="3200400" cy="2944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3429000" y="3962520"/>
            <a:ext cx="2284560" cy="28954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02400" y="2895480"/>
            <a:ext cx="848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Monotype Corsiva"/>
              </a:rPr>
              <a:t>Накипные лишайни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Накипной лишайник (Rhizocarpum geographicum). В Пиренеях (Франция)."/>
          <p:cNvPicPr/>
          <p:nvPr/>
        </p:nvPicPr>
        <p:blipFill>
          <a:blip r:embed="rId7"/>
          <a:srcRect l="22924" t="0" r="8304" b="0"/>
          <a:stretch/>
        </p:blipFill>
        <p:spPr>
          <a:xfrm>
            <a:off x="3429000" y="0"/>
            <a:ext cx="2286000" cy="2809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rcRect l="0" t="0" r="11911" b="0"/>
          <a:stretch/>
        </p:blipFill>
        <p:spPr>
          <a:xfrm>
            <a:off x="0" y="0"/>
            <a:ext cx="2819520" cy="27687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29" name="" descr=""/>
          <p:cNvPicPr/>
          <p:nvPr/>
        </p:nvPicPr>
        <p:blipFill>
          <a:blip r:embed="rId3"/>
          <a:srcRect l="0" t="0" r="0" b="5270"/>
          <a:stretch/>
        </p:blipFill>
        <p:spPr>
          <a:xfrm>
            <a:off x="6377040" y="0"/>
            <a:ext cx="2766960" cy="2743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0" y="4103640"/>
            <a:ext cx="2819520" cy="2754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31" name="" descr=""/>
          <p:cNvPicPr/>
          <p:nvPr/>
        </p:nvPicPr>
        <p:blipFill>
          <a:blip r:embed="rId5"/>
          <a:srcRect l="0" t="5131" r="0" b="2561"/>
          <a:stretch/>
        </p:blipFill>
        <p:spPr>
          <a:xfrm>
            <a:off x="3352680" y="0"/>
            <a:ext cx="2478240" cy="27432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6"/>
          <a:srcRect l="10868" t="0" r="8694" b="0"/>
          <a:stretch/>
        </p:blipFill>
        <p:spPr>
          <a:xfrm>
            <a:off x="6324480" y="4114800"/>
            <a:ext cx="2819520" cy="2743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33" name=""/>
          <p:cNvSpPr/>
          <p:nvPr/>
        </p:nvSpPr>
        <p:spPr>
          <a:xfrm>
            <a:off x="-74880" y="2971800"/>
            <a:ext cx="910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Monotype Corsiva"/>
              </a:rPr>
              <a:t>Листоватые лишайни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лесные кладонии"/>
          <p:cNvPicPr/>
          <p:nvPr/>
        </p:nvPicPr>
        <p:blipFill>
          <a:blip r:embed="rId2"/>
          <a:stretch/>
        </p:blipFill>
        <p:spPr>
          <a:xfrm>
            <a:off x="6400800" y="0"/>
            <a:ext cx="2743200" cy="20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743200" cy="2109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0" y="4425840"/>
            <a:ext cx="2743200" cy="2432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6400800" y="4425840"/>
            <a:ext cx="2743200" cy="2432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39" name="" descr="кладония бахромчатая"/>
          <p:cNvPicPr/>
          <p:nvPr/>
        </p:nvPicPr>
        <p:blipFill>
          <a:blip r:embed="rId6"/>
          <a:stretch/>
        </p:blipFill>
        <p:spPr>
          <a:xfrm>
            <a:off x="3505320" y="0"/>
            <a:ext cx="2116080" cy="2133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40" name="" descr=""/>
          <p:cNvPicPr/>
          <p:nvPr/>
        </p:nvPicPr>
        <p:blipFill>
          <a:blip r:embed="rId7"/>
          <a:stretch/>
        </p:blipFill>
        <p:spPr>
          <a:xfrm>
            <a:off x="3505320" y="4419720"/>
            <a:ext cx="2120760" cy="20602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02760" y="2819520"/>
            <a:ext cx="853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Monotype Corsiva"/>
              </a:rPr>
              <a:t>Кустистые лишайни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05b"/>
            </a:gs>
            <a:gs pos="100000">
              <a:srgbClr val="75672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Monotype Corsiva"/>
              </a:rPr>
              <a:t>Типы слоеви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2362320"/>
            <a:ext cx="2286000" cy="190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Накип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спицил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алопла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анто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ециде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971800" y="2362320"/>
            <a:ext cx="2895480" cy="190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553080" y="2362320"/>
            <a:ext cx="2210040" cy="190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343400" y="2819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343400" y="2666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419720" y="2819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343400" y="2438280"/>
            <a:ext cx="1730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267080" y="2971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971800" y="2362320"/>
            <a:ext cx="2819520" cy="11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Листоват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армел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480720" y="2362320"/>
            <a:ext cx="234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Arial"/>
              </a:rPr>
              <a:t>Кустист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556160" y="537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629400" y="304812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ладо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цетра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сне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294920" y="1066680"/>
            <a:ext cx="3124440" cy="1295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419720" y="1066680"/>
            <a:ext cx="0" cy="1295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419720" y="1066680"/>
            <a:ext cx="3200400" cy="1295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2-23T20:50:24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