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44730-D3D7-4C1A-B66F-5840CF266C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3B9F8-477D-48C5-90A7-F3B012ED03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779EA-1AC3-418C-AE27-6D323124CD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E8761-7E27-4BB2-B3DF-14316F2F73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DAA2C-C808-44C9-8A9F-EC9FA77398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480DD-36E9-4B60-AEF5-C3F6D1AD11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4A6FE-DC6D-43E2-A142-FE89A883B5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16CC7-12D0-414C-A19B-845210D92C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93182-5E62-4595-9817-AD85830BB1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CE068-96AD-4368-837F-1555BA2689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AA1D9-CAC5-4AFE-AE0C-61F1AF1063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639936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029480"/>
            <a:ext cx="639936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710CF-A034-4A65-AC8E-8255789D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312264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0840" y="2437920"/>
            <a:ext cx="312264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029480"/>
            <a:ext cx="312264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0840" y="4029480"/>
            <a:ext cx="312264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704D5-9F96-4B9E-961B-3A72EB5D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206028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200" y="2437920"/>
            <a:ext cx="206028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8800" y="2437920"/>
            <a:ext cx="206028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029480"/>
            <a:ext cx="206028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200" y="4029480"/>
            <a:ext cx="206028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8800" y="4029480"/>
            <a:ext cx="206028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37D10-FD97-4393-B460-BA9926B566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8565B-696E-4EDF-B70A-0487AB3734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399360" cy="30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4D94F-C607-4EE8-919A-D21B4368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6399360" cy="30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2E679-4684-4781-993C-FBE75AF2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3122640" cy="30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0840" y="2437920"/>
            <a:ext cx="3122640" cy="30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C4BA6-7B63-43EB-AF3F-2A74FF87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188B6-1B85-4883-BE2E-A204F066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39936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DE6F6-FAC1-4BF6-A2B5-DEE94C6D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312264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0840" y="2437920"/>
            <a:ext cx="3122640" cy="30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029480"/>
            <a:ext cx="312264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4AA38-F4D8-4891-9DBF-B30196DF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399360" cy="30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C9866-9691-44CC-906D-3A131224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3122640" cy="30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0840" y="2437920"/>
            <a:ext cx="312264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0840" y="4029480"/>
            <a:ext cx="312264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3634F-C32A-4917-8F46-470BABAE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312264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0840" y="2437920"/>
            <a:ext cx="312264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029480"/>
            <a:ext cx="639936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10B58-46B6-450C-8A25-BD94E943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639936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029480"/>
            <a:ext cx="639936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E4964-A5DA-4A39-824B-14F3EE12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312264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0840" y="2437920"/>
            <a:ext cx="312264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029480"/>
            <a:ext cx="312264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0840" y="4029480"/>
            <a:ext cx="312264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3A2D5-CAD2-4945-85D6-846A22E4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206028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200" y="2437920"/>
            <a:ext cx="206028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800" y="2437920"/>
            <a:ext cx="206028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029480"/>
            <a:ext cx="206028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200" y="4029480"/>
            <a:ext cx="206028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800" y="4029480"/>
            <a:ext cx="206028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2F1C4-89BA-4C7E-B7F9-D07A95F504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6399360" cy="30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1C85E-FC3A-4E68-A3E5-46D79434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3122640" cy="30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0840" y="2437920"/>
            <a:ext cx="3122640" cy="30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A811B-79D5-4A20-B57C-DC722214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E7E65-0521-47BA-A054-BC5E341E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39936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943D2-0F3F-463B-87E8-C1EE1CB6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312264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0840" y="2437920"/>
            <a:ext cx="3122640" cy="30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029480"/>
            <a:ext cx="312264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6D38E-537E-4EAF-A384-B14CFAAA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3122640" cy="30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0840" y="2437920"/>
            <a:ext cx="312264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0840" y="4029480"/>
            <a:ext cx="312264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1C7DB-FF60-4A7D-961A-C1946401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312264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0840" y="2437920"/>
            <a:ext cx="312264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029480"/>
            <a:ext cx="6399360" cy="14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4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B5C9E-E0EB-48F3-9F63-11D45C46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39936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280188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4.2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675480" y="636408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2B0D35-83CC-442D-9D82-6EAD4A61D950}" type="slidenum">
              <a:rPr b="0" lang="ru-RU" sz="18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marL="257040" indent="-257040">
              <a:lnSpc>
                <a:spcPct val="14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557280" indent="-214200">
              <a:lnSpc>
                <a:spcPct val="14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857160" indent="-171360">
              <a:lnSpc>
                <a:spcPct val="14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199880" indent="-171360">
              <a:lnSpc>
                <a:spcPct val="14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1542960" indent="-171360">
              <a:lnSpc>
                <a:spcPct val="14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1542960" indent="-171360">
              <a:lnSpc>
                <a:spcPct val="14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1542960" indent="-171360">
              <a:lnSpc>
                <a:spcPct val="14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437920"/>
            <a:ext cx="6399360" cy="30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9000"/>
          </a:bodyPr>
          <a:p>
            <a:pPr marL="167760" indent="-167760">
              <a:lnSpc>
                <a:spcPct val="14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363960" indent="-140040">
              <a:lnSpc>
                <a:spcPct val="14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559800" indent="-111960">
              <a:lnSpc>
                <a:spcPct val="14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784080" indent="-111960">
              <a:lnSpc>
                <a:spcPct val="14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1008000" indent="-111960">
              <a:lnSpc>
                <a:spcPct val="14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1008000" indent="-111960">
              <a:lnSpc>
                <a:spcPct val="14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1008000" indent="-111960">
              <a:lnSpc>
                <a:spcPct val="14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30492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4.2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675480" y="636408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759E88-E4CD-4ECF-9B10-C67B7D23EAD1}" type="slidenum">
              <a:rPr b="0" lang="ru-RU" sz="18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Garamond"/>
              </a:rPr>
              <a:t>Зачем нужно читать книги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4429080" y="428616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Garamond"/>
              </a:rPr>
              <a:t>Выполнила ученица 6А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Garamond"/>
              </a:rPr>
              <a:t>МБОУ «Лицей 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Garamond"/>
              </a:rPr>
              <a:t>г.Саров 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Garamond"/>
              </a:rPr>
              <a:t>Макарова Ви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Garamond"/>
              </a:rPr>
              <a:t>Учитель — Васькова О. 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857160" y="2071800"/>
            <a:ext cx="742968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363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Garamond"/>
              </a:rPr>
              <a:t>Книги - это отражения человеческой души, человеческих познаний, чувств, переживаний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63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Garamond"/>
              </a:rPr>
              <a:t>Это словно собранное воедино множество мельчайших частичек, которые соприкасаясь друг с другом образуют общую картину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62626"/>
                </a:solidFill>
                <a:latin typeface="Garamond"/>
              </a:rPr>
              <a:t>Зачем нам нужны книги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785880" y="2214720"/>
            <a:ext cx="750096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363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Garamond"/>
              </a:rPr>
              <a:t>Читая книги, мы открываем для себя новые горизонты, познаём новые грани, ещё более тонко и подробно изучаем вселенские чудеса и даже просто бытовые вещи, смысл которых порой гораздо глубже и значительнее, чем кажется на первый взгляд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62626"/>
                </a:solidFill>
                <a:latin typeface="Garamond"/>
              </a:rPr>
              <a:t>Зачем нам нужны книги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785880" y="2214720"/>
            <a:ext cx="750096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363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Garamond"/>
              </a:rPr>
              <a:t>Книги учат нас чувствовать глубже, искреннее..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63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Garamond"/>
              </a:rPr>
              <a:t>Мы словно "губки" впитываем их мудрость и сами становимся, пусть немного, но мудрее, прекраснее..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63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62626"/>
                </a:solidFill>
                <a:latin typeface="Garamond"/>
              </a:rPr>
              <a:t>Зачем нам нужны книги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785880" y="2214720"/>
            <a:ext cx="750096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363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Garamond"/>
              </a:rPr>
              <a:t>Для меня книги словно воздух... без них я просто задыхаюсь и не в состоянии полноценно существовать..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Garamond"/>
              </a:rPr>
              <a:t>Для всего вышеупомянутого играет роль лишь один фактор: всё это -  о действительно стоящих книгах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62626"/>
                </a:solidFill>
                <a:latin typeface="Garamond"/>
              </a:rPr>
              <a:t>Зачем нам нужны книги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999720"/>
            <a:ext cx="640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62626"/>
                </a:solidFill>
                <a:latin typeface="Garamond"/>
              </a:rPr>
              <a:t>Вот несколько книг, которые я  советую прочитать: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1371600" y="2438280"/>
            <a:ext cx="6400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363"/>
              </a:spcBef>
              <a:spcAft>
                <a:spcPts val="1426"/>
              </a:spcAft>
              <a:buClr>
                <a:srgbClr val="000000"/>
              </a:buClr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aramond"/>
              </a:rPr>
              <a:t>Александр Беляев «Голова профессора Доуэ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63"/>
              </a:spcBef>
              <a:spcAft>
                <a:spcPts val="1426"/>
              </a:spcAft>
              <a:buClr>
                <a:srgbClr val="000000"/>
              </a:buClr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aramond"/>
              </a:rPr>
              <a:t>Дж. К. Роулинг. «Гарри Потте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63"/>
              </a:spcBef>
              <a:spcAft>
                <a:spcPts val="1426"/>
              </a:spcAft>
              <a:buClr>
                <a:srgbClr val="000000"/>
              </a:buClr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aramond"/>
              </a:rPr>
              <a:t>Роальд Даль «Чарли и шоколадная фабр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Garamond"/>
              </a:rPr>
              <a:t>«Голова профессора Доуэля»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5394240" y="2470320"/>
            <a:ext cx="2148120" cy="296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1835280" y="2508120"/>
            <a:ext cx="1904760" cy="28861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Garamond"/>
              </a:rPr>
              <a:t>«Гарри Поттер»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1009800" cy="1428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3132000" y="2368440"/>
            <a:ext cx="990720" cy="1409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3"/>
          <a:stretch/>
        </p:blipFill>
        <p:spPr>
          <a:xfrm>
            <a:off x="4500720" y="2368440"/>
            <a:ext cx="990360" cy="1409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4"/>
          <a:stretch/>
        </p:blipFill>
        <p:spPr>
          <a:xfrm>
            <a:off x="6083280" y="2368440"/>
            <a:ext cx="990720" cy="1409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5"/>
          <a:stretch/>
        </p:blipFill>
        <p:spPr>
          <a:xfrm>
            <a:off x="2411280" y="396720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6"/>
          <a:stretch/>
        </p:blipFill>
        <p:spPr>
          <a:xfrm>
            <a:off x="5241960" y="3967200"/>
            <a:ext cx="98748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7"/>
          <a:stretch/>
        </p:blipFill>
        <p:spPr>
          <a:xfrm>
            <a:off x="3851280" y="3967200"/>
            <a:ext cx="934920" cy="14288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928440"/>
            <a:ext cx="64008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Garamond"/>
              </a:rPr>
              <a:t>«Чарли и шоколадная фабрика»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266920" y="2359080"/>
            <a:ext cx="1847880" cy="2705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4932360" y="2333520"/>
            <a:ext cx="1847880" cy="26798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я</cp:lastModifiedBy>
  <dcterms:modified xsi:type="dcterms:W3CDTF">2012-02-07T17:14:40Z</dcterms:modified>
  <cp:revision>8</cp:revision>
  <dc:subject/>
  <dc:title>Зачем нужно читать книги?</dc:title>
</cp:coreProperties>
</file>