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191-4828-4AAE-9FF2-BFDC74E2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DF1-F7F3-4D0B-8CFC-170170F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7AE-CC07-4672-8ED5-EB524E16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783-38E7-4903-A30D-7D430CD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620-86EE-44AE-94DE-B5668992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E08F-E2B3-4A86-9DAE-4ED39149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4DFF-7313-444E-AE94-6D975BB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423-4B7F-40DB-AFFE-E8C1327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8C3-2FD6-4B02-A576-A7DA54C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E5D-83C7-40F9-AA81-BBE858D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212B-AC12-4952-87C1-C14A5E1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BFB-382C-4460-A9AA-94BA1850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9CC3-0E8E-461D-B682-A6F7415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09C-9BFF-44E0-9A22-AC67824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4A8-9161-4346-AE44-9D190B16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6FB7-A790-4228-90DD-B3CD8E4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ECB-1DB7-4DF7-8731-FF6DBF00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315-9508-48E5-A978-E82C16C9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353-17A1-497F-8B89-542AD4B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D4C-4183-432D-BAB9-60BA6B6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218-FC60-4B71-9AB5-56009632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7AF-D638-402B-8690-7EF6F22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54F-9CB3-4EC3-A528-1AD00F4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233-EE86-4CFB-9E0C-75D3235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0D7-614C-405A-BDDC-EB2A5F6B8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B10-2755-4DBF-B3C3-022F47075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nata.ru/children-school" TargetMode="External"/><Relationship Id="rId2" Type="http://schemas.openxmlformats.org/officeDocument/2006/relationships/hyperlink" Target="http://www.narkotiki.ru/" TargetMode="External"/><Relationship Id="rId3" Type="http://schemas.openxmlformats.org/officeDocument/2006/relationships/hyperlink" Target="http://lpn.21202s19.edusite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528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Отклоняющееся поведе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84000" y="3645000"/>
            <a:ext cx="6659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 младшем школьном возрас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СОШ №1, г.Дани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негативиз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29000" y="14130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едагогические ошиб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зрослые, предъявляя требования к ребенку, не всегда учитывают его психическое состоя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груженность впечатления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утомление, аффек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живания, вызыв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торможенность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Словесное воздействие в этих случаях теряет свою обычную силу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бенок не реагирует на слова, тем более на окрик, раздражение, угро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уважительное отношение к личности реб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гативизм проявля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протест против несправедливости взрослых или как реакция на оби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негативизм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781440" y="3324240"/>
            <a:ext cx="5362560" cy="3533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желательные отношения в семье, класс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уткое, бережное отношение к переживаниям ребен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ранение случаев несправедлив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тельность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ажительная фор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щения к ребен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оцесс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аимо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3. Упрямство 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4427640" cy="2700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отрицательная особенность поведения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ыражающаяся в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необоснованном и нерациональном противодействи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просьбам, советам, требованиям и указаниям учителей и родителей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пасность упрям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ождает детскую лжив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ет привести к расстрой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рвной системы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вроза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здражительности, склонности к скандалам, легкой возбудим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упрямств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е взаимоотношений взрослого с ребён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умение поддержать ребенка в трудной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норирование интересов и потребностей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верждение родительского авторитета сил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упрямств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18101" b="0"/>
          <a:stretch/>
        </p:blipFill>
        <p:spPr>
          <a:xfrm>
            <a:off x="5076720" y="2133720"/>
            <a:ext cx="4067280" cy="32972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роявлять твердость и настойчивость, не злясь и не показывая плохое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 унижать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 применять принуж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Откладывать решение спорной проблемы на какое-то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ривлекать к решению спорной проблемы друзей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Контролировать себя и свои действия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4. Капризы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075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енность поведения ребенк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ражающаяся в нецелесообразных и неразумных действиях, поступках, в необоснованном противодействии и сопротивлении указаниям, советам, требованиям взрослых, в стремлении настоять на сво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ешне проявляю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раздражитель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довольстве, плач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двигательн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еревозбужд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3280" y="3859200"/>
            <a:ext cx="4500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каприз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сторожно сказанные слова членов семьи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Отсутствие требовательности со стороны взрослых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Отрицательная реакция родителей на капризы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Болезненное состояние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Чрезмерная родительская любовь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Беспрекословное выполнение родителями всех желаний и прихотей ребенк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Проявление протеста в ситуации необоснованного подавления взрослыми самостоятельности и инициативы ребенка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Перевозбуждение нервной системы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умно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рганизовать режим дн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ебенка, соблюдать режим сна, питания и т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ть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здоровую морально-психологическую атмосфер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 сем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являть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умеренную требова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абатывать у ребенк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ивычку считаться с мнением и интересами других люд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Устранять источник впечатле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твлекать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т того, что стало причиной каприза (обнять, погладить по голове, поцеловать, проявить доброжелатель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оявлять спокойств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равнодушие в момент капри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Избегать угроз, упреков, насилия, физических наказ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покойно и ласково поговори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 ребенком после того, как он успокоится, придет в себя, проявлять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5. Своеволие -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289560" y="3357720"/>
            <a:ext cx="2854440" cy="3500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ает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 результат развивающейся самостоятельности и волевого элемента в поведении ребенка, его стремление самоутвердиться и неумение избрать для этого адекватные средств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спространенная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шиб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чителей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одите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чрезмерн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адекватная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ила преодоления своеволия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результате чего  не только подавл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воеволие ребенка, но и, добивая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абсолютного, слепого послуш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ничтожается в са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зародыше воля ребенка, способность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нициативным, самостоятельным действи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воевол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равильное воспита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алован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гоизм ребен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акание его прихотя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оследователь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ребованиях к не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Классификация отклоняющегося поведения по уровням и содержанию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лушание (шалость, озорство, проступо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гатив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ям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риз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оевол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убость, дерз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грессивно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дисциплинирован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жь (лживость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онар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своевол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оздание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такой обстановки в среде ребенка, в которой не травмируются психика младшего школьника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его нервная система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происходит активизация положительного фонда личности ребенка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культивирование коллективистских начал в его нравственном созн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оздание обстановки доброжела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довер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еодоление педагогичес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ошиб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допущенных ране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Создание атмосфе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делового сотрудничеств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6. Грубость, дерзость, неуважительное отношение к взрослым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никаю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 результат неправи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ализации ребенк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тремления к взросл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ожного стыда прояв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аску, послуш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638680" y="2421000"/>
            <a:ext cx="35053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рубости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держан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абовол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умение ребенка владеть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удовлетворение потребностей ребен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корбл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нение принуждений и наказан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е этики взаимоотношений и общ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праведливое отношение к ребен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ояние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грубост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являть спокойствие в момент гнева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казы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влять на время в пок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лекать ребенка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го, что станови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иной гне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932360" y="3678120"/>
            <a:ext cx="42116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7. Агрессивность</a:t>
            </a:r>
            <a:r>
              <a:rPr b="0" lang="en-US" sz="4000" spc="-1" strike="noStrike">
                <a:solidFill>
                  <a:srgbClr val="00cc66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635280" y="272556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йствия, имеющие ц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ичинить моральный, психологический, физический ущерб или нанести вред друг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является как гнев, ненави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ждебность, упрям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ч, крик, намер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луш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брасывание вещей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рушек, попытки удар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ей, других чле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ь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агрессивности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итарный стиль вос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формация системы ценностей членов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ущения в нравственном воспитании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ражание героям кино- и видеофиль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а голода и устал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резмерное количество ограничений по отношению к ребен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самоутверд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агрессивност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ть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эмоциональную устойчивость и волевую регуляцию поступков и повед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овлекать в межличностные отно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Учить понимать переживания други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ть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покойную, доброжелательную атмосфер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семь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ъявлять требования в различных формах,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уважая личность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Обоснованно применять методы поощрения и наказ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 учетом психофизиологических и половозрастных особенностей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держивать вспышки гнева и раздражения при оценке поступков и действий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оявлять любов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8. Недисциплинированност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езлост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к ней ведут озорство, шалость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лост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более опасная.) Уже не ситуативная и имеет повторяющий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519200">
            <a:off x="3595680" y="926640"/>
            <a:ext cx="936360" cy="923760"/>
          </a:xfrm>
          <a:custGeom>
            <a:avLst/>
            <a:gdLst>
              <a:gd name="textAreaLeft" fmla="*/ 268560 w 936360"/>
              <a:gd name="textAreaRight" fmla="*/ 802080 w 936360"/>
              <a:gd name="textAreaTop" fmla="*/ 532080 h 923760"/>
              <a:gd name="textAreaBottom" fmla="*/ 791280 h 9237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4906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47640" y="3043080"/>
            <a:ext cx="38149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ичины недисциплинированности 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14800" y="3081240"/>
            <a:ext cx="5029200" cy="37767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едъявление ребенку невыполнимых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заимоисключающих требований (приказа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арушение этики общения и норм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согласованность в требованиях родите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и членов семьи к реб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педагогичные методы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достаток родительского вни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Отсутствие доверия или привяза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между ребенком и взрослы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еобладание наказа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ад поощр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недисциплинированност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821200" y="2349360"/>
            <a:ext cx="3322800" cy="4508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держивать вспышки гнева и раздражения при оценке поступков и действий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 ругать, не читать нота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час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Не считать непослушание ребе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из ряда вон выходящим явл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ыражать огорчение по поводу 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оступка, действия, ошиб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оговорить доброжелательно бе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упреков и повышения гол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оявлять любовь и внима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66"/>
                </a:solidFill>
                <a:latin typeface="Arial"/>
              </a:rPr>
              <a:t>1. Непослуша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форма сопроти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ребованиям, просьбам, советам педагогов и родител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равственным нормам общественного поведен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3455600">
            <a:off x="4066920" y="3859920"/>
            <a:ext cx="1212840" cy="1212840"/>
          </a:xfrm>
          <a:custGeom>
            <a:avLst/>
            <a:gdLst>
              <a:gd name="textAreaLeft" fmla="*/ 348120 w 1212840"/>
              <a:gd name="textAreaRight" fmla="*/ 1038960 w 1212840"/>
              <a:gd name="textAreaTop" fmla="*/ 698400 h 1212840"/>
              <a:gd name="textAreaBottom" fmla="*/ 103896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7080" y="465228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шалость</a:t>
            </a:r>
            <a:r>
              <a:rPr b="1" i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2520" y="558972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озор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9440" y="472428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проступ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9. Ложь (лживость)</a:t>
            </a: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меренное искажение истины, фактов и явлений действи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зависимости от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проявляться к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имая и настоящая лож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илу разных при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913360" y="2349360"/>
            <a:ext cx="3230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лж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477120" y="2857680"/>
            <a:ext cx="2666880" cy="4000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1260720" y="764640"/>
            <a:ext cx="8785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тремление добиться любви родителей, родственников, взросл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Желание доказать свое превосходство над кем-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пособ приобрести что-то, что иным путем не приобрете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пособ защититься от неприятностей со стороны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тремление избежать наказания родителей, педагогов, воспитателей,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Чрезмерная строгости дисциплина в семье, основанная на стра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риспособление, симуляция боле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Мечта добиться признания, похвалы своих достоин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лж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472000" y="1413000"/>
            <a:ext cx="3672000" cy="5445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86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збегать запретов и наказ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Своевременно замеча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ытки лжи и предупрежд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ее результа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ключать из мет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мейного воспитания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апугив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являть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ним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доброту, ласку, участ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ддерж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 лгать сам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10. Правонарушения</a:t>
            </a:r>
            <a:r>
              <a:rPr b="0" i="1" lang="en-US" sz="44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524640" y="2886120"/>
            <a:ext cx="2619360" cy="3971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условиях социальной и педагогической запущенност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ен переход детей и подростко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 уровень преступного пове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способны совершать значительные противоправные действия, нарушения и даже преступления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лиганст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ровст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льничест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шенничест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ндитские нал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бе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 тяжелыми и жесто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ятся преступления в составе групп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чины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авонарушений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134040" y="3048120"/>
            <a:ext cx="3009960" cy="3809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02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укрепить свое положение (статус) в коллективе ровес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ть родителям за невнимание, недостаток любви к н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компенсации за свою безрадостную жизнь в детском учрежд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амоутверждения в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ение требований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правонарушения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0" t="0" r="19689" b="0"/>
          <a:stretch/>
        </p:blipFill>
        <p:spPr>
          <a:xfrm>
            <a:off x="4248000" y="2809800"/>
            <a:ext cx="4896000" cy="40482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устраивать публичных судилищ над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вешать ребенку ярлыков, тем самым унижая его достоин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вспоминать о правонарушениях в случае, если это вызывает гн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предрекать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е применять физическое наказ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Ведущие направле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 профилактике и преодолении отклоняющегося поведе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олевого поведения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уманистической устойчивости личност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младшего школьник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3433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ованные источни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tnata.ru/children-schoo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narkotiki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lpn.21202s19.edusite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images.yandex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ила классный руководи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-а класса Иванова Н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Шалость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633840" cy="3816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ткий, эпизодический отрезок поведения ребенка, в котором ярко проявляется его активность, инициатива, изобрета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8e4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99ff99"/>
                </a:solidFill>
                <a:latin typeface="Arial"/>
              </a:rPr>
              <a:t>Особ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99"/>
                </a:solidFill>
                <a:latin typeface="Arial"/>
              </a:rPr>
              <a:t>                </a:t>
            </a:r>
            <a:r>
              <a:rPr b="1" i="1" lang="en-US" sz="3600" spc="-1" strike="noStrike">
                <a:solidFill>
                  <a:srgbClr val="99ff99"/>
                </a:solidFill>
                <a:latin typeface="Arial"/>
              </a:rPr>
              <a:t>шалости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е положительный то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живание огром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овольствия от сдела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язатель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брое отношение к окружающи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Озорство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ставляет собой эпизод в повед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бенка, где проявляются выдум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ициатива, актив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99"/>
                </a:solidFill>
                <a:latin typeface="Arial"/>
              </a:rPr>
              <a:t>Особенность озорства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зорник уже сознательно наруш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новленные правила, намеренно, нар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ает действия, приносящие в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рстнику или старш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Arial"/>
              </a:rPr>
              <a:t>Цель озорства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осадить, отомстить или получить выгоду для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8432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Проступок 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323040" y="2421000"/>
            <a:ext cx="2820960" cy="443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это уже социально опасное явл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Основное отличие проступка от озорства в его повторяемости и заблаговременной продума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ще всего проступки объясня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растными особенностя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умением ребенка произволь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авлять свои сиюмину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я и сознатель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ить повед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ичины непослуш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ъявление ребенку невыполнимых или взаимоисключающих требований (приказани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ушение этики общения и норм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огласованность в требованиях родителей и членов семьи к реб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едагогичные методы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достаток родительского вним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 доверия или привязанности между ребенком и родит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обладание наказаний над поощр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спитательные методы и приемы при непослушан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256440" y="3645000"/>
            <a:ext cx="2887560" cy="321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596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ругать, не читать нотаций част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читать непослушание ребенка из ряда вон выходящим явл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жать огорчение по поводу его поступка, действия, ошиб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оворить доброжела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з упреков и повышения гол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являть любовь и вним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2. Детский негативизм 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мотивированное и неразумное сопротивление ребенка влиянию на него окружающих люде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0" y="2489760"/>
            <a:ext cx="424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ктивны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гатив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ребенок соверш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йствия, противополо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, которые от н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жид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61560" y="4572360"/>
            <a:ext cx="426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ассивны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гатив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один из ви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ям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ажающийся в отка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буемого действ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268880" y="2492280"/>
            <a:ext cx="4875120" cy="4076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26960" y="2747520"/>
            <a:ext cx="3375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 дли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стойчи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длится долго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пизод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является ли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еменами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8:28:35Z</dcterms:created>
  <dc:creator>Admin</dc:creator>
  <dc:description/>
  <dc:language>en-US</dc:language>
  <cp:lastModifiedBy>Admin</cp:lastModifiedBy>
  <dcterms:modified xsi:type="dcterms:W3CDTF">2012-02-23T12:56:16Z</dcterms:modified>
  <cp:revision>15</cp:revision>
  <dc:subject/>
  <dc:title>Слайд 1</dc:title>
</cp:coreProperties>
</file>