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7927-C899-4F43-BAAA-58BA0B3D21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94AA-8E76-444A-B203-751B33AE99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543-EF02-41DA-9F2A-997514D0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EA8-C1FB-468C-86DA-18078E52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744-3699-4F06-9044-24E0FEAF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DB4-C3D5-4B0F-BEC6-5DA60A2D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A4516-552C-4777-96FE-FBECB0BC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BFD1-CEF4-4303-A641-45F322BC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AAD8E-B79F-4A47-B525-0A92DC2F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8F635-1136-4EDD-A703-08FD8815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929E-702F-416A-A770-DDCD8CE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5AD15-D0EB-47EC-97D4-D91F4F5F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DF894-4A7A-4105-9A43-E761DB4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2AB-A67A-4912-B60B-90A74CA2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935CE-1B0A-47A3-A7FF-60BF53A6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FEB2-39C8-4A92-9954-45D15C2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693E8-E40E-4D9C-9A3A-7095DBA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D3D87-E2A6-41E6-A87B-97015A1E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133B9-6585-4C7E-915F-8B70EBCB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A2C-56B6-4898-8526-91292F41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2B0-AA7B-46B9-ABAB-7A905CCD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7A7-3818-476C-8A02-7025961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EA0-AC00-4B20-8FFB-0FCD3C2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F08-C817-4171-9E53-3F23794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AAA-4F07-413D-B7BD-D2D38384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441-5485-4E71-A9C7-2DD9A3F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D3A-FA58-4B76-A149-530918566F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FC38-5EBA-4719-88C9-E1BE283EF9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 Black"/>
              </a:rPr>
              <a:t>Природные зоны РОССИИ</a:t>
            </a:r>
            <a:endParaRPr b="0" lang="en-US" sz="5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путешествие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Monotype Corsiva"/>
              </a:rPr>
              <a:t>Домашнее задание</a:t>
            </a: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pic>
        <p:nvPicPr>
          <p:cNvPr id="149" name="Содержимое 3" descr=""/>
          <p:cNvPicPr/>
          <p:nvPr/>
        </p:nvPicPr>
        <p:blipFill>
          <a:blip r:embed="rId1"/>
          <a:stretch/>
        </p:blipFill>
        <p:spPr>
          <a:xfrm>
            <a:off x="384120" y="1560600"/>
            <a:ext cx="85406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Условия разминки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Franklin Gothic Book"/>
              </a:rPr>
              <a:t>За свой правильный ответ возьми картинку в изображением животного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Franklin Gothic Book"/>
              </a:rPr>
              <a:t>По  количеству полученных картинок закрась на «Дорожке знаний» столько же клеточек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124080" y="228600"/>
            <a:ext cx="304812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4" descr="H:\дорожка знаний.jpg"/>
          <p:cNvPicPr/>
          <p:nvPr/>
        </p:nvPicPr>
        <p:blipFill>
          <a:blip r:embed="rId1"/>
          <a:stretch/>
        </p:blipFill>
        <p:spPr>
          <a:xfrm>
            <a:off x="4267080" y="3809880"/>
            <a:ext cx="4419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 rot="261600">
            <a:off x="455400" y="1598760"/>
            <a:ext cx="9523440" cy="33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танция ГЕОГРАФ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352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Monotype Corsiva"/>
              </a:rPr>
              <a:t>Игра: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 marL="29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Monotype Corsiva"/>
              </a:rPr>
              <a:t>«Рассели животных по природным зонам»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295280" y="304920"/>
            <a:ext cx="64771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НЦИЯ ЗООЛОГ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Bodoni MT Condensed"/>
              </a:rPr>
              <a:t>Узнай описание растения</a:t>
            </a:r>
            <a:r>
              <a:rPr b="1" i="1" lang="ru-RU" sz="3200" spc="-1" strike="noStrike">
                <a:solidFill>
                  <a:srgbClr val="ffffff"/>
                </a:solidFill>
                <a:latin typeface="Bodoni MT Condense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762120" y="457200"/>
            <a:ext cx="76946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танция   «Ботаническая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Franklin Gothic Medium"/>
              </a:rPr>
              <a:t>Вопросы:</a:t>
            </a: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Это растение похоже на накипь или корочку, растет на валунах и скалах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Franklin Gothic Book"/>
              </a:rPr>
              <a:t>У этого растения могучий ствол, огромная крона, красивые резные листовые пластины, а плодами любят лакомиться кабаны, белки, мыш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Franklin Gothic Book"/>
              </a:rPr>
              <a:t>Это таежное дерево имеет негниющую древесину, в отличие от своих хвойных сородичей полностью раздевается на зиму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Franklin Gothic Book"/>
              </a:rPr>
              <a:t>Высокое растение, достигает 35 метров в высоту. Долгожитель - живет до тысячи лет. Листовые пластинки продолговатые с зубчиками. Плоды человек употребляет в пищу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Это растение за год вырастает на толщину  спички, похоже на миниатюрный кустарник, является пищей для северных оленей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Franklin Gothic Medium"/>
              </a:rPr>
              <a:t>Проверь себя</a:t>
            </a:r>
            <a:endParaRPr b="0" lang="en-US" sz="44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  -   лишайни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  -  дуб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  -  лиственниц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4  -  каштан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5  -  ягель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Monotype Corsiva"/>
              </a:rPr>
              <a:t>За каждый правильный ответ – 1 балл  ( 1 клеточка на «Дорожке знаний»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Monotype Corsiv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Franklin Gothic Medium"/>
              </a:rPr>
              <a:t>станц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Franklin Gothic Medium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838080" y="83808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логиче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828800"/>
          <a:ext cx="8229600" cy="4700520"/>
        </p:xfrm>
        <a:graphic>
          <a:graphicData uri="http://schemas.openxmlformats.org/drawingml/2006/table">
            <a:tbl>
              <a:tblPr/>
              <a:tblGrid>
                <a:gridCol w="838080"/>
                <a:gridCol w="2666880"/>
                <a:gridCol w="3505320"/>
                <a:gridCol w="1219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находи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 созд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ров Вранг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ркт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ежду Восточно-Сибирским и чукотским морям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мырский заповед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Тунд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аймырский полуостр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кско-тер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ле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а юге Моск. обл. по берегу Ок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5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офиный питом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степ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оведник «Черные земл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усты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ублика Калмык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инский национальный пар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номорское побережь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Сколько километров прошли по дорожке знаний? (1 клетка – 1 км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Оцените свои достижения на дорожке знаний и запишите сколько километров вы прошли 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Желаю вам успеха в  дальнейшей трудной дороге знаний!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30492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дведем итог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2-02-23T09:32:1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