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gif" ContentType="image/gif"/>
  <Override PartName="/ppt/media/image1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5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007-2BAE-4C75-8CD5-9AC62032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216-2C04-4561-9AEE-CF922152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B40-1E0B-41A8-8E50-5C736F19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F96-D708-4A24-93A0-DBE22C3A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A5B4-3417-4615-9615-B5A404A3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4013-DBAC-4A7F-8B7F-4FFED7C3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4266-8164-4C61-9EB1-352FDE0C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F347-199D-4929-829E-EB81D95F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3F97-18FC-4F07-8B67-96E2A7FE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6566-4310-4C40-BCF5-56BCBF12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58FD-1C7E-4516-9FC6-A16A452D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593-FB9D-42DB-9A60-20434B26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E142-EAB2-42BA-89FC-3CD7BE59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BF08-B5C5-43E4-8035-558526E5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6C49-12B0-4A3C-8090-AC4E275E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42D4-54C0-46A6-81D0-333244E8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66F4-ED15-443C-A99A-B74C6D62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9A8-CC19-4537-8754-D9DE942A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FCE-877F-499A-925D-A99070BF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60F-E081-47B8-9AEE-BFD98525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FF6-A584-4C31-BADF-C1B508AA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190-16BF-4525-BCA4-C4ACE1A5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2B3E-5712-479B-AE71-B158AB07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AAC-68D5-44AE-B8FC-0A007954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C986-611B-4333-BBB7-88E4ED85FA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959B-3B71-48A4-8660-E198C64B088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11" descr="31893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2195640" y="5013360"/>
            <a:ext cx="53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Урок литературы в 11 класс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одготовлен учителем русского языка и литературы МОУ «Русская классическая гимназия» Кутявиной И.Г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4" descr="1007384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826920" y="260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мысл названия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826920" y="1268280"/>
            <a:ext cx="7993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ето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– 1) самая теплая пора года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2) единица исчисления времен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Второе, устарелое значение, сохранилось в таких словах и сочетаниях, как летописание, летосчисление, несколько лет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Заглавие романа –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«Лето Господне»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- объединяет оба значения, что придает новый, глубинный смысл этому знакомому и привычному всем слов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4" descr="1007384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539640" y="1052640"/>
            <a:ext cx="80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«Два солнца ходят по русскому небу: солнце планетное,… и другое солнце, духовно-православное... И вот Шмелев показывает нам и всему остальному миру, как накладывалась эта череда… на русский народно-простонародный быт и как русская душа, веками строя Россию, наполняла эти строки Года Господня своим трудом и молитвой… Это сама Россия. Это вековечный ритм ее молитвы и труда.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                                      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И.А. Ильин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4" descr="100738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900000" y="333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Жанр         и         композиция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4500720" y="1268280"/>
            <a:ext cx="0" cy="2881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684360" y="1341360"/>
            <a:ext cx="3166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ман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ве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илог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Цикл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5076720" y="1413000"/>
            <a:ext cx="3598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здни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дос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орб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403280" y="4292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ман – воспита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1403280" y="5084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мпозиция свободн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1403280" y="587700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орма повествования - ска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Picture 4" descr="100738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979640" y="1126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ловарь уро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468360" y="692280"/>
            <a:ext cx="835164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Художественный мир писателя —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убъективная модель объективной действительности (О.И.Федотов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Идея —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главная мысль, категория, выражающая авторскую тенденцию в художественном освещении данной темы. (О.И.Федотов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Идеал —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1. То, что составляет высшую цель деятельности, стремлений. 2. 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чего и чей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 Совершенное воплощение чего-нибудь (книжн.). 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Идеал доброты. Этот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человек — мой идеал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 (С.И.Ожегов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Нравственность —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авила, определяющие поведение, духовные и душевные качества, необходимые человеку в обществе, а также выполнение этих правил, поведение. 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Высокая нравственность. Христианская нравственность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 (С.И.Ожегов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Духовность —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1. Сфера религиозных интересов человека. 2.Внутренний мир человека в противоположность физическому, телесному. (Г.Н.Скляревская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Духовный —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вязанный с религиозной жизнью человека, относящийся к Богу, вере, церкви. 2. Связанный с идеологией. (Г.Н.Скляревская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7" name="Picture 4" descr="100738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0_10d7_4d54dccf_XL"/>
          <p:cNvPicPr/>
          <p:nvPr/>
        </p:nvPicPr>
        <p:blipFill>
          <a:blip r:embed="rId2"/>
          <a:stretch/>
        </p:blipFill>
        <p:spPr>
          <a:xfrm>
            <a:off x="3203640" y="2421000"/>
            <a:ext cx="2881080" cy="2160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1-1"/>
          <p:cNvPicPr/>
          <p:nvPr/>
        </p:nvPicPr>
        <p:blipFill>
          <a:blip r:embed="rId3"/>
          <a:stretch/>
        </p:blipFill>
        <p:spPr>
          <a:xfrm>
            <a:off x="324000" y="189000"/>
            <a:ext cx="2881080" cy="2084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christmas-star-cropped"/>
          <p:cNvPicPr/>
          <p:nvPr/>
        </p:nvPicPr>
        <p:blipFill>
          <a:blip r:embed="rId4"/>
          <a:stretch/>
        </p:blipFill>
        <p:spPr>
          <a:xfrm>
            <a:off x="3780000" y="189000"/>
            <a:ext cx="1511280" cy="201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3" descr="Лавра"/>
          <p:cNvPicPr/>
          <p:nvPr/>
        </p:nvPicPr>
        <p:blipFill>
          <a:blip r:embed="rId5"/>
          <a:stretch/>
        </p:blipFill>
        <p:spPr>
          <a:xfrm>
            <a:off x="5940360" y="189000"/>
            <a:ext cx="2808360" cy="2168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4" descr="i"/>
          <p:cNvPicPr/>
          <p:nvPr/>
        </p:nvPicPr>
        <p:blipFill>
          <a:blip r:embed="rId6"/>
          <a:stretch/>
        </p:blipFill>
        <p:spPr>
          <a:xfrm>
            <a:off x="752400" y="2276640"/>
            <a:ext cx="1505160" cy="2304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2" descr="5"/>
          <p:cNvPicPr/>
          <p:nvPr/>
        </p:nvPicPr>
        <p:blipFill>
          <a:blip r:embed="rId7"/>
          <a:stretch/>
        </p:blipFill>
        <p:spPr>
          <a:xfrm>
            <a:off x="6948360" y="2565360"/>
            <a:ext cx="1395720" cy="208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christmas-night"/>
          <p:cNvPicPr/>
          <p:nvPr/>
        </p:nvPicPr>
        <p:blipFill>
          <a:blip r:embed="rId8"/>
          <a:stretch/>
        </p:blipFill>
        <p:spPr>
          <a:xfrm>
            <a:off x="1476360" y="4724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34541"/>
          <p:cNvPicPr/>
          <p:nvPr/>
        </p:nvPicPr>
        <p:blipFill>
          <a:blip r:embed="rId9"/>
          <a:stretch/>
        </p:blipFill>
        <p:spPr>
          <a:xfrm>
            <a:off x="4716360" y="4724280"/>
            <a:ext cx="31687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8" name="Picture 4" descr="1007384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slovo_pic"/>
          <p:cNvPicPr/>
          <p:nvPr/>
        </p:nvPicPr>
        <p:blipFill>
          <a:blip r:embed="rId2"/>
          <a:stretch/>
        </p:blipFill>
        <p:spPr>
          <a:xfrm>
            <a:off x="395280" y="333360"/>
            <a:ext cx="2178000" cy="2736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c8371eff5f14"/>
          <p:cNvPicPr/>
          <p:nvPr/>
        </p:nvPicPr>
        <p:blipFill>
          <a:blip r:embed="rId3"/>
          <a:stretch/>
        </p:blipFill>
        <p:spPr>
          <a:xfrm>
            <a:off x="6732720" y="3068640"/>
            <a:ext cx="2116080" cy="33130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468360" y="6093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мирени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116000" y="5589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рпени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1979640" y="4797360"/>
            <a:ext cx="187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1476360" y="5084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1979640" y="4724280"/>
            <a:ext cx="273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1835280" y="4581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страдани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2556000" y="40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3059280" y="2997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вес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2843280" y="350028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брот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3995640" y="13413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Любовь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1" name="otrocy01.mp3" descr=""/>
          <p:cNvPicPr/>
          <p:nvPr/>
        </p:nvPicPr>
        <p:blipFill>
          <a:blip r:embed="rId4"/>
          <a:stretch/>
        </p:blipFill>
        <p:spPr>
          <a:xfrm>
            <a:off x="514836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70236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4" name="Picture 4" descr="1007384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5"/>
          <p:cNvPicPr/>
          <p:nvPr/>
        </p:nvPicPr>
        <p:blipFill>
          <a:blip r:embed="rId2"/>
          <a:stretch/>
        </p:blipFill>
        <p:spPr>
          <a:xfrm>
            <a:off x="755640" y="4653000"/>
            <a:ext cx="3456000" cy="1728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5" descr="5bf03ae356498439ddfef825e134c52b"/>
          <p:cNvPicPr/>
          <p:nvPr/>
        </p:nvPicPr>
        <p:blipFill>
          <a:blip r:embed="rId3"/>
          <a:stretch/>
        </p:blipFill>
        <p:spPr>
          <a:xfrm>
            <a:off x="6443640" y="3357720"/>
            <a:ext cx="1920960" cy="3095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6322_3152"/>
          <p:cNvPicPr/>
          <p:nvPr/>
        </p:nvPicPr>
        <p:blipFill>
          <a:blip r:embed="rId4"/>
          <a:stretch/>
        </p:blipFill>
        <p:spPr>
          <a:xfrm>
            <a:off x="3203640" y="2637000"/>
            <a:ext cx="2736720" cy="1814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1234813951_11"/>
          <p:cNvPicPr/>
          <p:nvPr/>
        </p:nvPicPr>
        <p:blipFill>
          <a:blip r:embed="rId5"/>
          <a:stretch/>
        </p:blipFill>
        <p:spPr>
          <a:xfrm>
            <a:off x="5364000" y="189000"/>
            <a:ext cx="35053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6" descr="f_12723562"/>
          <p:cNvPicPr/>
          <p:nvPr/>
        </p:nvPicPr>
        <p:blipFill>
          <a:blip r:embed="rId6"/>
          <a:stretch/>
        </p:blipFill>
        <p:spPr>
          <a:xfrm>
            <a:off x="539640" y="260280"/>
            <a:ext cx="3030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2" name="Picture 4" descr="1007384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2411280" y="37800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ючевой образ - звез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4" name="Picture 4" descr="village"/>
          <p:cNvPicPr/>
          <p:nvPr/>
        </p:nvPicPr>
        <p:blipFill>
          <a:blip r:embed="rId2"/>
          <a:stretch/>
        </p:blipFill>
        <p:spPr>
          <a:xfrm>
            <a:off x="2050920" y="105264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7" name="Picture 4" descr="1007384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i"/>
          <p:cNvPicPr/>
          <p:nvPr/>
        </p:nvPicPr>
        <p:blipFill>
          <a:blip r:embed="rId2"/>
          <a:stretch/>
        </p:blipFill>
        <p:spPr>
          <a:xfrm>
            <a:off x="250920" y="549360"/>
            <a:ext cx="3522600" cy="55450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6"/>
          <p:cNvSpPr/>
          <p:nvPr/>
        </p:nvSpPr>
        <p:spPr>
          <a:xfrm>
            <a:off x="4211640" y="1557360"/>
            <a:ext cx="4537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 детстве таким явилось и осталось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.С. Шмелев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2" name="Picture 4" descr="1007384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5"/>
          <p:cNvSpPr/>
          <p:nvPr/>
        </p:nvSpPr>
        <p:spPr>
          <a:xfrm>
            <a:off x="1692360" y="4762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763640" y="1700280"/>
            <a:ext cx="712944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очинение – миниатюр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«Образ повествователя в произведении  И.С. Шмелев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«Лето Господне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4" descr="161-27199a457cbb019d161dc902f7c49fec"/>
          <p:cNvPicPr/>
          <p:nvPr/>
        </p:nvPicPr>
        <p:blipFill>
          <a:blip r:embed="rId1"/>
          <a:stretch/>
        </p:blipFill>
        <p:spPr>
          <a:xfrm>
            <a:off x="0" y="0"/>
            <a:ext cx="964872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georgiev.mp3" descr=""/>
          <p:cNvPicPr/>
          <p:nvPr/>
        </p:nvPicPr>
        <p:blipFill>
          <a:blip r:embed="rId2"/>
          <a:stretch/>
        </p:blipFill>
        <p:spPr>
          <a:xfrm>
            <a:off x="730872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9743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4" descr="100738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Подпись"/>
          <p:cNvPicPr/>
          <p:nvPr/>
        </p:nvPicPr>
        <p:blipFill>
          <a:blip r:embed="rId2"/>
          <a:stretch/>
        </p:blipFill>
        <p:spPr>
          <a:xfrm>
            <a:off x="4643280" y="981000"/>
            <a:ext cx="4135680" cy="4896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324000" y="1052640"/>
            <a:ext cx="43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ван Сергеевич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Шмелев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(1873 – 1950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24000" y="364500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амый русский из всех русских писателей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.Д. Бальмо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5" descr="300011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10073846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1763640" y="47628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755640" y="1700280"/>
            <a:ext cx="7848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Arial"/>
              </a:rPr>
              <a:t>Мир «Лета Господня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6699"/>
                </a:solidFill>
                <a:latin typeface="Arial"/>
              </a:rPr>
              <a:t>в главе «Рождество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Arial"/>
              </a:rPr>
              <a:t>(по одноименному циклу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Arial"/>
              </a:rPr>
              <a:t>И.С. Шмелева)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4" descr="100738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2771640" y="333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Цель урока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987640" y="2349360"/>
            <a:ext cx="475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900000" y="1197000"/>
            <a:ext cx="7488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разобраться в философском смысле произведения, вовлечься в размышление о том, что дорого и свято, каким нужно видеть мир "Господним"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d45dd68d01fe"/>
          <p:cNvPicPr/>
          <p:nvPr/>
        </p:nvPicPr>
        <p:blipFill>
          <a:blip r:embed="rId2"/>
          <a:stretch/>
        </p:blipFill>
        <p:spPr>
          <a:xfrm>
            <a:off x="2700360" y="3357720"/>
            <a:ext cx="42480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4" descr="1007384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150px-Leto_Gospodne"/>
          <p:cNvPicPr/>
          <p:nvPr/>
        </p:nvPicPr>
        <p:blipFill>
          <a:blip r:embed="rId2"/>
          <a:stretch/>
        </p:blipFill>
        <p:spPr>
          <a:xfrm>
            <a:off x="611280" y="476280"/>
            <a:ext cx="3884400" cy="5905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4788000" y="620640"/>
            <a:ext cx="381636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Кажется, это вся Россия, Русь предстает здесь в преданьях старины глубокой..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.Михайл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е поймешь чего – подскажет сердц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И.С. Шмелев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4" descr="100738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1763640" y="549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облемный вопро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403280" y="1052640"/>
            <a:ext cx="6697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Каков он, мир «Лета Господня», изображенный в главе «Рождество»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4" descr="2046624b98dd"/>
          <p:cNvPicPr/>
          <p:nvPr/>
        </p:nvPicPr>
        <p:blipFill>
          <a:blip r:embed="rId2"/>
          <a:stretch/>
        </p:blipFill>
        <p:spPr>
          <a:xfrm>
            <a:off x="1332000" y="2575080"/>
            <a:ext cx="6553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4" descr="1007384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755"/>
          <p:cNvPicPr/>
          <p:nvPr/>
        </p:nvPicPr>
        <p:blipFill>
          <a:blip r:embed="rId2"/>
          <a:stretch/>
        </p:blipFill>
        <p:spPr>
          <a:xfrm>
            <a:off x="250920" y="189000"/>
            <a:ext cx="2676600" cy="3671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i"/>
          <p:cNvPicPr/>
          <p:nvPr/>
        </p:nvPicPr>
        <p:blipFill>
          <a:blip r:embed="rId3"/>
          <a:stretch/>
        </p:blipFill>
        <p:spPr>
          <a:xfrm>
            <a:off x="5940360" y="333360"/>
            <a:ext cx="2121120" cy="360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2"/>
          <p:cNvPicPr/>
          <p:nvPr/>
        </p:nvPicPr>
        <p:blipFill>
          <a:blip r:embed="rId4"/>
          <a:stretch/>
        </p:blipFill>
        <p:spPr>
          <a:xfrm>
            <a:off x="2843280" y="3500280"/>
            <a:ext cx="3889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4" descr="1007384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1332000" y="40464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«Лето Господне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68360" y="1268280"/>
            <a:ext cx="80643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«Ему подали книгу пророка Исайи; и Он, раскрыв книгу, нашел место, где было написано: «Дух Господень на Мне; ибо Он помазал меня благовествовать нищим и послал Меня исцелять сокрушенных сердцем, проповедовать пленным освобождение, слепым прозрение, отпустить измученных на свободу, проповедывать лето Господне благоприятное.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(Евангелие от Луки, гл. 4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7:55:06Z</dcterms:created>
  <dc:creator>Admin</dc:creator>
  <dc:description/>
  <dc:language>en-US</dc:language>
  <cp:lastModifiedBy>Admin</cp:lastModifiedBy>
  <dcterms:modified xsi:type="dcterms:W3CDTF">2012-02-23T18:42:31Z</dcterms:modified>
  <cp:revision>20</cp:revision>
  <dc:subject/>
  <dc:title>Слайд 1</dc:title>
</cp:coreProperties>
</file>