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6.jpeg" ContentType="image/jpeg"/>
  <Override PartName="/ppt/media/image24.jpeg" ContentType="image/jpeg"/>
  <Override PartName="/ppt/media/image1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63C-FD42-4A72-98D7-6DC81747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692-7A6A-4D02-B9AB-DE00A9F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7DA-FF9B-42B3-906F-8B39F091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ABD-1324-418D-A68C-84C03D83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E6C-F8B1-4EF8-A229-B44F7134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144-C5DA-40DD-9D65-8CB87089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19E-E265-459C-92BB-4F9CE48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06C-07C6-485F-97DC-023C9B32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626-FC37-46FE-809C-0EFF097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F16-CC77-4D86-9562-6665EA3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11A-B772-46D2-8439-7B291FD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F3E-2F08-4010-A599-31AF916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7901-9AE4-4890-B775-16D9D0546D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380880" y="304920"/>
            <a:ext cx="5029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Урок</a:t>
            </a:r>
            <a:endParaRPr b="1" i="1" lang="en-US" sz="4400" spc="1" strike="noStrike">
              <a:ln w="12600">
                <a:solidFill>
                  <a:srgbClr val="00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457200" y="4724280"/>
            <a:ext cx="762012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"Путешествие в мир кислот"</a:t>
            </a:r>
            <a:endParaRPr b="1" i="1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78" name="Picture 3" descr="men"/>
          <p:cNvPicPr/>
          <p:nvPr/>
        </p:nvPicPr>
        <p:blipFill>
          <a:blip r:embed="rId1"/>
          <a:stretch/>
        </p:blipFill>
        <p:spPr>
          <a:xfrm flipH="1" rot="21581400">
            <a:off x="5887440" y="304920"/>
            <a:ext cx="2919240" cy="304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286860"/>
          <p:cNvPicPr/>
          <p:nvPr/>
        </p:nvPicPr>
        <p:blipFill>
          <a:blip r:embed="rId2"/>
          <a:stretch/>
        </p:blipFill>
        <p:spPr>
          <a:xfrm>
            <a:off x="1219320" y="2206800"/>
            <a:ext cx="3276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px-Formic-acid"/>
          <p:cNvPicPr/>
          <p:nvPr/>
        </p:nvPicPr>
        <p:blipFill>
          <a:blip r:embed="rId1"/>
          <a:stretch/>
        </p:blipFill>
        <p:spPr>
          <a:xfrm>
            <a:off x="609480" y="53352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EA05547F-8D5C-4B23-A632-1A9CD47DD7B7_mw800_mh600"/>
          <p:cNvPicPr/>
          <p:nvPr/>
        </p:nvPicPr>
        <p:blipFill>
          <a:blip r:embed="rId2"/>
          <a:stretch/>
        </p:blipFill>
        <p:spPr>
          <a:xfrm>
            <a:off x="2666880" y="3505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876920" y="685800"/>
            <a:ext cx="397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mperialwhite"/>
          <p:cNvPicPr/>
          <p:nvPr/>
        </p:nvPicPr>
        <p:blipFill>
          <a:blip r:embed="rId1"/>
          <a:stretch/>
        </p:blipFill>
        <p:spPr>
          <a:xfrm>
            <a:off x="152280" y="2638440"/>
            <a:ext cx="2133720" cy="2162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lichen"/>
          <p:cNvPicPr/>
          <p:nvPr/>
        </p:nvPicPr>
        <p:blipFill>
          <a:blip r:embed="rId2"/>
          <a:stretch/>
        </p:blipFill>
        <p:spPr>
          <a:xfrm>
            <a:off x="3048120" y="26668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och6"/>
          <p:cNvPicPr/>
          <p:nvPr/>
        </p:nvPicPr>
        <p:blipFill>
          <a:blip r:embed="rId3"/>
          <a:stretch/>
        </p:blipFill>
        <p:spPr>
          <a:xfrm>
            <a:off x="6400800" y="266688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286000" y="3276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52280" y="19051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819520" y="1905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ШАЙ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562720" y="3352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553080" y="19051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04920" y="7621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итамин С – аскорбиновая кисл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vitamin_c"/>
          <p:cNvPicPr/>
          <p:nvPr/>
        </p:nvPicPr>
        <p:blipFill>
          <a:blip r:embed="rId1"/>
          <a:stretch/>
        </p:blipFill>
        <p:spPr>
          <a:xfrm>
            <a:off x="2133720" y="2819520"/>
            <a:ext cx="50576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3"/>
          <p:cNvPicPr/>
          <p:nvPr/>
        </p:nvPicPr>
        <p:blipFill>
          <a:blip r:embed="rId1"/>
          <a:stretch/>
        </p:blipFill>
        <p:spPr>
          <a:xfrm>
            <a:off x="3048120" y="3048120"/>
            <a:ext cx="3132000" cy="3485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380880" y="6094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CH-C=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7400" y="121932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00200" y="19051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600" y="10666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минокислот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бел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4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6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Cl"/>
          <p:cNvPicPr/>
          <p:nvPr/>
        </p:nvPicPr>
        <p:blipFill>
          <a:blip r:embed="rId1"/>
          <a:stretch/>
        </p:blipFill>
        <p:spPr>
          <a:xfrm>
            <a:off x="380880" y="762120"/>
            <a:ext cx="3505320" cy="1927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267080" y="53352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acid"/>
          <p:cNvPicPr/>
          <p:nvPr/>
        </p:nvPicPr>
        <p:blipFill>
          <a:blip r:embed="rId2"/>
          <a:stretch/>
        </p:blipFill>
        <p:spPr>
          <a:xfrm>
            <a:off x="3276720" y="3048120"/>
            <a:ext cx="2173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28600" y="304920"/>
            <a:ext cx="449568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торовод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овод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азот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азотист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се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сернист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кремни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фосф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62720" y="838080"/>
            <a:ext cx="3124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ислоты – это сложные вещества, состоящие из атомов водорода и кислотного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62120" y="914400"/>
            <a:ext cx="77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1.По количеству атомов водо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 rot="10800000">
            <a:off x="3352680" y="2057400"/>
            <a:ext cx="2362320" cy="1828800"/>
          </a:xfrm>
          <a:prstGeom prst="pie">
            <a:avLst/>
          </a:prstGeom>
          <a:solidFill>
            <a:srgbClr val="99ff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905120"/>
            <a:ext cx="35053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одноосно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562720" y="1905120"/>
            <a:ext cx="35812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двухосно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895480" y="3809880"/>
            <a:ext cx="35053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трехосно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КЛАССИФИКАЦИЯ КИС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800"/>
                            </p:stCondLst>
                            <p:childTnLst>
                              <p:par>
                                <p:cTn id="5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8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800"/>
                            </p:stCondLst>
                            <p:childTnLst>
                              <p:par>
                                <p:cTn id="5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8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800"/>
                            </p:stCondLst>
                            <p:childTnLst>
                              <p:par>
                                <p:cTn id="5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3213000"/>
            <a:ext cx="401940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бескислородные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F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Br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I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14300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2. По содержанию кисло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43280" y="3284640"/>
            <a:ext cx="424836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ислоро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rot="13477200">
            <a:off x="3124080" y="1142280"/>
            <a:ext cx="2819520" cy="2919240"/>
          </a:xfrm>
          <a:prstGeom prst="pie">
            <a:avLst/>
          </a:prstGeom>
          <a:solidFill>
            <a:srgbClr val="66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0"/>
            <a:ext cx="861048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e03e7"/>
                </a:solidFill>
                <a:latin typeface="Times New Roman"/>
              </a:rPr>
              <a:t>Степени окисления элементов и заряды ионов кис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лоты образуют ионы двух видов : простые ионы водорода – 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ложные ионы кислотных остатков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яды ионов определяются числом атомов водорода в кис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определить степени окисления элементов в кислоте надо помнить, что молекула электронейтральна, т.е. сумма отрицательных и положительных зарядов рав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о. кислорода = -2, с.о. водорода = +1 Сумма отрицательных зарядов =(-2)*4 =( -8 ). Следовательно сумма положительных  = 8. На водород приходится (+2), а на серу (8 – 2 =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0"/>
            <a:ext cx="914400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e03e7"/>
                </a:solidFill>
                <a:latin typeface="Times New Roman"/>
              </a:rPr>
              <a:t>Степени окисления элементов и заряды ионов  в фосфорной кисл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ответствие «оксид -  гидроксид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4038480"/>
            <a:ext cx="914400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определим с.о. фосфо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с.о Н +1, с.о. О -2 с.о Р =(4*2 – 3*1) = 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едовательно формула оксида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37160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e03e7"/>
                </a:solidFill>
                <a:latin typeface="Tahoma"/>
              </a:rPr>
              <a:t>Маршрут путеше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4800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Стоп! Красный св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685800" y="4191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Дегуста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85800" y="3581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85800" y="2971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нформа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85800" y="5410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Эксперимент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572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03e7"/>
                </a:solidFill>
                <a:latin typeface="Arial"/>
              </a:rPr>
              <a:t>Станция </a:t>
            </a:r>
            <a:r>
              <a:rPr b="1" i="1" lang="ru-RU" sz="4400" spc="-1" strike="noStrike">
                <a:solidFill>
                  <a:srgbClr val="2e03e7"/>
                </a:solidFill>
                <a:latin typeface="Arial"/>
              </a:rPr>
              <a:t>Истор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438280" y="9907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429000" y="3200400"/>
            <a:ext cx="54864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рная кисл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«купоросное масло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img015"/>
          <p:cNvPicPr/>
          <p:nvPr/>
        </p:nvPicPr>
        <p:blipFill>
          <a:blip r:embed="rId1"/>
          <a:stretch/>
        </p:blipFill>
        <p:spPr>
          <a:xfrm>
            <a:off x="0" y="3581280"/>
            <a:ext cx="3048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505320" y="3049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XV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57200" y="2057400"/>
            <a:ext cx="8458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03e7"/>
                </a:solidFill>
                <a:latin typeface="Arial"/>
              </a:rPr>
              <a:t>HCl</a:t>
            </a:r>
            <a:r>
              <a:rPr b="0" lang="en-US" sz="4400" spc="-1" strike="noStrike">
                <a:solidFill>
                  <a:srgbClr val="2e03e7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яная кислота («соляной                                                                        спирт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57200" y="37339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03e7"/>
                </a:solidFill>
                <a:latin typeface="Arial"/>
              </a:rPr>
              <a:t>HNO</a:t>
            </a:r>
            <a:r>
              <a:rPr b="0" lang="en-US" sz="3200" spc="-1" strike="noStrike">
                <a:solidFill>
                  <a:srgbClr val="2e03e7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2e03e7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Азотная кислота («селитряная водка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0" y="228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l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80880" y="762120"/>
            <a:ext cx="845820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03e7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2e03e7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2e03e7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2e03e7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2e03e7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гольная кислота («содовая вода»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жозеф Прист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03e7"/>
                </a:solidFill>
                <a:latin typeface="Arial"/>
              </a:rPr>
              <a:t>Станция </a:t>
            </a:r>
            <a:r>
              <a:rPr b="1" lang="ru-RU" sz="4400" spc="-1" strike="noStrike">
                <a:solidFill>
                  <a:srgbClr val="2e03e7"/>
                </a:solidFill>
                <a:latin typeface="Arial"/>
              </a:rPr>
              <a:t>Дегустацио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2438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ольшинство кислот кислые на вк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лимонная, аскорбинова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e03e7"/>
                </a:solidFill>
                <a:latin typeface="Arial"/>
              </a:rPr>
              <a:t>Стан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Стоп! Красный свет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17524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03e7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2e03e7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2e03e7"/>
                </a:solidFill>
                <a:latin typeface="Arial"/>
              </a:rPr>
              <a:t>SO</a:t>
            </a:r>
            <a:r>
              <a:rPr b="0" lang="en-US" sz="4000" spc="-1" strike="noStrike">
                <a:solidFill>
                  <a:srgbClr val="2e03e7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rim"/>
          <p:cNvPicPr/>
          <p:nvPr/>
        </p:nvPicPr>
        <p:blipFill>
          <a:blip r:embed="rId1"/>
          <a:stretch/>
        </p:blipFill>
        <p:spPr>
          <a:xfrm>
            <a:off x="5506920" y="1676520"/>
            <a:ext cx="3387960" cy="3962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304920" y="2743200"/>
            <a:ext cx="52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дкость, бесцветная, маслянистая («купоросное масло»), тяжёлая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84 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, нелетучая, крайне гигроскопич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1242389045_warning_image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1981080" y="548640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мните: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ислоту вливать в во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120"/>
                            </p:stCondLst>
                            <p:childTnLst>
                              <p:par>
                                <p:cTn id="6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119"/>
                            </p:stCondLst>
                            <p:childTnLst>
                              <p:par>
                                <p:cTn id="7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120"/>
                            </p:stCondLst>
                            <p:childTnLst>
                              <p:par>
                                <p:cTn id="7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539640" y="620640"/>
            <a:ext cx="691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нтересный опыт:</a:t>
            </a:r>
            <a:endParaRPr b="1" i="1" lang="en-US" sz="32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630044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76" name="Picture 3" descr="10"/>
          <p:cNvPicPr/>
          <p:nvPr/>
        </p:nvPicPr>
        <p:blipFill>
          <a:blip r:embed="rId1">
            <a:lum contrast="36000"/>
          </a:blip>
          <a:srcRect l="0" t="10620" r="2507" b="0"/>
          <a:stretch/>
        </p:blipFill>
        <p:spPr>
          <a:xfrm>
            <a:off x="179280" y="2060640"/>
            <a:ext cx="4140360" cy="3860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572000" y="27432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Что произойдет, если к сахару добавить концентрированную серную кисл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8"/>
          <p:cNvPicPr/>
          <p:nvPr/>
        </p:nvPicPr>
        <p:blipFill>
          <a:blip r:embed="rId1"/>
          <a:stretch/>
        </p:blipFill>
        <p:spPr>
          <a:xfrm>
            <a:off x="4800600" y="1143000"/>
            <a:ext cx="4027320" cy="3886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9"/>
          <p:cNvPicPr/>
          <p:nvPr/>
        </p:nvPicPr>
        <p:blipFill>
          <a:blip r:embed="rId2"/>
          <a:stretch/>
        </p:blipFill>
        <p:spPr>
          <a:xfrm>
            <a:off x="380880" y="228600"/>
            <a:ext cx="4140360" cy="3860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228600" y="53341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нцентрированная серная кислота обугливает органически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03e7"/>
                </a:solidFill>
                <a:latin typeface="Arial"/>
              </a:rPr>
              <a:t>Станция </a:t>
            </a:r>
            <a:r>
              <a:rPr b="1" lang="ru-RU" sz="4400" spc="-1" strike="noStrike">
                <a:solidFill>
                  <a:srgbClr val="2e03e7"/>
                </a:solidFill>
                <a:latin typeface="Arial"/>
              </a:rPr>
              <a:t>Эксперимент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80880" y="12952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НДИКАТОРЫ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(от лат. indicator – указатель) – это вещества, позволяющие следить за составом среды или за протеканием химической реакции.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52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2e03e7"/>
                </a:solidFill>
                <a:uFillTx/>
                <a:latin typeface="Blackadder ITC"/>
              </a:rPr>
              <a:t>Действие растворов кислот на индикато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2209680"/>
          <a:ext cx="8610480" cy="3551400"/>
        </p:xfrm>
        <a:graphic>
          <a:graphicData uri="http://schemas.openxmlformats.org/drawingml/2006/table">
            <a:tbl>
              <a:tblPr/>
              <a:tblGrid>
                <a:gridCol w="3124080"/>
                <a:gridCol w="2514600"/>
                <a:gridCol w="2971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кат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яная кисло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ная кисло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му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иловый оранжев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лфтале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54"/>
          <p:cNvSpPr/>
          <p:nvPr/>
        </p:nvSpPr>
        <p:spPr>
          <a:xfrm>
            <a:off x="335268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3222720" y="3886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335268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Роз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335268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1f0f4"/>
                </a:solidFill>
                <a:latin typeface="Times New Roman"/>
              </a:rPr>
              <a:t>Бесцв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586728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1f0f4"/>
                </a:solidFill>
                <a:latin typeface="Times New Roman"/>
              </a:rPr>
              <a:t>Бесцв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5867280" y="3276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1"/>
          <p:cNvSpPr/>
          <p:nvPr/>
        </p:nvSpPr>
        <p:spPr>
          <a:xfrm>
            <a:off x="5867280" y="4038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Роз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6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0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03e7"/>
                </a:solidFill>
                <a:latin typeface="Arial"/>
              </a:rPr>
              <a:t>Станция </a:t>
            </a:r>
            <a:r>
              <a:rPr b="1" lang="ru-RU" sz="4400" spc="-1" strike="noStrike">
                <a:solidFill>
                  <a:srgbClr val="2e03e7"/>
                </a:solidFill>
                <a:latin typeface="Arial"/>
              </a:rPr>
              <a:t>Закреп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1752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KOH, HBr, Zn (OH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CaO,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 Hg (N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, Ag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04920" y="3581280"/>
            <a:ext cx="8839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дите бескислородную кислоту. Назовите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дите одноосновную кислоту. Назовите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дите многоосновную кислоту. Назовите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780"/>
                            </p:stCondLst>
                            <p:childTnLst>
                              <p:par>
                                <p:cTn id="8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2286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e03e7"/>
                </a:solidFill>
                <a:latin typeface="Arial"/>
              </a:rPr>
              <a:t>Станция </a:t>
            </a:r>
            <a:r>
              <a:rPr b="1" i="1" lang="ru-RU" sz="4400" spc="-1" strike="noStrike">
                <a:solidFill>
                  <a:srgbClr val="2e03e7"/>
                </a:solidFill>
                <a:latin typeface="Arial"/>
              </a:rPr>
              <a:t>Информацио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36396"/>
          <p:cNvPicPr/>
          <p:nvPr/>
        </p:nvPicPr>
        <p:blipFill>
          <a:blip r:embed="rId1"/>
          <a:stretch/>
        </p:blipFill>
        <p:spPr>
          <a:xfrm>
            <a:off x="228600" y="5105520"/>
            <a:ext cx="1522440" cy="1512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28600" y="1523880"/>
            <a:ext cx="6340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гольная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зотная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324480" y="1371600"/>
            <a:ext cx="199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934320" y="167652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ождь, гр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44"/>
          <p:cNvPicPr/>
          <p:nvPr/>
        </p:nvPicPr>
        <p:blipFill>
          <a:blip r:embed="rId2"/>
          <a:stretch/>
        </p:blipFill>
        <p:spPr>
          <a:xfrm>
            <a:off x="2895480" y="3733920"/>
            <a:ext cx="58676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1389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§20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идумать кроссворд с ключевым словом – КИСЛО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упражнения 1,3стр.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8596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Автор презентации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учитель хим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МБОУ СОШ№1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ПОТАПЕНК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ТАЛЬ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ВЛАДИМИР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2e03e7"/>
                </a:solidFill>
                <a:uFillTx/>
                <a:latin typeface="Arial"/>
              </a:rPr>
              <a:t>Кислоты в пищ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untitled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1524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343400" y="12952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Щавелевая кисл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1248366599_02"/>
          <p:cNvPicPr/>
          <p:nvPr/>
        </p:nvPicPr>
        <p:blipFill>
          <a:blip r:embed="rId2"/>
          <a:stretch/>
        </p:blipFill>
        <p:spPr>
          <a:xfrm>
            <a:off x="1828800" y="3200400"/>
            <a:ext cx="4952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apple_green"/>
          <p:cNvPicPr/>
          <p:nvPr/>
        </p:nvPicPr>
        <p:blipFill>
          <a:blip r:embed="rId1"/>
          <a:stretch/>
        </p:blipFill>
        <p:spPr>
          <a:xfrm>
            <a:off x="1066680" y="2819520"/>
            <a:ext cx="7239240" cy="373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4724280" y="380880"/>
            <a:ext cx="40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Яблочная кисл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85800" y="1066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=C-C-C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762120" y="1447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   l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838080" y="1828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 H H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33520" y="6858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676520" y="304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4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2"/>
          <p:cNvSpPr/>
          <p:nvPr/>
        </p:nvSpPr>
        <p:spPr>
          <a:xfrm>
            <a:off x="30492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=C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48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   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447920" y="990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676520" y="685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52480" y="380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676520" y="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380880" y="1905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        OH       OH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trudn_pov_img2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644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0"/>
          <p:cNvSpPr/>
          <p:nvPr/>
        </p:nvSpPr>
        <p:spPr>
          <a:xfrm>
            <a:off x="44956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Лимонная кисл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2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2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age612"/>
          <p:cNvPicPr/>
          <p:nvPr/>
        </p:nvPicPr>
        <p:blipFill>
          <a:blip r:embed="rId1"/>
          <a:stretch/>
        </p:blipFill>
        <p:spPr>
          <a:xfrm>
            <a:off x="457200" y="762120"/>
            <a:ext cx="3581280" cy="1752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4937040" y="72216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351"/>
          <p:cNvPicPr/>
          <p:nvPr/>
        </p:nvPicPr>
        <p:blipFill>
          <a:blip r:embed="rId2"/>
          <a:stretch/>
        </p:blipFill>
        <p:spPr>
          <a:xfrm>
            <a:off x="2743200" y="297180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,-68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8,84,8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4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ilchsaeure"/>
          <p:cNvPicPr/>
          <p:nvPr/>
        </p:nvPicPr>
        <p:blipFill>
          <a:blip r:embed="rId1"/>
          <a:stretch/>
        </p:blipFill>
        <p:spPr>
          <a:xfrm>
            <a:off x="838080" y="457200"/>
            <a:ext cx="358164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334120" y="6858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олочная кисл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oloko"/>
          <p:cNvPicPr/>
          <p:nvPr/>
        </p:nvPicPr>
        <p:blipFill>
          <a:blip r:embed="rId2"/>
          <a:stretch/>
        </p:blipFill>
        <p:spPr>
          <a:xfrm>
            <a:off x="3048120" y="33526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9144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 –C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≡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800600" y="7621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1209557769_ciklon"/>
          <p:cNvPicPr/>
          <p:nvPr/>
        </p:nvPicPr>
        <p:blipFill>
          <a:blip r:embed="rId1"/>
          <a:stretch/>
        </p:blipFill>
        <p:spPr>
          <a:xfrm>
            <a:off x="1371600" y="2666880"/>
            <a:ext cx="648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25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20T20:44:36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