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8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15.jpeg" ContentType="image/jpeg"/>
  <Override PartName="/ppt/media/image12.jpeg" ContentType="image/jpeg"/>
  <Override PartName="/ppt/media/image8.wmf" ContentType="image/x-wmf"/>
  <Override PartName="/ppt/media/image33.wmf" ContentType="image/x-wmf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wmf" ContentType="image/x-wmf"/>
  <Override PartName="/ppt/media/image31.jpeg" ContentType="image/jpeg"/>
  <Override PartName="/ppt/media/image39.jpeg" ContentType="image/jpeg"/>
  <Override PartName="/ppt/media/image27.wmf" ContentType="image/x-wmf"/>
  <Override PartName="/ppt/media/image14.jpeg" ContentType="image/jpeg"/>
  <Override PartName="/ppt/media/image41.jpeg" ContentType="image/jpeg"/>
  <Override PartName="/ppt/media/image9.wmf" ContentType="image/x-wmf"/>
  <Override PartName="/ppt/media/image4.wmf" ContentType="image/x-wmf"/>
  <Override PartName="/ppt/media/image34.wmf" ContentType="image/x-wmf"/>
  <Override PartName="/ppt/media/image43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36.wmf" ContentType="image/x-wmf"/>
  <Override PartName="/ppt/media/image6.wmf" ContentType="image/x-wmf"/>
  <Override PartName="/ppt/media/image42.jpeg" ContentType="image/jpeg"/>
  <Override PartName="/ppt/media/image19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BDD-74AA-4650-A4E8-60CEB781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C00-F8FA-49EA-A2D3-AD5378D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926-AF6C-4DFA-A1C7-3A067162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8DB-C2F9-4F3A-A2A9-BAC6AB36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005-A4D5-4C44-832A-021E6B96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89EE-5A0E-49F6-9234-32D366C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C67E-0ACF-4E0B-AA59-C84709F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6372-3178-456B-9E6A-1C92E01D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E9F8-4553-47AE-9059-D36D65A2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B2E7-E040-458C-86F3-7412990E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9CC6-277E-4473-B97C-D371B1F8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010-50C0-4A85-B895-3086BA2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661B-DAA0-4E0C-BA51-11117D6F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2F28-B861-4EBD-97C6-FBCF2067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478-4414-4BED-BFA1-B0CEBD88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C022-BE6F-44FC-8CFB-E0DF40DB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01A0-26E1-47E3-BEE0-24D3A3FD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547-B213-42E2-848A-7EB3F9B1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498-A47E-47F8-AE8A-F7BF14B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274-E7A4-4D06-A55C-2C4E7F74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08D-3C9B-4286-A679-63FBFE20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DF0-307F-4544-8309-1C10A293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A0E-DFD7-4FB5-875F-D6DCDA49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35B-EE8B-4D29-BEDE-4E875602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2D0F-937F-42CD-9C94-7CC1343273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69FC-A651-439B-8BC0-60C3E4C8CB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ril1-%20&#1057;&#1055;&#1054;&#1056;%20&#1054;%20&#1050;&#1059;&#1056;&#1045;&#1053;&#1048;&#1048;.ppt#12. &#1053;&#1048;&#1050;&#1054;&#1058;&#1048;&#1053;" TargetMode="External"/><Relationship Id="rId2" Type="http://schemas.openxmlformats.org/officeDocument/2006/relationships/hyperlink" Target="file:///pril1-%20&#1057;&#1055;&#1054;&#1056;%20&#1054;%20&#1050;&#1059;&#1056;&#1045;&#1053;&#1048;&#1048;.ppt#13.  &#1040;&#1052;&#1052;&#1048;&#1040;&#1050;" TargetMode="External"/><Relationship Id="rId3" Type="http://schemas.openxmlformats.org/officeDocument/2006/relationships/hyperlink" Target="file:///pril1-%20&#1057;&#1055;&#1054;&#1056;%20&#1054;%20&#1050;&#1059;&#1056;&#1045;&#1053;&#1048;&#1048;.ppt#14. &#1057;&#1048;&#1053;&#1048;&#1051;&#1068;&#1053;&#1040;&#1071; &#1050;&#1048;&#1057;&#1051;&#1054;&#1058;&#1040;" TargetMode="External"/><Relationship Id="rId4" Type="http://schemas.openxmlformats.org/officeDocument/2006/relationships/hyperlink" Target="file:///pril1-%20&#1057;&#1055;&#1054;&#1056;%20&#1054;%20&#1050;&#1059;&#1056;&#1045;&#1053;&#1048;&#1048;.ppt#15. &#1052;&#1045;&#1058;&#1040;&#1053;&#1054;&#1051;" TargetMode="External"/><Relationship Id="rId5" Type="http://schemas.openxmlformats.org/officeDocument/2006/relationships/hyperlink" Target="file:///pril1-%20&#1057;&#1055;&#1054;&#1056;%20&#1054;%20&#1050;&#1059;&#1056;&#1045;&#1053;&#1048;&#1048;.ppt#15. &#1052;&#1045;&#1058;&#1040;&#1053;&#1054;&#1051;" TargetMode="External"/><Relationship Id="rId6" Type="http://schemas.openxmlformats.org/officeDocument/2006/relationships/hyperlink" Target="file:///pril1-%20&#1057;&#1055;&#1054;&#1056;%20&#1054;%20&#1050;&#1059;&#1056;&#1045;&#1053;&#1048;&#1048;.ppt#16. &#1056;&#1040;&#1044;&#1048;&#1054;&#1040;&#1050;&#1058;&#1048;&#1042;&#1053;&#1067;&#1045; &#1069;&#1051;&#1045;&#1052;&#1045;&#1053;&#1058;&#1067;" TargetMode="External"/><Relationship Id="rId7" Type="http://schemas.openxmlformats.org/officeDocument/2006/relationships/hyperlink" Target="file:///pril1-%20&#1057;&#1055;&#1054;&#1056;%20&#1054;%20&#1050;&#1059;&#1056;&#1045;&#1053;&#1048;&#1048;.ppt#16. &#1056;&#1040;&#1044;&#1048;&#1054;&#1040;&#1050;&#1058;&#1048;&#1042;&#1053;&#1067;&#1045; &#1069;&#1051;&#1045;&#1052;&#1045;&#1053;&#1058;&#1067;" TargetMode="External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il1-%20&#1057;&#1055;&#1054;&#1056;%20&#1054;%20&#1050;&#1059;&#1056;&#1045;&#1053;&#1048;&#1048;.ppt#10. &#1043;&#1086;&#1088;&#1103;&#1097;&#1072;&#1103; &#1089;&#1080;&#1075;&#1072;&#1088;&#1077;&#1090;&#1072;" TargetMode="External"/><Relationship Id="rId2" Type="http://schemas.openxmlformats.org/officeDocument/2006/relationships/hyperlink" Target="file:///pril1-%20&#1057;&#1055;&#1054;&#1056;%20&#1054;%20&#1050;&#1059;&#1056;&#1045;&#1053;&#1048;&#1048;.ppt#25. &#1053;&#1077;&#1088;&#1074;&#1085;&#1072;&#1103; &#1089;&#1080;&#1089;&#1090;&#1077;&#1084;&#1072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ril1-%20&#1057;&#1055;&#1054;&#1056;%20&#1054;%20&#1050;&#1059;&#1056;&#1045;&#1053;&#1048;&#1048;.ppt#6. &#1050;&#1091;&#1088;&#1103;&#1097;&#1080;&#1077; &#1083;&#1102;&#1076;&#1080; &#1076;&#1086;&#1083;&#1100;&#1096;&#1077; &#1089;&#1086;&#1093;&#1088;&#1072;&#1085;&#1103;&#1102;&#1090; &#1089;&#1090;&#1088;&#1086;&#1081;&#1085;&#1091;&#1102; &#1092;&#1080;&#1075;&#1091;&#1088;&#1091;?" TargetMode="External"/><Relationship Id="rId2" Type="http://schemas.openxmlformats.org/officeDocument/2006/relationships/hyperlink" Target="file:///pril1-%20&#1057;&#1055;&#1054;&#1056;%20&#1054;%20&#1050;&#1059;&#1056;&#1045;&#1053;&#1048;&#1048;.ppt#7. &#1057;&#1083;&#1072;&#1081;&#1076; 7" TargetMode="External"/><Relationship Id="rId3" Type="http://schemas.openxmlformats.org/officeDocument/2006/relationships/hyperlink" Target="file:///pril1-%20&#1057;&#1055;&#1054;&#1056;%20&#1054;%20&#1050;&#1059;&#1056;&#1045;&#1053;&#1048;&#1048;.ppt#8. &#1057;&#1083;&#1072;&#1081;&#1076; 8" TargetMode="External"/><Relationship Id="rId4" Type="http://schemas.openxmlformats.org/officeDocument/2006/relationships/hyperlink" Target="file:///pril1-%20&#1057;&#1055;&#1054;&#1056;%20&#1054;%20&#1050;&#1059;&#1056;&#1045;&#1053;&#1048;&#1048;.ppt#9. &#1052;&#1048;&#1060;&#1067; &#1054; &#1050;&#1059;&#1056;&#1045;&#1053;&#1048;&#1048;" TargetMode="External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2920" y="549360"/>
            <a:ext cx="7704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гнание серого дыма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246528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Горящая сигарет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077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это химическая фабрика, продуциру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соедин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в их числе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анцерогенов и </a:t>
            </a: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окаканцерог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 Narrow"/>
              </a:rPr>
              <a:t>КАНЦЕРОГЕН - ракообразовывающ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56360" y="3240"/>
            <a:ext cx="23763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6197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Что содержится в сигарет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052280"/>
            <a:ext cx="7696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В дыме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одной сигареты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содержится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 Narrow"/>
                <a:hlinkClick r:id="rId1"/>
              </a:rPr>
              <a:t>6 мг никотин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 Narrow"/>
                <a:hlinkClick r:id="rId2"/>
              </a:rPr>
              <a:t>1,6 мг аммиак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 Narrow"/>
              </a:rPr>
              <a:t>25 мг угарного газ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 Narrow"/>
                <a:hlinkClick r:id="rId3"/>
              </a:rPr>
              <a:t>0,03 мг синильной кислоты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 Narrow"/>
                <a:hlinkClick r:id="rId4"/>
              </a:rPr>
              <a:t>0,5 мг пиридина, формальдегид,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 Narrow"/>
                <a:hlinkClick r:id="rId5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 Narrow"/>
                <a:hlinkClick r:id="rId6"/>
              </a:rPr>
              <a:t>радиоактивные вещества: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 Narrow"/>
                <a:hlinkClick r:id="rId7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 Narrow"/>
              </a:rPr>
              <a:t>полоний, свинец, висмут, смолы и деготь и др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Значительная часть уходит в окружающую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Дым сигарет вреден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аждая сигарета отнимает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от 5 до 15 минут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ежедневно выкуриваемых сигарет сокращает жизнь на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8-12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7315200" y="2254320"/>
            <a:ext cx="1295280" cy="1098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16360" y="6021360"/>
            <a:ext cx="503280" cy="493920"/>
          </a:xfrm>
          <a:custGeom>
            <a:avLst/>
            <a:gdLst>
              <a:gd name="textAreaLeft" fmla="*/ 31680 w 503280"/>
              <a:gd name="textAreaRight" fmla="*/ 471600 w 5032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2009" h="21600">
                <a:moveTo>
                  <a:pt x="0" y="0"/>
                </a:moveTo>
                <a:lnTo>
                  <a:pt x="22009" y="0"/>
                </a:lnTo>
                <a:lnTo>
                  <a:pt x="22009" y="21600"/>
                </a:lnTo>
                <a:lnTo>
                  <a:pt x="0" y="21600"/>
                </a:lnTo>
                <a:close/>
              </a:path>
              <a:path fill="lightenLess" w="22009" h="21600">
                <a:moveTo>
                  <a:pt x="0" y="0"/>
                </a:moveTo>
                <a:lnTo>
                  <a:pt x="22009" y="0"/>
                </a:lnTo>
                <a:lnTo>
                  <a:pt x="20609" y="1400"/>
                </a:lnTo>
                <a:lnTo>
                  <a:pt x="1400" y="1400"/>
                </a:lnTo>
                <a:close/>
              </a:path>
              <a:path fill="darken" w="22009" h="21600">
                <a:moveTo>
                  <a:pt x="22009" y="0"/>
                </a:moveTo>
                <a:lnTo>
                  <a:pt x="22009" y="21600"/>
                </a:lnTo>
                <a:lnTo>
                  <a:pt x="20609" y="20200"/>
                </a:lnTo>
                <a:lnTo>
                  <a:pt x="20609" y="1400"/>
                </a:lnTo>
                <a:close/>
              </a:path>
              <a:path fill="darkenLess" w="22009" h="21600">
                <a:moveTo>
                  <a:pt x="22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09" y="20200"/>
                </a:lnTo>
                <a:close/>
              </a:path>
              <a:path fill="lighten" w="22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09" h="21600">
                <a:moveTo>
                  <a:pt x="3998" y="3794"/>
                </a:moveTo>
                <a:lnTo>
                  <a:pt x="18011" y="10800"/>
                </a:lnTo>
                <a:lnTo>
                  <a:pt x="399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НИКОТИ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Возбуждает центральную нервную систе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Спазм кровеносных сосудов, ухудшение кровоснабжения клеток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Повышает артериальное давление крови и увеличивает работу серд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В целом создает субъективные ощущения повышения работоспосо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51200" y="5516640"/>
            <a:ext cx="73648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Никотин - это наркотик. А это означ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что с каждым годом тебе будет все трудне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8101080" y="5013360"/>
            <a:ext cx="684000" cy="75564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755640"/>
              <a:gd name="textAreaBottom" fmla="*/ 711360 h 755640"/>
            </a:gdLst>
            <a:ahLst/>
            <a:rect l="textAreaLeft" t="textAreaTop" r="textAreaRight" b="textAreaBottom"/>
            <a:pathLst>
              <a:path w="21600" h="23861">
                <a:moveTo>
                  <a:pt x="0" y="0"/>
                </a:moveTo>
                <a:lnTo>
                  <a:pt x="21600" y="0"/>
                </a:lnTo>
                <a:lnTo>
                  <a:pt x="21600" y="23861"/>
                </a:lnTo>
                <a:lnTo>
                  <a:pt x="0" y="23861"/>
                </a:lnTo>
                <a:close/>
              </a:path>
              <a:path fill="lightenLess" w="21600" h="238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61">
                <a:moveTo>
                  <a:pt x="21600" y="0"/>
                </a:moveTo>
                <a:lnTo>
                  <a:pt x="21600" y="23861"/>
                </a:lnTo>
                <a:lnTo>
                  <a:pt x="20200" y="22461"/>
                </a:lnTo>
                <a:lnTo>
                  <a:pt x="20200" y="1400"/>
                </a:lnTo>
                <a:close/>
              </a:path>
              <a:path fill="darkenLess" w="21600" h="23861">
                <a:moveTo>
                  <a:pt x="21600" y="23861"/>
                </a:moveTo>
                <a:lnTo>
                  <a:pt x="0" y="23861"/>
                </a:lnTo>
                <a:lnTo>
                  <a:pt x="1400" y="22461"/>
                </a:lnTo>
                <a:lnTo>
                  <a:pt x="20200" y="22461"/>
                </a:lnTo>
                <a:close/>
              </a:path>
              <a:path fill="lighten" w="21600" h="23861">
                <a:moveTo>
                  <a:pt x="0" y="238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61"/>
                </a:lnTo>
                <a:close/>
              </a:path>
              <a:path fill="darken" w="21600" h="23861">
                <a:moveTo>
                  <a:pt x="3794" y="8623"/>
                </a:moveTo>
                <a:lnTo>
                  <a:pt x="7301" y="8623"/>
                </a:lnTo>
                <a:lnTo>
                  <a:pt x="7301" y="13959"/>
                </a:lnTo>
                <a:cubicBezTo>
                  <a:pt x="7301" y="14881"/>
                  <a:pt x="8102" y="15612"/>
                  <a:pt x="9138" y="15612"/>
                </a:cubicBezTo>
                <a:lnTo>
                  <a:pt x="10800" y="15612"/>
                </a:lnTo>
                <a:cubicBezTo>
                  <a:pt x="11836" y="15612"/>
                  <a:pt x="12636" y="14881"/>
                  <a:pt x="12636" y="13959"/>
                </a:cubicBezTo>
                <a:lnTo>
                  <a:pt x="12636" y="8623"/>
                </a:lnTo>
                <a:lnTo>
                  <a:pt x="10800" y="8623"/>
                </a:lnTo>
                <a:lnTo>
                  <a:pt x="14308" y="5116"/>
                </a:lnTo>
                <a:lnTo>
                  <a:pt x="17981" y="8623"/>
                </a:lnTo>
                <a:lnTo>
                  <a:pt x="16144" y="8623"/>
                </a:lnTo>
                <a:lnTo>
                  <a:pt x="16144" y="13959"/>
                </a:lnTo>
                <a:cubicBezTo>
                  <a:pt x="16144" y="16726"/>
                  <a:pt x="13568" y="19285"/>
                  <a:pt x="10800" y="19285"/>
                </a:cubicBezTo>
                <a:lnTo>
                  <a:pt x="9138" y="19285"/>
                </a:lnTo>
                <a:cubicBezTo>
                  <a:pt x="6370" y="19285"/>
                  <a:pt x="3794" y="16726"/>
                  <a:pt x="3794" y="13959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20252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АММИА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Раздражает слизистые оболочки вызывая боли в желуд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Происходит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слезотечение,</a:t>
            </a: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 повышенное отделение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мокроты</a:t>
            </a: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Вызывает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удушье, головокружение</a:t>
            </a: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Снижается сопротивляемость легких к инфекционным заболеваниям, в частности к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туберкулез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(Из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100 случаев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заболеваний туберкулеза -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95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приходится на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курильщи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5867280" y="5661000"/>
            <a:ext cx="538200" cy="765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765360"/>
              <a:gd name="textAreaBottom" fmla="*/ 730800 h 765360"/>
            </a:gdLst>
            <a:ahLst/>
            <a:rect l="textAreaLeft" t="textAreaTop" r="textAreaRight" b="textAreaBottom"/>
            <a:pathLst>
              <a:path w="21600" h="30711">
                <a:moveTo>
                  <a:pt x="0" y="0"/>
                </a:moveTo>
                <a:lnTo>
                  <a:pt x="21600" y="0"/>
                </a:lnTo>
                <a:lnTo>
                  <a:pt x="21600" y="30711"/>
                </a:lnTo>
                <a:lnTo>
                  <a:pt x="0" y="30711"/>
                </a:lnTo>
                <a:close/>
              </a:path>
              <a:path fill="lightenLess" w="21600" h="307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11">
                <a:moveTo>
                  <a:pt x="21600" y="0"/>
                </a:moveTo>
                <a:lnTo>
                  <a:pt x="21600" y="30711"/>
                </a:lnTo>
                <a:lnTo>
                  <a:pt x="20200" y="29311"/>
                </a:lnTo>
                <a:lnTo>
                  <a:pt x="20200" y="1400"/>
                </a:lnTo>
                <a:close/>
              </a:path>
              <a:path fill="darkenLess" w="21600" h="30711">
                <a:moveTo>
                  <a:pt x="21600" y="30711"/>
                </a:moveTo>
                <a:lnTo>
                  <a:pt x="0" y="30711"/>
                </a:lnTo>
                <a:lnTo>
                  <a:pt x="1400" y="29311"/>
                </a:lnTo>
                <a:lnTo>
                  <a:pt x="20200" y="29311"/>
                </a:lnTo>
                <a:close/>
              </a:path>
              <a:path fill="lighten" w="21600" h="30711">
                <a:moveTo>
                  <a:pt x="0" y="307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11"/>
                </a:lnTo>
                <a:close/>
              </a:path>
              <a:path fill="darken" w="21600" h="30711">
                <a:moveTo>
                  <a:pt x="3794" y="12048"/>
                </a:moveTo>
                <a:lnTo>
                  <a:pt x="7301" y="12048"/>
                </a:lnTo>
                <a:lnTo>
                  <a:pt x="7301" y="17383"/>
                </a:lnTo>
                <a:cubicBezTo>
                  <a:pt x="7301" y="18306"/>
                  <a:pt x="8102" y="19037"/>
                  <a:pt x="9138" y="19037"/>
                </a:cubicBezTo>
                <a:lnTo>
                  <a:pt x="10800" y="19037"/>
                </a:lnTo>
                <a:cubicBezTo>
                  <a:pt x="11836" y="19037"/>
                  <a:pt x="12636" y="18306"/>
                  <a:pt x="12636" y="17383"/>
                </a:cubicBezTo>
                <a:lnTo>
                  <a:pt x="12636" y="12048"/>
                </a:lnTo>
                <a:lnTo>
                  <a:pt x="10800" y="12048"/>
                </a:lnTo>
                <a:lnTo>
                  <a:pt x="14308" y="8540"/>
                </a:lnTo>
                <a:lnTo>
                  <a:pt x="17981" y="12048"/>
                </a:lnTo>
                <a:lnTo>
                  <a:pt x="16144" y="12048"/>
                </a:lnTo>
                <a:lnTo>
                  <a:pt x="16144" y="17383"/>
                </a:lnTo>
                <a:cubicBezTo>
                  <a:pt x="16144" y="20151"/>
                  <a:pt x="13568" y="22710"/>
                  <a:pt x="10800" y="22710"/>
                </a:cubicBezTo>
                <a:lnTo>
                  <a:pt x="9138" y="22710"/>
                </a:lnTo>
                <a:cubicBezTo>
                  <a:pt x="6370" y="22710"/>
                  <a:pt x="3794" y="20151"/>
                  <a:pt x="3794" y="1738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7960" y="325080"/>
            <a:ext cx="72043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СИНИЛЬНАЯ КИСЛ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Легко проникает в кровь (снижает способность клеток воспринимать кислор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Первыми страдают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нервные клетки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При большой дозе проявляется отравление: за сильнейшим возбуждением ЦНС наступает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паралич, останавливается дых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   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а,  затем и 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456320" y="4457880"/>
            <a:ext cx="696960" cy="179064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4859280" y="4365720"/>
            <a:ext cx="504720" cy="647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47640"/>
              <a:gd name="textAreaBottom" fmla="*/ 615240 h 647640"/>
            </a:gdLst>
            <a:ahLst/>
            <a:rect l="textAreaLeft" t="textAreaTop" r="textAreaRight" b="textAreaBottom"/>
            <a:pathLst>
              <a:path w="21600" h="27712">
                <a:moveTo>
                  <a:pt x="0" y="0"/>
                </a:moveTo>
                <a:lnTo>
                  <a:pt x="21600" y="0"/>
                </a:lnTo>
                <a:lnTo>
                  <a:pt x="21600" y="27712"/>
                </a:lnTo>
                <a:lnTo>
                  <a:pt x="0" y="27712"/>
                </a:lnTo>
                <a:close/>
              </a:path>
              <a:path fill="lightenLess" w="21600" h="277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12">
                <a:moveTo>
                  <a:pt x="21600" y="0"/>
                </a:moveTo>
                <a:lnTo>
                  <a:pt x="21600" y="27712"/>
                </a:lnTo>
                <a:lnTo>
                  <a:pt x="20200" y="26312"/>
                </a:lnTo>
                <a:lnTo>
                  <a:pt x="20200" y="1400"/>
                </a:lnTo>
                <a:close/>
              </a:path>
              <a:path fill="darkenLess" w="21600" h="27712">
                <a:moveTo>
                  <a:pt x="21600" y="27712"/>
                </a:moveTo>
                <a:lnTo>
                  <a:pt x="0" y="27712"/>
                </a:lnTo>
                <a:lnTo>
                  <a:pt x="1400" y="26312"/>
                </a:lnTo>
                <a:lnTo>
                  <a:pt x="20200" y="26312"/>
                </a:lnTo>
                <a:close/>
              </a:path>
              <a:path fill="lighten" w="21600" h="27712">
                <a:moveTo>
                  <a:pt x="0" y="277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12"/>
                </a:lnTo>
                <a:close/>
              </a:path>
              <a:path fill="darken" w="21600" h="27712">
                <a:moveTo>
                  <a:pt x="3794" y="10549"/>
                </a:moveTo>
                <a:lnTo>
                  <a:pt x="7301" y="10549"/>
                </a:lnTo>
                <a:lnTo>
                  <a:pt x="7301" y="15884"/>
                </a:lnTo>
                <a:cubicBezTo>
                  <a:pt x="7301" y="16807"/>
                  <a:pt x="8102" y="17538"/>
                  <a:pt x="9138" y="17538"/>
                </a:cubicBezTo>
                <a:lnTo>
                  <a:pt x="10800" y="17538"/>
                </a:lnTo>
                <a:cubicBezTo>
                  <a:pt x="11836" y="17538"/>
                  <a:pt x="12636" y="16807"/>
                  <a:pt x="12636" y="15884"/>
                </a:cubicBezTo>
                <a:lnTo>
                  <a:pt x="12636" y="10549"/>
                </a:lnTo>
                <a:lnTo>
                  <a:pt x="10800" y="10549"/>
                </a:lnTo>
                <a:lnTo>
                  <a:pt x="14308" y="7041"/>
                </a:lnTo>
                <a:lnTo>
                  <a:pt x="17981" y="10549"/>
                </a:lnTo>
                <a:lnTo>
                  <a:pt x="16144" y="10549"/>
                </a:lnTo>
                <a:lnTo>
                  <a:pt x="16144" y="15884"/>
                </a:lnTo>
                <a:cubicBezTo>
                  <a:pt x="16144" y="18652"/>
                  <a:pt x="13568" y="21211"/>
                  <a:pt x="10800" y="21211"/>
                </a:cubicBezTo>
                <a:lnTo>
                  <a:pt x="9138" y="21211"/>
                </a:lnTo>
                <a:cubicBezTo>
                  <a:pt x="6370" y="21211"/>
                  <a:pt x="3794" y="18652"/>
                  <a:pt x="3794" y="15884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МЕТАНО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1520" y="1755360"/>
            <a:ext cx="70740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- это очень ядовитое вещество, вызывающее тяжелое </a:t>
            </a: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отравление, слепоту,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270828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Narrow"/>
              </a:rPr>
              <a:t>ФОРМАЛЬДЕГ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500280"/>
            <a:ext cx="714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- это ядовитое вещество, вызывающее боль в     груди, </a:t>
            </a: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кашель,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бронхит, коньюктивит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, сильные </a:t>
            </a: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отеки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кож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3708360" y="4653000"/>
            <a:ext cx="503280" cy="792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92000"/>
              <a:gd name="textAreaBottom" fmla="*/ 759600 h 792000"/>
            </a:gdLst>
            <a:ahLst/>
            <a:rect l="textAreaLeft" t="textAreaTop" r="textAreaRight" b="textAreaBottom"/>
            <a:pathLst>
              <a:path w="21600" h="33983">
                <a:moveTo>
                  <a:pt x="0" y="0"/>
                </a:moveTo>
                <a:lnTo>
                  <a:pt x="21600" y="0"/>
                </a:lnTo>
                <a:lnTo>
                  <a:pt x="21600" y="33983"/>
                </a:lnTo>
                <a:lnTo>
                  <a:pt x="0" y="33983"/>
                </a:lnTo>
                <a:close/>
              </a:path>
              <a:path fill="lightenLess" w="21600" h="339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83">
                <a:moveTo>
                  <a:pt x="21600" y="0"/>
                </a:moveTo>
                <a:lnTo>
                  <a:pt x="21600" y="33983"/>
                </a:lnTo>
                <a:lnTo>
                  <a:pt x="20200" y="32583"/>
                </a:lnTo>
                <a:lnTo>
                  <a:pt x="20200" y="1400"/>
                </a:lnTo>
                <a:close/>
              </a:path>
              <a:path fill="darkenLess" w="21600" h="33983">
                <a:moveTo>
                  <a:pt x="21600" y="33983"/>
                </a:moveTo>
                <a:lnTo>
                  <a:pt x="0" y="33983"/>
                </a:lnTo>
                <a:lnTo>
                  <a:pt x="1400" y="32583"/>
                </a:lnTo>
                <a:lnTo>
                  <a:pt x="20200" y="32583"/>
                </a:lnTo>
                <a:close/>
              </a:path>
              <a:path fill="lighten" w="21600" h="33983">
                <a:moveTo>
                  <a:pt x="0" y="33983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83"/>
                </a:lnTo>
                <a:close/>
              </a:path>
              <a:path fill="darken" w="21600" h="33983">
                <a:moveTo>
                  <a:pt x="3794" y="13684"/>
                </a:moveTo>
                <a:lnTo>
                  <a:pt x="7301" y="13684"/>
                </a:lnTo>
                <a:lnTo>
                  <a:pt x="7301" y="19019"/>
                </a:lnTo>
                <a:cubicBezTo>
                  <a:pt x="7301" y="19942"/>
                  <a:pt x="8102" y="20673"/>
                  <a:pt x="9138" y="20673"/>
                </a:cubicBezTo>
                <a:lnTo>
                  <a:pt x="10800" y="20673"/>
                </a:lnTo>
                <a:cubicBezTo>
                  <a:pt x="11836" y="20673"/>
                  <a:pt x="12636" y="19942"/>
                  <a:pt x="12636" y="19019"/>
                </a:cubicBezTo>
                <a:lnTo>
                  <a:pt x="12636" y="13684"/>
                </a:lnTo>
                <a:lnTo>
                  <a:pt x="10800" y="13684"/>
                </a:lnTo>
                <a:lnTo>
                  <a:pt x="14308" y="10176"/>
                </a:lnTo>
                <a:lnTo>
                  <a:pt x="17981" y="13684"/>
                </a:lnTo>
                <a:lnTo>
                  <a:pt x="16144" y="13684"/>
                </a:lnTo>
                <a:lnTo>
                  <a:pt x="16144" y="19019"/>
                </a:lnTo>
                <a:cubicBezTo>
                  <a:pt x="16144" y="21787"/>
                  <a:pt x="13568" y="24346"/>
                  <a:pt x="10800" y="24346"/>
                </a:cubicBezTo>
                <a:lnTo>
                  <a:pt x="9138" y="24346"/>
                </a:lnTo>
                <a:cubicBezTo>
                  <a:pt x="6370" y="24346"/>
                  <a:pt x="3794" y="21787"/>
                  <a:pt x="3794" y="19019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РАДИОАКТИВНЫЕ ЭЛЕМЕН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Изотопы полония являются первопричиной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рака легких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Человек, выкуривающий в день пачку сигарет, получает дозу облучения в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3,5 раза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 больше дозы, принятой международным соглашением по защите от ради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Радиоактивный свинец и висм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расстройство сна и аппети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нарушение деятельности желудка и кишечника повышенная раздражительность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плохая успеваемость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отставание в физическом развит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093080" y="5445000"/>
            <a:ext cx="682560" cy="75564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55640"/>
              <a:gd name="textAreaBottom" fmla="*/ 711720 h 755640"/>
            </a:gdLst>
            <a:ahLst/>
            <a:rect l="textAreaLeft" t="textAreaTop" r="textAreaRight" b="textAreaBottom"/>
            <a:pathLst>
              <a:path w="21600" h="23911">
                <a:moveTo>
                  <a:pt x="0" y="0"/>
                </a:moveTo>
                <a:lnTo>
                  <a:pt x="21600" y="0"/>
                </a:lnTo>
                <a:lnTo>
                  <a:pt x="21600" y="23911"/>
                </a:lnTo>
                <a:lnTo>
                  <a:pt x="0" y="23911"/>
                </a:lnTo>
                <a:close/>
              </a:path>
              <a:path fill="lightenLess" w="21600" h="239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1">
                <a:moveTo>
                  <a:pt x="21600" y="0"/>
                </a:moveTo>
                <a:lnTo>
                  <a:pt x="21600" y="23911"/>
                </a:lnTo>
                <a:lnTo>
                  <a:pt x="20200" y="22511"/>
                </a:lnTo>
                <a:lnTo>
                  <a:pt x="20200" y="1400"/>
                </a:lnTo>
                <a:close/>
              </a:path>
              <a:path fill="darkenLess" w="21600" h="23911">
                <a:moveTo>
                  <a:pt x="21600" y="23911"/>
                </a:moveTo>
                <a:lnTo>
                  <a:pt x="0" y="23911"/>
                </a:lnTo>
                <a:lnTo>
                  <a:pt x="1400" y="22511"/>
                </a:lnTo>
                <a:lnTo>
                  <a:pt x="20200" y="22511"/>
                </a:lnTo>
                <a:close/>
              </a:path>
              <a:path fill="lighten" w="21600" h="23911">
                <a:moveTo>
                  <a:pt x="0" y="239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1"/>
                </a:lnTo>
                <a:close/>
              </a:path>
              <a:path fill="darken" w="21600" h="23911">
                <a:moveTo>
                  <a:pt x="3794" y="11956"/>
                </a:moveTo>
                <a:lnTo>
                  <a:pt x="17806" y="4949"/>
                </a:lnTo>
                <a:lnTo>
                  <a:pt x="17806" y="189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993300"/>
                </a:solidFill>
                <a:latin typeface="Arial Narrow"/>
              </a:rPr>
              <a:t>Дыхательн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Хронические заболевания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дыхательных органов: бронхит, астма, гибель эпителия, усиленное выделение слизи, воспаление голосовых свя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Туберкулез легких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из 100 случаев заболевания туберкулезом 95% - курильщ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Рак легких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почти 97% больных раком – курильщ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Рак гортани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в 6 – 10 раз больш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6443640" y="5805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43280" y="458136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6928" y="3794"/>
                </a:moveTo>
                <a:lnTo>
                  <a:pt x="20941" y="10800"/>
                </a:lnTo>
                <a:lnTo>
                  <a:pt x="692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егкие здорового человека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 курильщ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Содержимое 3" descr="11_легкие курильщика.jpg"/>
          <p:cNvPicPr/>
          <p:nvPr/>
        </p:nvPicPr>
        <p:blipFill>
          <a:blip r:embed="rId1"/>
          <a:stretch/>
        </p:blipFill>
        <p:spPr>
          <a:xfrm>
            <a:off x="4684680" y="3048120"/>
            <a:ext cx="4125960" cy="35179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10_легкие здоровые.jpg"/>
          <p:cNvPicPr/>
          <p:nvPr/>
        </p:nvPicPr>
        <p:blipFill>
          <a:blip r:embed="rId2"/>
          <a:stretch/>
        </p:blipFill>
        <p:spPr>
          <a:xfrm>
            <a:off x="380880" y="1752480"/>
            <a:ext cx="4013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32680" y="0"/>
            <a:ext cx="2011320" cy="2871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6120" cy="2205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348000" y="2349360"/>
            <a:ext cx="2106720" cy="23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1501920" y="1268280"/>
            <a:ext cx="171288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5219640" y="260280"/>
            <a:ext cx="1676520" cy="2239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4084560"/>
            <a:ext cx="1963800" cy="2773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2195640" y="532440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6994440" y="3141720"/>
            <a:ext cx="2149560" cy="2522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2627280" y="2349360"/>
            <a:ext cx="2959200" cy="4104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5724360" y="2637000"/>
            <a:ext cx="1308240" cy="1873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5580000" y="4365720"/>
            <a:ext cx="1935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9246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Выяснить воздействие кур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на организм челове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вызываемые  им болез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возможные последст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569880"/>
            <a:ext cx="4267440" cy="82512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 Narrow"/>
              </a:rPr>
              <a:t>ЦЕЛЬ</a:t>
            </a:r>
            <a:r>
              <a:rPr b="0" lang="en-US" sz="4800" spc="-1" strike="noStrike">
                <a:solidFill>
                  <a:srgbClr val="993300"/>
                </a:solidFill>
                <a:latin typeface="Arial Narrow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к губ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7" name="Содержимое 3" descr="9_рак губы.jpg"/>
          <p:cNvPicPr/>
          <p:nvPr/>
        </p:nvPicPr>
        <p:blipFill>
          <a:blip r:embed="rId1"/>
          <a:stretch/>
        </p:blipFill>
        <p:spPr>
          <a:xfrm>
            <a:off x="2620800" y="1600200"/>
            <a:ext cx="435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101000" y="0"/>
            <a:ext cx="204300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0" y="4033800"/>
            <a:ext cx="1989000" cy="28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КРОВЕНОСН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54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ся количество эритроцитов  и гемогло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нокардия у курильщиков чаще в 13 ра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аркт миокарда чаще в 13 раз (особенно у лиц до 40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рый инфаркт миокарда ( у курильщиков до 35 лет, у 80% курящих со школьной скамь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рение способствует возникновению атеросклероза, гипертонической болезни, кровоизлияния в моз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87948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img1.jpg (20867 bytes)"/>
          <p:cNvPicPr/>
          <p:nvPr/>
        </p:nvPicPr>
        <p:blipFill>
          <a:blip r:embed="rId2"/>
          <a:stretch/>
        </p:blipFill>
        <p:spPr>
          <a:xfrm>
            <a:off x="5472000" y="2276640"/>
            <a:ext cx="3672000" cy="4348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219640" y="1125360"/>
            <a:ext cx="20224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9240" y="325080"/>
            <a:ext cx="72025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Narrow"/>
              </a:rPr>
              <a:t>ПИЩЕВАРИТЕЛЬНАЯ СИСТЕ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197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кариес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Ухудшается аппетит, обоняние, вкус извращает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Возникают спазмы желудка, кишечника, кишечная непроходимость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(парез)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 кишечника ведет к смерт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Развивается хронический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гастрит, колит, язвенная болезнь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 желудка и 12- перстной кишки (в 10 раз чаще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Приводит к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циррозу</a:t>
            </a:r>
            <a:r>
              <a:rPr b="0" i="1" lang="en-US" sz="27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печени;</a:t>
            </a:r>
            <a:r>
              <a:rPr b="0" i="1" lang="en-US" sz="2700" spc="-1" strike="noStrike">
                <a:solidFill>
                  <a:srgbClr val="993300"/>
                </a:solidFill>
                <a:latin typeface="Arial Narrow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рак полости рта, пищевода, поджелудочной железы</a:t>
            </a:r>
            <a:r>
              <a:rPr b="0" i="1" lang="en-US" sz="27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78520" y="981000"/>
            <a:ext cx="2265480" cy="1941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651720" y="3789360"/>
            <a:ext cx="2492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ВЫДЕЛИТЕЛЬНАЯ СИСТЕМ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 Narrow"/>
              </a:rPr>
              <a:t>Развитие </a:t>
            </a:r>
            <a:r>
              <a:rPr b="1" i="1" lang="en-US" sz="3100" spc="-1" strike="noStrike">
                <a:solidFill>
                  <a:srgbClr val="993300"/>
                </a:solidFill>
                <a:latin typeface="Arial Narrow"/>
              </a:rPr>
              <a:t>хронических болезней почек и мочевого пузыря</a:t>
            </a:r>
            <a:r>
              <a:rPr b="0" i="1" lang="en-US" sz="3100" spc="-1" strike="noStrike">
                <a:solidFill>
                  <a:srgbClr val="000000"/>
                </a:solidFill>
                <a:latin typeface="Arial Narrow"/>
              </a:rPr>
              <a:t>, вплоть до рака мочевого пузыря;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(В моче образуется </a:t>
            </a:r>
            <a:r>
              <a:rPr b="1" i="1" lang="en-US" sz="2700" spc="-1" strike="noStrike">
                <a:solidFill>
                  <a:srgbClr val="000000"/>
                </a:solidFill>
                <a:latin typeface="Arial Narrow"/>
              </a:rPr>
              <a:t>бензапирен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 – канцерогенное химическое соединение, вызывающее рак. Это вещество обнаруживается и у пассивных курильщико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993300"/>
                </a:solidFill>
                <a:latin typeface="Arial Narrow"/>
              </a:rPr>
              <a:t>Рак почек</a:t>
            </a:r>
            <a:r>
              <a:rPr b="0" i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(встречается у курильщиков в 5 раз чаще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62520" y="5029200"/>
            <a:ext cx="9903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Narrow"/>
              </a:rPr>
              <a:t>ОПОРНО-ДВИГАТЕЛЬНАЯ СИСТЕ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гангргене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55920" y="5105520"/>
            <a:ext cx="1738440" cy="1752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49080" y="752040"/>
            <a:ext cx="69944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3300"/>
                </a:solidFill>
                <a:latin typeface="Arial Narrow"/>
              </a:rPr>
              <a:t>Нервная систем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001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 Narrow"/>
              </a:rPr>
              <a:t>Никотин в первой короткой фазе расширяет сосуды мозга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создает обманчивое впечатление улучшения умственной деятельности),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Arial Narrow"/>
              </a:rPr>
              <a:t>затем резко сужают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 Narrow"/>
              </a:rPr>
              <a:t>Отравляет клетки мозга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ухудшается память, зрение, умственная работоспособность, появляется бессонница, головные б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Курящие ученики отстают в учебе, становятся нервными, рассеянными, ленивыми, грубыми и недисциплинирова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 Narrow"/>
              </a:rPr>
              <a:t>Развиваются нервные заболевания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невралгии, невриты, плекситы (заболевания нервных узлов – сплете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64360" y="4149720"/>
            <a:ext cx="197964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14400" y="228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ВЛИЯНИЕ НИКОТИНА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00000" y="260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Курение мешает успешным занятиям спо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Ослабление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памяти и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пониж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концентрации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Отст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в физическом и интеллектуальном развитии от своих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неврозоподобный синдром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, выражающийся в постоянной головной боли, усиливающейся при умственной работе, быстрой утомляемости и пониженной работо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Расстройство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сна и аппет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92360" y="4653000"/>
            <a:ext cx="4103640" cy="1519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372360" y="429264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00"/>
                </a:solidFill>
                <a:latin typeface="Arial Narrow"/>
              </a:rPr>
              <a:t>КУРЕНИЕ помогает нам выглядеть красивее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Кожа”</a:t>
            </a: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 –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преждевременное старение кожи, сухость, землистый оттенок, бледность,  морщины, дряблость. Кожа теряет свою эластичность и свежесть. Женщины-курильщицы в 25 лет выглядят намного старше ровес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Железы внутренней секреции”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– нарушаются нормальные функции всех желез, развивается сахарный диаб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Обмен веществ”</a:t>
            </a: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 –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снижается, развивается витаминная недостато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732720" y="5010120"/>
            <a:ext cx="2266920" cy="1847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867280" y="5661000"/>
            <a:ext cx="682920" cy="755640"/>
          </a:xfrm>
          <a:custGeom>
            <a:avLst/>
            <a:gdLst>
              <a:gd name="textAreaLeft" fmla="*/ 44280 w 682920"/>
              <a:gd name="textAreaRight" fmla="*/ 638640 w 682920"/>
              <a:gd name="textAreaTop" fmla="*/ 44280 h 755640"/>
              <a:gd name="textAreaBottom" fmla="*/ 711360 h 755640"/>
            </a:gdLst>
            <a:ahLst/>
            <a:rect l="textAreaLeft" t="textAreaTop" r="textAreaRight" b="textAreaBottom"/>
            <a:pathLst>
              <a:path w="21600" h="23899">
                <a:moveTo>
                  <a:pt x="0" y="0"/>
                </a:moveTo>
                <a:lnTo>
                  <a:pt x="21600" y="0"/>
                </a:lnTo>
                <a:lnTo>
                  <a:pt x="21600" y="23899"/>
                </a:lnTo>
                <a:lnTo>
                  <a:pt x="0" y="23899"/>
                </a:lnTo>
                <a:close/>
              </a:path>
              <a:path fill="lightenLess" w="21600" h="23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99">
                <a:moveTo>
                  <a:pt x="21600" y="0"/>
                </a:moveTo>
                <a:lnTo>
                  <a:pt x="21600" y="23899"/>
                </a:lnTo>
                <a:lnTo>
                  <a:pt x="20200" y="22499"/>
                </a:lnTo>
                <a:lnTo>
                  <a:pt x="20200" y="1400"/>
                </a:lnTo>
                <a:close/>
              </a:path>
              <a:path fill="darkenLess" w="21600" h="23899">
                <a:moveTo>
                  <a:pt x="21600" y="23899"/>
                </a:moveTo>
                <a:lnTo>
                  <a:pt x="0" y="23899"/>
                </a:lnTo>
                <a:lnTo>
                  <a:pt x="1400" y="22499"/>
                </a:lnTo>
                <a:lnTo>
                  <a:pt x="20200" y="22499"/>
                </a:lnTo>
                <a:close/>
              </a:path>
              <a:path fill="lighten" w="21600" h="23899">
                <a:moveTo>
                  <a:pt x="0" y="23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99"/>
                </a:lnTo>
                <a:close/>
              </a:path>
              <a:path fill="darken" w="21600" h="23899">
                <a:moveTo>
                  <a:pt x="3794" y="8642"/>
                </a:moveTo>
                <a:lnTo>
                  <a:pt x="7301" y="8642"/>
                </a:lnTo>
                <a:lnTo>
                  <a:pt x="7301" y="13977"/>
                </a:lnTo>
                <a:cubicBezTo>
                  <a:pt x="7301" y="14900"/>
                  <a:pt x="8102" y="15631"/>
                  <a:pt x="9138" y="15631"/>
                </a:cubicBezTo>
                <a:lnTo>
                  <a:pt x="10800" y="15631"/>
                </a:lnTo>
                <a:cubicBezTo>
                  <a:pt x="11836" y="15631"/>
                  <a:pt x="12636" y="14900"/>
                  <a:pt x="12636" y="13977"/>
                </a:cubicBezTo>
                <a:lnTo>
                  <a:pt x="12636" y="8642"/>
                </a:lnTo>
                <a:lnTo>
                  <a:pt x="10800" y="8642"/>
                </a:lnTo>
                <a:lnTo>
                  <a:pt x="14308" y="5134"/>
                </a:lnTo>
                <a:lnTo>
                  <a:pt x="17981" y="8642"/>
                </a:lnTo>
                <a:lnTo>
                  <a:pt x="16144" y="8642"/>
                </a:lnTo>
                <a:lnTo>
                  <a:pt x="16144" y="13977"/>
                </a:lnTo>
                <a:cubicBezTo>
                  <a:pt x="16144" y="16745"/>
                  <a:pt x="13568" y="19304"/>
                  <a:pt x="10800" y="19304"/>
                </a:cubicBezTo>
                <a:lnTo>
                  <a:pt x="9138" y="19304"/>
                </a:lnTo>
                <a:cubicBezTo>
                  <a:pt x="6370" y="19304"/>
                  <a:pt x="3794" y="16745"/>
                  <a:pt x="3794" y="13977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ПОЛОВ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423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 Narrow"/>
              </a:rPr>
              <a:t>МУЖ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Курение начатое в любом возрасте, отрицательно влияет на половую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Никотиновая интоксикация в юношеском возрасте - одна из причин будущего </a:t>
            </a:r>
            <a:r>
              <a:rPr b="1" i="1" lang="en-US" sz="3200" spc="-1" strike="noStrike">
                <a:solidFill>
                  <a:srgbClr val="993300"/>
                </a:solidFill>
                <a:latin typeface="Arial Narrow"/>
              </a:rPr>
              <a:t>бесплодия</a:t>
            </a:r>
            <a:r>
              <a:rPr b="0" i="1" lang="en-US" sz="32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48360" y="1900080"/>
            <a:ext cx="37447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993300"/>
                </a:solidFill>
                <a:latin typeface="Arial Narrow"/>
              </a:rPr>
              <a:t>ЖЕНЩИ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амое частое осложнение  -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выкидыш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до 36 недель в 2 раза чаще некуря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Патологи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при ро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ше процент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мертворожденных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ще  других курильщицы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не могут роди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Курящая женщина болеет в 3-4 раза чаще, чем некурящи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70800" y="5248440"/>
            <a:ext cx="203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Рак мат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Беспло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2286000" cy="20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524640"/>
          </a:xfrm>
          <a:prstGeom prst="verticalScroll">
            <a:avLst>
              <a:gd name="adj" fmla="val 701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«Курильщик впускает в свои уста враг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который похищает моз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(английская народная поговор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«От курения тупееш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оно несовместимо с творчес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работ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И.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«Табак … неизбежно ослабляет энерги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Оноре де Бальз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86560" y="520056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00"/>
                </a:solidFill>
                <a:latin typeface="Arial Narrow"/>
              </a:rPr>
              <a:t>КУРЕНИЕ И ЗАРОЖДАЮЩИЙСЯ ОРГАНИЗМ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400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икотин (через плаценту) поступает в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сердце и моз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еще не родившегос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курящих матерей чаще бывают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мертворождения, преждевременные род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ворожденные имеют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меньше норм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размер головы и плечевой пояс, вес на 100 – 300 гр, рост на 2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блюдаются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различные пороки развити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вплоть до уро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816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ДЕТИ КУРИЛЬЩИ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1672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рудное молоко матери-курильщицы может быть причиной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отравле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ворожд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саны случаи «беспричинной»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смер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дных детей, находящихся в задымленном пом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оказано: дети курящих женщин примерно до 11 лет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отстают в физическом и умственном разви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курящих матерей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очти всег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ети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робуют кур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Мать заранее запрограммировала своего ребенка на те же м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семье, где курили родители, начинают курить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67%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мальчиков и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78%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дев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ди, которые в детском возрасте подвергались воздействию табачного дыма, но сами курить не начали, все равно имеют повышенный шанс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(до 60%) заболеть р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461440" y="6102360"/>
            <a:ext cx="682560" cy="75564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55640"/>
              <a:gd name="textAreaBottom" fmla="*/ 711720 h 755640"/>
            </a:gdLst>
            <a:ahLst/>
            <a:rect l="textAreaLeft" t="textAreaTop" r="textAreaRight" b="textAreaBottom"/>
            <a:pathLst>
              <a:path w="21600" h="23911">
                <a:moveTo>
                  <a:pt x="0" y="0"/>
                </a:moveTo>
                <a:lnTo>
                  <a:pt x="21600" y="0"/>
                </a:lnTo>
                <a:lnTo>
                  <a:pt x="21600" y="23911"/>
                </a:lnTo>
                <a:lnTo>
                  <a:pt x="0" y="23911"/>
                </a:lnTo>
                <a:close/>
              </a:path>
              <a:path fill="lightenLess" w="21600" h="239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1">
                <a:moveTo>
                  <a:pt x="21600" y="0"/>
                </a:moveTo>
                <a:lnTo>
                  <a:pt x="21600" y="23911"/>
                </a:lnTo>
                <a:lnTo>
                  <a:pt x="20200" y="22511"/>
                </a:lnTo>
                <a:lnTo>
                  <a:pt x="20200" y="1400"/>
                </a:lnTo>
                <a:close/>
              </a:path>
              <a:path fill="darkenLess" w="21600" h="23911">
                <a:moveTo>
                  <a:pt x="21600" y="23911"/>
                </a:moveTo>
                <a:lnTo>
                  <a:pt x="0" y="23911"/>
                </a:lnTo>
                <a:lnTo>
                  <a:pt x="1400" y="22511"/>
                </a:lnTo>
                <a:lnTo>
                  <a:pt x="20200" y="22511"/>
                </a:lnTo>
                <a:close/>
              </a:path>
              <a:path fill="lighten" w="21600" h="23911">
                <a:moveTo>
                  <a:pt x="0" y="239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1"/>
                </a:lnTo>
                <a:close/>
              </a:path>
              <a:path fill="darken" w="21600" h="23911">
                <a:moveTo>
                  <a:pt x="3794" y="8648"/>
                </a:moveTo>
                <a:lnTo>
                  <a:pt x="7301" y="8648"/>
                </a:lnTo>
                <a:lnTo>
                  <a:pt x="7301" y="13984"/>
                </a:lnTo>
                <a:cubicBezTo>
                  <a:pt x="7301" y="14906"/>
                  <a:pt x="8102" y="15637"/>
                  <a:pt x="9138" y="15637"/>
                </a:cubicBezTo>
                <a:lnTo>
                  <a:pt x="10800" y="15637"/>
                </a:lnTo>
                <a:cubicBezTo>
                  <a:pt x="11836" y="15637"/>
                  <a:pt x="12636" y="14906"/>
                  <a:pt x="12636" y="13984"/>
                </a:cubicBezTo>
                <a:lnTo>
                  <a:pt x="12636" y="8648"/>
                </a:lnTo>
                <a:lnTo>
                  <a:pt x="10800" y="8648"/>
                </a:lnTo>
                <a:lnTo>
                  <a:pt x="14308" y="5141"/>
                </a:lnTo>
                <a:lnTo>
                  <a:pt x="17981" y="8648"/>
                </a:lnTo>
                <a:lnTo>
                  <a:pt x="16144" y="8648"/>
                </a:lnTo>
                <a:lnTo>
                  <a:pt x="16144" y="13984"/>
                </a:lnTo>
                <a:cubicBezTo>
                  <a:pt x="16144" y="16751"/>
                  <a:pt x="13568" y="19310"/>
                  <a:pt x="10800" y="19310"/>
                </a:cubicBezTo>
                <a:lnTo>
                  <a:pt x="9138" y="19310"/>
                </a:lnTo>
                <a:cubicBezTo>
                  <a:pt x="6370" y="19310"/>
                  <a:pt x="3794" y="16751"/>
                  <a:pt x="3794" y="13984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en-US" sz="3400" spc="-1" strike="noStrike">
                <a:solidFill>
                  <a:srgbClr val="993300"/>
                </a:solidFill>
                <a:latin typeface="Arial Narrow"/>
              </a:rPr>
              <a:t>Бросить курить, постепенно уменьшая дозу никотина, невозможно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4400" y="2514240"/>
            <a:ext cx="7340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Вместо того чтобы выкуривать не 10, а 5 сигарет в день, лучше пройти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заместительную никотинотерапию</a:t>
            </a: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0060e"/>
                </a:solidFill>
                <a:latin typeface="Arial Narrow"/>
              </a:rPr>
              <a:t>(в первое время после отказа от курения в организм вводят определенную дозу никотина, снижая выраженность синдрома отме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1739880" cy="1281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75760" y="16765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СЛОЖНО… но м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3300"/>
                </a:solidFill>
                <a:latin typeface="Arial Narrow"/>
              </a:rPr>
              <a:t>ВЫВОД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8172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Болезни,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возникающей только  от  курения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не существу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 Narrow"/>
              </a:rPr>
              <a:t>НО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продукты курения ведут к развитию серьезных и разнообразных заболеваний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амять, умственные способности у курильщика резко снижаются, что ведет к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тставанию в развитии от своих не курящих свер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Организм курильщика изнашивается и стареет значительно раньше,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чем организм некуря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Мотив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28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611280" y="911160"/>
            <a:ext cx="8137440" cy="57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c81a"/>
                </a:solidFill>
                <a:latin typeface="Times New Roman"/>
              </a:rPr>
              <a:t>Составляющие здоровь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0" name="Содержимое 3" descr="2_3 составляющие здоровья.JPG"/>
          <p:cNvPicPr/>
          <p:nvPr/>
        </p:nvPicPr>
        <p:blipFill>
          <a:blip r:embed="rId1"/>
          <a:stretch/>
        </p:blipFill>
        <p:spPr>
          <a:xfrm>
            <a:off x="684360" y="1122480"/>
            <a:ext cx="7991280" cy="565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c81a"/>
                </a:solidFill>
                <a:latin typeface="Times New Roman"/>
              </a:rPr>
              <a:t>Шаг к здоровью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2" name="Содержимое 3" descr="15_шаг к здоровью.JPG"/>
          <p:cNvPicPr/>
          <p:nvPr/>
        </p:nvPicPr>
        <p:blipFill>
          <a:blip r:embed="rId1"/>
          <a:stretch/>
        </p:blipFill>
        <p:spPr>
          <a:xfrm>
            <a:off x="1042920" y="1125360"/>
            <a:ext cx="7489800" cy="528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c81a"/>
                </a:solidFill>
                <a:latin typeface="Times New Roman"/>
              </a:rPr>
              <a:t>Элементы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4" name="Содержимое 3" descr="4_ЗОЖ.JPG"/>
          <p:cNvPicPr/>
          <p:nvPr/>
        </p:nvPicPr>
        <p:blipFill>
          <a:blip r:embed="rId1"/>
          <a:stretch/>
        </p:blipFill>
        <p:spPr>
          <a:xfrm>
            <a:off x="755640" y="1001880"/>
            <a:ext cx="8209080" cy="58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img2.jpg (15310 bytes)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5950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5870520" cy="9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урение - медленное самоубий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Скажи себе : «Н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кращать дурные привычки надо сраз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нятия спортом укрепляют волю, делают человека бодрым, здоровым, отвлекают его от вредных накло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Человек с сильной волей никогда не начнет кур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 причин, связанных с употреблением табака,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умирает каждый пят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Вдумайтесь в эти цифры и фа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Здоровье 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00000" y="2781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ось сигарету! Табачный д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он химических яд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Брось сигарету – тебе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бя отравлять не на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672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c81a"/>
                </a:solidFill>
                <a:latin typeface="Times New Roman"/>
              </a:rPr>
              <a:t>Вопросы о вреде кур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Курение сокращает жиз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Курение позволяет хорошо уч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курящих женщин есть возможность родить здорового ребе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урение помогает вам выглядеть красив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948360" y="4410000"/>
            <a:ext cx="153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Счасть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Мы желаем счастья Вам...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точни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 – ресур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Times New Roman"/>
              </a:rPr>
              <a:t>Мифы о пользе кур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Курящие люди дольше сохраняют стройную фиг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Курево успокаивает нер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На морозе сигареты согре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Курение позволяет быть «продвинуты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804000" y="3645000"/>
            <a:ext cx="175572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21201600">
            <a:off x="774360" y="4927680"/>
            <a:ext cx="59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жно ли бросить курить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Курящие люди дольше сохраняют стройную фигуру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ругом полно дымящих толстя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Притупляя сигаретой чувство голода, вы провоцируете развитие гастрита и язвенной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Худеть с помощью курения – это все равно что привить себе инфекционную болезнь и “таять на глазах” от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1708200" cy="2349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65560" y="384120"/>
            <a:ext cx="491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 Narrow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172360" y="4581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17" h="21600">
                <a:moveTo>
                  <a:pt x="5052" y="10800"/>
                </a:moveTo>
                <a:lnTo>
                  <a:pt x="19065" y="3794"/>
                </a:lnTo>
                <a:lnTo>
                  <a:pt x="1906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 Narrow"/>
              </a:rPr>
              <a:t>Курево успокаивает нер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мпоненты табака (смолы, никотин, дым и т.д.) не расслабляют, а просто “тормозят” важнейшие участки центральной нерв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выкнув к сигарете, человек без нее уже расслабиться не мо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Получается замкнутый круг: и возникновение, и прекращение стресса зависят от ку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24360" y="5084640"/>
            <a:ext cx="2122560" cy="163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65560" y="384120"/>
            <a:ext cx="491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 Narrow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244000" y="4724280"/>
            <a:ext cx="538200" cy="61128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611280"/>
              <a:gd name="textAreaBottom" fmla="*/ 576720 h 611280"/>
            </a:gdLst>
            <a:ahLst/>
            <a:rect l="textAreaLeft" t="textAreaTop" r="textAreaRight" b="textAreaBottom"/>
            <a:pathLst>
              <a:path w="21600" h="24531">
                <a:moveTo>
                  <a:pt x="0" y="0"/>
                </a:moveTo>
                <a:lnTo>
                  <a:pt x="21600" y="0"/>
                </a:lnTo>
                <a:lnTo>
                  <a:pt x="21600" y="24531"/>
                </a:lnTo>
                <a:lnTo>
                  <a:pt x="0" y="24531"/>
                </a:lnTo>
                <a:close/>
              </a:path>
              <a:path fill="lightenLess" w="21600" h="245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1">
                <a:moveTo>
                  <a:pt x="21600" y="0"/>
                </a:moveTo>
                <a:lnTo>
                  <a:pt x="21600" y="24531"/>
                </a:lnTo>
                <a:lnTo>
                  <a:pt x="20200" y="23131"/>
                </a:lnTo>
                <a:lnTo>
                  <a:pt x="20200" y="1400"/>
                </a:lnTo>
                <a:close/>
              </a:path>
              <a:path fill="darkenLess" w="21600" h="24531">
                <a:moveTo>
                  <a:pt x="21600" y="24531"/>
                </a:moveTo>
                <a:lnTo>
                  <a:pt x="0" y="24531"/>
                </a:lnTo>
                <a:lnTo>
                  <a:pt x="1400" y="23131"/>
                </a:lnTo>
                <a:lnTo>
                  <a:pt x="20200" y="23131"/>
                </a:lnTo>
                <a:close/>
              </a:path>
              <a:path fill="lighten" w="21600" h="24531">
                <a:moveTo>
                  <a:pt x="0" y="245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1"/>
                </a:lnTo>
                <a:close/>
              </a:path>
              <a:path fill="darken" w="21600" h="24531">
                <a:moveTo>
                  <a:pt x="3794" y="12266"/>
                </a:moveTo>
                <a:lnTo>
                  <a:pt x="17806" y="5259"/>
                </a:lnTo>
                <a:lnTo>
                  <a:pt x="17806" y="1927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 Narrow"/>
              </a:rPr>
              <a:t>На морозе сигарета согревает?</a:t>
            </a:r>
            <a:r>
              <a:rPr b="0" i="1" lang="en-US" sz="3200" spc="-1" strike="noStrike">
                <a:solidFill>
                  <a:srgbClr val="20060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Табачный дым создает кратковременный согревающий эффект (содержащиеся в нем яды сужают сосуды, увеличивают частоту пульса и повышают кровя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Стоит ли так "“греться"” чтобы получить взамен как минимум гиперто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35280" y="4497480"/>
            <a:ext cx="2448000" cy="2360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65560" y="384120"/>
            <a:ext cx="491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 Narrow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948360" y="4149720"/>
            <a:ext cx="611280" cy="647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47640"/>
              <a:gd name="textAreaBottom" fmla="*/ 608040 h 647640"/>
            </a:gdLst>
            <a:ahLst/>
            <a:rect l="textAreaLeft" t="textAreaTop" r="textAreaRight" b="textAreaBottom"/>
            <a:pathLst>
              <a:path w="21600" h="22884">
                <a:moveTo>
                  <a:pt x="0" y="0"/>
                </a:moveTo>
                <a:lnTo>
                  <a:pt x="21600" y="0"/>
                </a:lnTo>
                <a:lnTo>
                  <a:pt x="21600" y="22884"/>
                </a:lnTo>
                <a:lnTo>
                  <a:pt x="0" y="22884"/>
                </a:lnTo>
                <a:close/>
              </a:path>
              <a:path fill="lightenLess" w="21600" h="228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84">
                <a:moveTo>
                  <a:pt x="21600" y="0"/>
                </a:moveTo>
                <a:lnTo>
                  <a:pt x="21600" y="22884"/>
                </a:lnTo>
                <a:lnTo>
                  <a:pt x="20200" y="21484"/>
                </a:lnTo>
                <a:lnTo>
                  <a:pt x="20200" y="1400"/>
                </a:lnTo>
                <a:close/>
              </a:path>
              <a:path fill="darkenLess" w="21600" h="22884">
                <a:moveTo>
                  <a:pt x="21600" y="22884"/>
                </a:moveTo>
                <a:lnTo>
                  <a:pt x="0" y="22884"/>
                </a:lnTo>
                <a:lnTo>
                  <a:pt x="1400" y="21484"/>
                </a:lnTo>
                <a:lnTo>
                  <a:pt x="20200" y="21484"/>
                </a:lnTo>
                <a:close/>
              </a:path>
              <a:path fill="lighten" w="21600" h="22884">
                <a:moveTo>
                  <a:pt x="0" y="228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84"/>
                </a:lnTo>
                <a:close/>
              </a:path>
              <a:path fill="darken" w="21600" h="22884">
                <a:moveTo>
                  <a:pt x="3794" y="11442"/>
                </a:moveTo>
                <a:lnTo>
                  <a:pt x="17806" y="4436"/>
                </a:lnTo>
                <a:lnTo>
                  <a:pt x="17806" y="1844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 Narrow"/>
              </a:rPr>
              <a:t>Сигареты с пометкой “легкие” не так вредны, как обычны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Постоянно используя легкие сигареты, курильщики затягиваются чаще и глубже, что может привести к заболеванию раком не самих легких, а так называемой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легочной периферии</a:t>
            </a: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 – альвеол и малых брон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41720" y="4221000"/>
            <a:ext cx="1530360" cy="244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 Narrow"/>
              </a:rPr>
              <a:t>МИФЫ О КУРЕН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7740720" y="393372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10800"/>
                </a:moveTo>
                <a:lnTo>
                  <a:pt x="23174" y="3794"/>
                </a:lnTo>
                <a:lnTo>
                  <a:pt x="2317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15:54Z</dcterms:created>
  <dc:creator>www.PHILka.RU</dc:creator>
  <dc:description/>
  <dc:language>en-US</dc:language>
  <cp:lastModifiedBy>Admin</cp:lastModifiedBy>
  <dcterms:modified xsi:type="dcterms:W3CDTF">2012-02-23T14:08:12Z</dcterms:modified>
  <cp:revision>31</cp:revision>
  <dc:subject/>
  <dc:title>Слайд 1</dc:title>
</cp:coreProperties>
</file>