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C49-4400-445F-81F9-24A9BBF3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426-53A8-481E-9B7F-2D97D3A3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807-0D54-42B6-A0F3-F97DCDDE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664-C576-4F2F-AB70-71848A1D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BD67-7AEF-4CEF-B1B9-DF9EAE26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A1BC-4EE5-4DC4-8AD1-3D2108BB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C7E6-437F-4D46-8E83-45C5AC2F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BE7A-FDBC-4E52-BD10-87D74A1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F4D1-E54F-4D5E-BF18-9AC2C814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C2B1-292B-4A7C-932E-5B0A9C5F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AD66-F335-4FD8-9B85-48994BC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382-6CA7-4056-BA2A-AA11D3C6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06AF-5C00-40D6-BDEB-08304A0B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D205-B2F6-4B54-97F3-89A2492E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764A-8B98-40BD-B32D-B0BEB4F2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6A1F-EF49-4ADC-BDB2-919AE31C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314B-9257-4856-8C2A-363D6FAF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110B-1F12-4312-8E4B-75A145C4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7897-ECAD-4C16-B5DF-CBAD5775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E40A-7B87-4E9C-970A-D9040B54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55CA-2A38-48E8-A35D-2479F436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0167-C835-41D5-944C-731155E2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03E-5F93-496E-8F31-35464D2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5276-9CAF-4772-873D-0CCB9A31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1AF5-C154-44F8-9F96-BCCBD90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701E-E56C-41CE-91BE-92CEC564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890D-6666-4337-A1A1-C4614E5F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FEB0-7598-4C07-AD9C-7F2E0DD3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EA7A-378C-4E2B-A3DA-79F60A0F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FE063-FD4A-4A8D-8D73-D2881164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FB72-020A-4B5B-801C-667D58CF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27FC-182D-4E91-A25A-699AF911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D831-449A-435A-9E53-8E9C65C7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112-4B50-4901-8C08-7A1CFD79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C3A6-91E2-47EC-828E-73C19EB3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7F09-76FE-4268-ACDC-F773F7A4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5521-18DD-45DC-9611-A98E023F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01BF-99DA-4CBF-A06D-8F7153A4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354E-D03D-41E8-B670-26973478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CFAE-B8C0-4B8F-870D-87BDF991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F8971-12F2-4FF7-A094-6957E7E4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49D3-B53E-451C-BDCD-4D571DCD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3CE8A-443B-4B71-86B1-965C9D0E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855-8E77-43A9-ABAE-6F00C10E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1AF-2222-42FB-B0E2-4B06BA8F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5F1-BF13-4DFA-966F-DFEEBC1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3BA-DE04-44AB-970D-C10435AA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B00-F98E-46BA-AE3F-C7C3B334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mbr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36AD-CB50-45A4-9D3B-7AC48E930FF5}" type="slidenum">
              <a:rPr b="0" lang="ru-RU" sz="1200" spc="-1" strike="noStrike">
                <a:solidFill>
                  <a:srgbClr val="565e72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mbr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0E82-5332-4B73-937F-AD5BEAC2882A}" type="slidenum">
              <a:rPr b="0" lang="ru-RU" sz="1200" spc="-1" strike="noStrike">
                <a:solidFill>
                  <a:srgbClr val="cacacc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mbr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C612-0383-4EAD-8F12-5A4734AD64F1}" type="slidenum">
              <a:rPr b="0" lang="ru-RU" sz="1200" spc="-1" strike="noStrike">
                <a:solidFill>
                  <a:srgbClr val="cacacc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mbr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27D9-7B46-4C5A-B6F6-2270E05A9CED}" type="slidenum">
              <a:rPr b="0" lang="ru-RU" sz="1200" spc="-1" strike="noStrike">
                <a:solidFill>
                  <a:srgbClr val="565e72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64560" cy="2571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>
            <a:grayscl/>
          </a:blip>
          <a:srcRect l="0" t="-1615" r="-18180" b="51021"/>
          <a:stretch/>
        </p:blipFill>
        <p:spPr>
          <a:xfrm>
            <a:off x="1143000" y="0"/>
            <a:ext cx="66261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5a6378"/>
              </a:solidFill>
              <a:latin typeface="Cambr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428480"/>
            <a:ext cx="525780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71760" y="1499760"/>
            <a:ext cx="26146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ambria"/>
              </a:rPr>
              <a:t>Храм Ники Аптерос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ambria"/>
              </a:rPr>
              <a:t>Последняя четверть </a:t>
            </a:r>
            <a:r>
              <a:rPr b="1" i="1" lang="en-US" sz="2000" spc="-1" strike="noStrike">
                <a:solidFill>
                  <a:srgbClr val="0066ff"/>
                </a:solidFill>
                <a:latin typeface="Rockwell"/>
              </a:rPr>
              <a:t>V</a:t>
            </a:r>
            <a:r>
              <a:rPr b="1" i="1" lang="ru-RU" sz="2000" spc="-1" strike="noStrike">
                <a:solidFill>
                  <a:srgbClr val="0066ff"/>
                </a:solidFill>
                <a:latin typeface="Cambria"/>
              </a:rPr>
              <a:t> в. до н. э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ambria"/>
              </a:rPr>
              <a:t>Мрамор, высота колоны – 4,04 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ambria"/>
              </a:rPr>
              <a:t>Афины, Акрополь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4665" t="0" r="4665" b="0"/>
          <a:stretch/>
        </p:blipFill>
        <p:spPr>
          <a:xfrm>
            <a:off x="0" y="622440"/>
            <a:ext cx="5786280" cy="6262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214200" y="94608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25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66ff"/>
                </a:solidFill>
                <a:uFillTx/>
                <a:latin typeface="Arial"/>
                <a:ea typeface="Times New Roman"/>
              </a:rPr>
              <a:t>1) Храм Ники Аптерос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. Построенный около 425 года до н. э. храм Ники Аптерос – одно из красивейших сооружений – располагается у входа на афинский акрополь, на большом, около 9 метров высотой, каменном основании. Имеет по четыре колонны с западной и восточной сторон и глухие стены с юга и севера. В небольшом внутреннем помещении стояла статуя богини Победы – Ника. Предание сообщает, что Ника была изваяна без крыльев, так как афиняне хотели, чтобы Победа всегда оставалась с ними и не могла улететь из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5a6378"/>
              </a:solidFill>
              <a:latin typeface="Cambr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142640"/>
            <a:ext cx="5186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215040" y="785520"/>
            <a:ext cx="24717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Парфенон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447 – 438 гг. до н. э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Пентеллийский мрамор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Высота колонны – 10,43 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Афин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Акрополь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>
            <a:grayscl/>
          </a:blip>
          <a:srcRect l="4708" t="0" r="4708" b="0"/>
          <a:stretch/>
        </p:blipFill>
        <p:spPr>
          <a:xfrm>
            <a:off x="357120" y="714240"/>
            <a:ext cx="5380200" cy="592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214200" y="73296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25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2) Прославленный памятник древности, </a:t>
            </a:r>
            <a:r>
              <a:rPr b="0" i="1" lang="ru-RU" sz="2000" spc="-1" strike="noStrike" u="sng">
                <a:solidFill>
                  <a:srgbClr val="0066ff"/>
                </a:solidFill>
                <a:uFillTx/>
                <a:latin typeface="Arial"/>
                <a:ea typeface="Times New Roman"/>
              </a:rPr>
              <a:t>храм Афины-Парфенон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, был воздвигнут в середине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 века до н. э. на афинском Акрополе. Парфенон считается, прежде всего, земной обителью Афины, статуя которой находилась внутри него. Жертвоприношения и поклонения богине совершались перед входом в храм. В храме Афины по восемь колонн на торцах и по семнадцать на боковых сторонах. Мастера стремились создать впечатление, что храм возник естественно, без человеческих усилий, по воле природы, с которой еще в древности у греков отождествлялись божества. В постройке, как в человеческом теле, нет ни прямых линий, ни ровных поверхностей: все линии слегка изогнуты, плоскости чуть выпуклы или вогнуты, оси колонн, при мысленном их продолжении вверх, пересекаются в одной точке на высоте двух километров. Парфенон кажется естественно и органично выросшим на высокой скале Акро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5a6378"/>
              </a:solidFill>
              <a:latin typeface="Cambr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2640"/>
            <a:ext cx="5186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71760" y="1213920"/>
            <a:ext cx="26146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Пергамский алтарь Зевс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(Реконструкция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Rockwell"/>
              </a:rPr>
              <a:t>II</a:t>
            </a: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 в. до н. э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Вид левого крыла цокол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Высота – 2,30 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mbria"/>
              </a:rPr>
              <a:t>Общая длина – 120 м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5643360" cy="6041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14200" y="1226160"/>
            <a:ext cx="8572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25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66ff"/>
                </a:solidFill>
                <a:uFillTx/>
                <a:latin typeface="Arial"/>
                <a:ea typeface="Times New Roman"/>
              </a:rPr>
              <a:t>3) Пергамский алтарь Зевса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 в. до н. э.). Акрополь Пергама с его постройками, располагавшимися на высокой скале, всем своим обликом отличался от Акрополя Афин с его сооружениями, занимавшими относительно ровную площадку холма. Алтарь Зевса в Пергаме стоял на большой площадке, откуда открывался вид на малоазийские холмы и далекое побережье Эгейского моря. Он представлял собой П-образную в плане постройку с жертвенником на возвышении в центре, к которому вела широкая лестница. Цоколь был украшен рельефами, изображавшими битву богов и гига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4" descr=""/>
          <p:cNvPicPr/>
          <p:nvPr/>
        </p:nvPicPr>
        <p:blipFill>
          <a:blip r:embed="rId1"/>
          <a:stretch/>
        </p:blipFill>
        <p:spPr>
          <a:xfrm>
            <a:off x="530280" y="353880"/>
            <a:ext cx="7864560" cy="2060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71320" y="2857320"/>
            <a:ext cx="7854840" cy="2842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Cambria"/>
              </a:rPr>
              <a:t>1. Указать прямоугольный треугольник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Cambria"/>
              </a:rPr>
              <a:t>2. Записать для него теорему Пифагора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Cambria"/>
              </a:rPr>
              <a:t>3. Выразить неизвестную сторону через две другие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Cambria"/>
              </a:rPr>
              <a:t>4. Подставив известные значения, вычислить неизвестную сторону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11:02Z</dcterms:created>
  <dc:creator>FuckYouBill</dc:creator>
  <dc:description/>
  <dc:language>en-US</dc:language>
  <cp:lastModifiedBy>FuckYouBill</cp:lastModifiedBy>
  <dcterms:modified xsi:type="dcterms:W3CDTF">2012-02-23T12:59:53Z</dcterms:modified>
  <cp:revision>23</cp:revision>
  <dc:subject/>
  <dc:title>Теорема Пифагора</dc:title>
</cp:coreProperties>
</file>