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2B1-6795-4B07-BE47-16197090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677-3E73-47D5-AFCA-7B7C051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9BA-1917-4781-812B-41427973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10F-5D9D-48C4-A85A-564541EF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BD8B-5543-4003-9889-5E61EF16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B0F-9FDB-4821-8D76-49D6A97B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70A9-B7D4-44D5-8280-DEF29FFB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503-3660-445B-8678-81E27FE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93AC-9B24-4D3A-98A5-974DD2A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29BE-FE24-46FF-9B59-243EEEF4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7223-1028-4ABB-A1EF-036032F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236-8E9C-4785-AF67-FBFC572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3476-877F-4DBE-99C2-5323C71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E35-46D2-4431-A2B7-B55DFA9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A607-8C9D-413D-83B3-3FFA3E1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D4B9-82BC-4E76-A644-AEDB1F2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849-F1F6-4E11-B0CE-E8395ACB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6C7-3743-4F52-B690-9B07138F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13F-672A-462C-9969-066F5DE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E69-4857-41CE-8CD0-0807022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CBC-F3DC-43A3-8413-128B43D7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DA9-1CE0-4ACB-AB38-9402023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FF8-8378-4946-B202-38BE17B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CD-3AED-4F84-BCD8-AE5D288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31B-BAAA-4563-891C-5925FB924B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62C2-3031-41F9-9DA1-1BE55DE542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7040" y="404640"/>
            <a:ext cx="78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bat"/>
              </a:rPr>
              <a:t>ПРИРОДНЫЕ ИСТОЧНИКИ УГЛЕВОДОРОДОВ</a:t>
            </a:r>
            <a:r>
              <a:rPr b="1" i="1" lang="ru-RU" sz="2400" spc="-1" strike="noStrike">
                <a:solidFill>
                  <a:srgbClr val="000099"/>
                </a:solidFill>
                <a:latin typeface="Arba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сторические 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фть известна человечеству с давних времен. Как показали археологические раскопки, на берегу Евфрата она добывалась 6-7 тыс. лет до н. э.  Нефть использовалась  для освещения жилищ, добавлялась в состав  для бальзамирования тру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ита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урение было известно ещё в XVIII в. до нашей эры. Для ее добычи строились нефтяные колодцы. Китайцы употребляли нефть для освещения, как лекарство и в военных целях. Китайские воины из “огненных повозок” бросали горшки с горящей нефтью в ряды вра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VII веке н. э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изантий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здали так называемый “греческий огонь”. В одном из многочисленных рецептов, которые греки хранили в глубочайшей тайне, написано "Возьми чистую серу, нефть, смолу, поваренную соль, деревянное масло; хорошенько провари все вместе, пропитай этим составом паклю и подожги. Такой огонь можно погасить только песком". В средние века она использовалась главным образом для освещения улиц. В ХV веке в Париже появились первые асфальтированные улицы. Главное, нефть стали использовать для керосиновых ламп, для заделывания щелей и смоления суд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 нефт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24360" y="1651320"/>
            <a:ext cx="2849760" cy="2571480"/>
            <a:chOff x="5724360" y="1651320"/>
            <a:chExt cx="2849760" cy="2571480"/>
          </a:xfrm>
        </p:grpSpPr>
        <p:sp>
          <p:nvSpPr>
            <p:cNvPr id="150" name="_s266263"/>
            <p:cNvSpPr/>
            <p:nvPr/>
          </p:nvSpPr>
          <p:spPr>
            <a:xfrm flipV="1">
              <a:off x="6236640" y="1650960"/>
              <a:ext cx="1814040" cy="505800"/>
            </a:xfrm>
            <a:custGeom>
              <a:avLst/>
              <a:gdLst>
                <a:gd name="textAreaLeft" fmla="*/ 222120 w 1814040"/>
                <a:gd name="textAreaRight" fmla="*/ 1591920 w 1814040"/>
                <a:gd name="textAreaTop" fmla="*/ 61920 h 505800"/>
                <a:gd name="textAreaBottom" fmla="*/ 443880 h 5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84" y="21600"/>
                  </a:lnTo>
                  <a:lnTo>
                    <a:pt x="1616" y="21600"/>
                  </a:lnTo>
                  <a:close/>
                </a:path>
              </a:pathLst>
            </a:custGeom>
            <a:solidFill>
              <a:srgbClr val="669999">
                <a:alpha val="50000"/>
              </a:srgbClr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0,01-4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266264"/>
            <p:cNvSpPr/>
            <p:nvPr/>
          </p:nvSpPr>
          <p:spPr>
            <a:xfrm flipV="1">
              <a:off x="6086880" y="2156760"/>
              <a:ext cx="2116080" cy="549720"/>
            </a:xfrm>
            <a:custGeom>
              <a:avLst/>
              <a:gdLst>
                <a:gd name="textAreaLeft" fmla="*/ 235800 w 2116080"/>
                <a:gd name="textAreaRight" fmla="*/ 1880280 w 2116080"/>
                <a:gd name="textAreaTop" fmla="*/ 61200 h 549720"/>
                <a:gd name="textAreaBottom" fmla="*/ 488520 h 54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16" y="21600"/>
                  </a:lnTo>
                  <a:lnTo>
                    <a:pt x="1184" y="21600"/>
                  </a:lnTo>
                  <a:close/>
                </a:path>
              </a:pathLst>
            </a:custGeom>
            <a:solidFill>
              <a:srgbClr val="6666cc">
                <a:alpha val="50000"/>
              </a:srgbClr>
            </a:solidFill>
            <a:ln w="5724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 -0,3-3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66265"/>
            <p:cNvSpPr/>
            <p:nvPr/>
          </p:nvSpPr>
          <p:spPr>
            <a:xfrm flipV="1">
              <a:off x="5922000" y="2682000"/>
              <a:ext cx="2417400" cy="505440"/>
            </a:xfrm>
            <a:custGeom>
              <a:avLst/>
              <a:gdLst>
                <a:gd name="textAreaLeft" fmla="*/ 266400 w 2417400"/>
                <a:gd name="textAreaRight" fmla="*/ 2151000 w 2417400"/>
                <a:gd name="textAreaTop" fmla="*/ 55440 h 505440"/>
                <a:gd name="textAreaBottom" fmla="*/ 450000 h 50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66" y="21600"/>
                  </a:lnTo>
                  <a:lnTo>
                    <a:pt x="1134" y="21600"/>
                  </a:lnTo>
                  <a:close/>
                </a:path>
              </a:pathLst>
            </a:custGeom>
            <a:solidFill>
              <a:srgbClr val="996666">
                <a:alpha val="50000"/>
              </a:srgbClr>
            </a:solidFill>
            <a:ln w="57240">
              <a:solidFill>
                <a:srgbClr val="99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О- 0,1-1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266266"/>
            <p:cNvSpPr/>
            <p:nvPr/>
          </p:nvSpPr>
          <p:spPr>
            <a:xfrm flipV="1">
              <a:off x="5807520" y="3196800"/>
              <a:ext cx="2670840" cy="554400"/>
            </a:xfrm>
            <a:custGeom>
              <a:avLst/>
              <a:gdLst>
                <a:gd name="textAreaLeft" fmla="*/ 281880 w 2670840"/>
                <a:gd name="textAreaRight" fmla="*/ 2388960 w 2670840"/>
                <a:gd name="textAreaTop" fmla="*/ 58320 h 554400"/>
                <a:gd name="textAreaBottom" fmla="*/ 496080 h 55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45" y="21600"/>
                  </a:lnTo>
                  <a:lnTo>
                    <a:pt x="955" y="21600"/>
                  </a:ln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Н -12-14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266267"/>
            <p:cNvSpPr/>
            <p:nvPr/>
          </p:nvSpPr>
          <p:spPr>
            <a:xfrm flipV="1">
              <a:off x="5724360" y="3715920"/>
              <a:ext cx="2849760" cy="506880"/>
            </a:xfrm>
            <a:custGeom>
              <a:avLst/>
              <a:gdLst>
                <a:gd name="textAreaLeft" fmla="*/ 286560 w 2849760"/>
                <a:gd name="textAreaRight" fmla="*/ 2563200 w 2849760"/>
                <a:gd name="textAreaTop" fmla="*/ 50760 h 506880"/>
                <a:gd name="textAreaBottom" fmla="*/ 45612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36" y="21600"/>
                  </a:lnTo>
                  <a:lnTo>
                    <a:pt x="764" y="2160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720" rIns="63720" tIns="31680" bIns="31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 -83-87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32764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68360" y="404640"/>
            <a:ext cx="7603560" cy="4921560"/>
            <a:chOff x="468360" y="404640"/>
            <a:chExt cx="7603560" cy="4921560"/>
          </a:xfrm>
        </p:grpSpPr>
        <p:cxnSp>
          <p:nvCxnSpPr>
            <p:cNvPr id="157" name="_s269318"/>
            <p:cNvCxnSpPr>
              <a:stCxn id="158" idx="1"/>
            </p:cNvCxnSpPr>
            <p:nvPr/>
          </p:nvCxnSpPr>
          <p:spPr>
            <a:xfrm flipV="1">
              <a:off x="5578560" y="2923560"/>
              <a:ext cx="1153800" cy="2174040"/>
            </a:xfrm>
            <a:prstGeom prst="bentConnector4">
              <a:avLst>
                <a:gd name="adj1" fmla="val 180181"/>
                <a:gd name="adj2" fmla="val 86916"/>
              </a:avLst>
            </a:prstGeom>
            <a:ln w="28440">
              <a:solidFill>
                <a:srgbClr val="669999"/>
              </a:solidFill>
              <a:miter/>
            </a:ln>
          </p:spPr>
        </p:cxnSp>
        <p:cxnSp>
          <p:nvCxnSpPr>
            <p:cNvPr id="159" name="_s269319"/>
            <p:cNvCxnSpPr/>
            <p:nvPr/>
          </p:nvCxnSpPr>
          <p:spPr>
            <a:xfrm rot="5400000">
              <a:off x="6047640" y="3394080"/>
              <a:ext cx="937440" cy="432720"/>
            </a:xfrm>
            <a:prstGeom prst="bentConnector3">
              <a:avLst>
                <a:gd name="adj1" fmla="val 7260"/>
              </a:avLst>
            </a:prstGeom>
            <a:ln w="28440">
              <a:solidFill>
                <a:srgbClr val="669999"/>
              </a:solidFill>
              <a:miter/>
            </a:ln>
          </p:spPr>
        </p:cxnSp>
        <p:cxnSp>
          <p:nvCxnSpPr>
            <p:cNvPr id="160" name="_s269320"/>
            <p:cNvCxnSpPr>
              <a:stCxn id="161" idx="0"/>
            </p:cNvCxnSpPr>
            <p:nvPr/>
          </p:nvCxnSpPr>
          <p:spPr>
            <a:xfrm flipH="1" flipV="1" rot="5400000">
              <a:off x="3993480" y="1292760"/>
              <a:ext cx="864360" cy="4703400"/>
            </a:xfrm>
            <a:prstGeom prst="bentConnector2">
              <a:avLst/>
            </a:prstGeom>
            <a:ln w="28440">
              <a:solidFill>
                <a:srgbClr val="669999"/>
              </a:solidFill>
              <a:miter/>
            </a:ln>
          </p:spPr>
        </p:cxnSp>
        <p:cxnSp>
          <p:nvCxnSpPr>
            <p:cNvPr id="162" name="_s269321"/>
            <p:cNvCxnSpPr>
              <a:stCxn id="163" idx="2"/>
            </p:cNvCxnSpPr>
            <p:nvPr/>
          </p:nvCxnSpPr>
          <p:spPr>
            <a:xfrm flipV="1" rot="16200000">
              <a:off x="4191480" y="3519720"/>
              <a:ext cx="673920" cy="59040"/>
            </a:xfrm>
            <a:prstGeom prst="bentConnector5">
              <a:avLst>
                <a:gd name="adj1" fmla="val 3046"/>
                <a:gd name="adj2" fmla="val 85889"/>
                <a:gd name="adj3" fmla="val 83912"/>
              </a:avLst>
            </a:prstGeom>
            <a:ln w="28440">
              <a:solidFill>
                <a:srgbClr val="669999"/>
              </a:solidFill>
              <a:miter/>
            </a:ln>
          </p:spPr>
        </p:cxnSp>
        <p:cxnSp>
          <p:nvCxnSpPr>
            <p:cNvPr id="164" name="_s269322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229000" y="678600"/>
              <a:ext cx="1008720" cy="204444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669999"/>
              </a:solidFill>
              <a:miter/>
            </a:ln>
          </p:spPr>
        </p:cxnSp>
        <p:cxnSp>
          <p:nvCxnSpPr>
            <p:cNvPr id="167" name="_s269323"/>
            <p:cNvCxnSpPr>
              <a:stCxn id="168" idx="0"/>
              <a:endCxn id="166" idx="2"/>
            </p:cNvCxnSpPr>
            <p:nvPr/>
          </p:nvCxnSpPr>
          <p:spPr>
            <a:xfrm flipH="1" flipV="1" rot="5400000">
              <a:off x="3119760" y="613080"/>
              <a:ext cx="1008720" cy="217548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669999"/>
              </a:solidFill>
              <a:miter/>
            </a:ln>
          </p:spPr>
        </p:cxnSp>
        <p:sp>
          <p:nvSpPr>
            <p:cNvPr id="166" name="_s269324"/>
            <p:cNvSpPr/>
            <p:nvPr/>
          </p:nvSpPr>
          <p:spPr>
            <a:xfrm>
              <a:off x="2340360" y="404640"/>
              <a:ext cx="4741560" cy="79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6666"/>
              </a:solidFill>
              <a:miter/>
            </a:ln>
            <a:effectLst>
              <a:outerShdw dist="63504" dir="19383909" blurRad="0" rotWithShape="0">
                <a:srgbClr val="99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Переработка неф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269325"/>
            <p:cNvSpPr/>
            <p:nvPr/>
          </p:nvSpPr>
          <p:spPr>
            <a:xfrm>
              <a:off x="1047240" y="2205000"/>
              <a:ext cx="2976840" cy="71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66cc"/>
              </a:solidFill>
              <a:miter/>
            </a:ln>
            <a:effectLst>
              <a:outerShdw dist="63504" dir="19383909" blurRad="0" rotWithShape="0">
                <a:srgbClr val="6666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перегонк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269326"/>
            <p:cNvSpPr/>
            <p:nvPr/>
          </p:nvSpPr>
          <p:spPr>
            <a:xfrm>
              <a:off x="5509080" y="2205000"/>
              <a:ext cx="2493720" cy="7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666cc"/>
              </a:solidFill>
              <a:miter/>
            </a:ln>
            <a:effectLst>
              <a:outerShdw dist="63504" dir="19383909" blurRad="0" rotWithShape="0">
                <a:srgbClr val="6666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торич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269327"/>
            <p:cNvSpPr/>
            <p:nvPr/>
          </p:nvSpPr>
          <p:spPr>
            <a:xfrm>
              <a:off x="3634920" y="3429000"/>
              <a:ext cx="1845360" cy="4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99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екин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_s269328"/>
            <p:cNvSpPr/>
            <p:nvPr/>
          </p:nvSpPr>
          <p:spPr>
            <a:xfrm>
              <a:off x="468360" y="4076640"/>
              <a:ext cx="3211200" cy="432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99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иролиз нефтепродук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269329"/>
            <p:cNvSpPr/>
            <p:nvPr/>
          </p:nvSpPr>
          <p:spPr>
            <a:xfrm>
              <a:off x="3923640" y="4076640"/>
              <a:ext cx="3381120" cy="457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99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дроочистка нефтепродук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_s269330"/>
            <p:cNvSpPr/>
            <p:nvPr/>
          </p:nvSpPr>
          <p:spPr>
            <a:xfrm>
              <a:off x="5579640" y="4869000"/>
              <a:ext cx="2492280" cy="457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99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иформин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как нефть – сложная смесь природных углеводородов различной молекулярной массы, то первичная переработка – э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гон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фти, которая позволяет разделить нефть на отдельные фракции в соответствии с температурой кипения углеводород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imes New Roman"/>
              </a:rPr>
              <a:t>Перегонка (ректификация) нефт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гон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ктифик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снована на разнице температур кипения углеводородов, входящих в состав нефти, т.е. перегонка – физический процесс, с углеводородами не происходят химические прев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ектифик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фракционная переработка) – это физический способ разделения смеси компонентов, основанный на различии их температур кип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339920"/>
          <a:ext cx="705636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705636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30360" y="3567240"/>
          <a:ext cx="2138400" cy="85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3567240"/>
                    <a:ext cx="21384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484360" y="6254640"/>
          <a:ext cx="122400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6254640"/>
                    <a:ext cx="12240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30360" y="2335320"/>
          <a:ext cx="233820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360" y="2335320"/>
                    <a:ext cx="23382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68360" y="1484280"/>
          <a:ext cx="196236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1484280"/>
                    <a:ext cx="1962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5013360"/>
          <a:ext cx="23050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280" y="5013360"/>
                    <a:ext cx="2305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508720" y="1268280"/>
          <a:ext cx="248436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08720" y="1268280"/>
                    <a:ext cx="2484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987640" y="2997360"/>
            <a:ext cx="1009800" cy="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4437000"/>
            <a:ext cx="431640" cy="28908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1773360"/>
            <a:ext cx="431640" cy="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0360" y="5876640"/>
            <a:ext cx="216000" cy="36036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796000" y="1773360"/>
            <a:ext cx="216000" cy="50328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263700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рючее для автомобил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самолет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творитель масел и каучу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335772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ырье для хим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4797360"/>
            <a:ext cx="194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рючее для дизе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виг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38606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рючее для тракто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активных двиг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3068640"/>
            <a:ext cx="1511280" cy="287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НЗИН 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2781360"/>
            <a:ext cx="720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-15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213000"/>
            <a:ext cx="720720" cy="43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-25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3429000"/>
            <a:ext cx="1368360" cy="287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ГРОИН 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716280"/>
            <a:ext cx="720720" cy="28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87240" y="37162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0-30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3860640"/>
            <a:ext cx="1366920" cy="289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ОСИН 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4508640"/>
            <a:ext cx="79236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5-40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4941720"/>
            <a:ext cx="1439640" cy="28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ЗОЙЛЬ 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6453360"/>
            <a:ext cx="865080" cy="404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З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537372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ляровое масло, смазочные масла, вазелин, парафин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80536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Топливо для электростанций, кораблей,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ырье для производства  масе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300720" y="6021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6237360"/>
            <a:ext cx="24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6021360"/>
            <a:ext cx="1871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Твердый остаток – гудро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продукты его пере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итум и асфа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2060640"/>
            <a:ext cx="208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ход бенз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17-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227280" y="2492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652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6858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66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725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725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225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225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225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225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725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725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725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725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725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9725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25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25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1725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225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725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3725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4225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4725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225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725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725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7225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8225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9225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9725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725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65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615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715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765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Заполните таблиц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5000" y="1279800"/>
            <a:ext cx="690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дукты фракционной перегонки неф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14360" y="2239920"/>
          <a:ext cx="8315280" cy="3200400"/>
        </p:xfrm>
        <a:graphic>
          <a:graphicData uri="http://schemas.openxmlformats.org/drawingml/2006/table">
            <a:tbl>
              <a:tblPr/>
              <a:tblGrid>
                <a:gridCol w="4175280"/>
                <a:gridCol w="1158840"/>
                <a:gridCol w="1073160"/>
                <a:gridCol w="19080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фра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кип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тификационные га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линовая фракция (бензи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гроиновая фр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росиновая фр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ельное топл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з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План урок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10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ие о углеводоро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ный и попутный нефтяно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ф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менный уг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использования углеводородного сыр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Бензин –наиболее ценная фракция перегонки неф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778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НЗИ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франц. benzine), смесь легких углеводородов с  t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кип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30-205 °C; прозрачная жидкость, плотность 0,70-0,78 г/см3. Получают главным образом перегонкой или крекингом нефти. Топливо для карбюраторных авто- и авиадвигателей; экстрагент и растворитель для жиров, смол, каучу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Большая энциклопедия К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ЕЛЬ ВСЕХ ПЕРЕРАБОТОК – УЛУЧШЕНИЕ КАЧЕСТВА БЕН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4920" y="3357360"/>
            <a:ext cx="813924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енный показатель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ензина-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КТАНОВОЕ ЧИСЛ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условная количественная характеристика стойкости к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етон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реждевременное воспламен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моторных топлив, применяемых в карбюраторных двигателях внутреннего сгорания. Октановое число численно равно процентному (по объему) содержанию изооктана (октановое число которого принято за 100) в его смеси с  н-гептаном (октановое число равно 0), эквивалентной по детонационной стойкости испытуемому топливу при стандартных условиях испытания. Октановое число наиболее. распространенных отечественных марок автобензинов 80-95, авиабензинов 9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80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8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630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99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екинг углеводород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(вторичная переработка У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71640" y="3213000"/>
            <a:ext cx="6407280" cy="2378160"/>
            <a:chOff x="971640" y="3213000"/>
            <a:chExt cx="6407280" cy="2378160"/>
          </a:xfrm>
        </p:grpSpPr>
        <p:cxnSp>
          <p:nvCxnSpPr>
            <p:cNvPr id="226" name="_s278533"/>
            <p:cNvCxnSpPr>
              <a:stCxn id="227" idx="0"/>
              <a:endCxn id="228" idx="1"/>
            </p:cNvCxnSpPr>
            <p:nvPr/>
          </p:nvCxnSpPr>
          <p:spPr>
            <a:xfrm flipV="1" rot="16200000">
              <a:off x="4985280" y="3267000"/>
              <a:ext cx="362520" cy="1691280"/>
            </a:xfrm>
            <a:prstGeom prst="bentConnector3">
              <a:avLst>
                <a:gd name="adj1" fmla="val 3151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9" name="_s278534"/>
            <p:cNvCxnSpPr>
              <a:stCxn id="230" idx="0"/>
              <a:endCxn id="228" idx="0"/>
            </p:cNvCxnSpPr>
            <p:nvPr/>
          </p:nvCxnSpPr>
          <p:spPr>
            <a:xfrm flipH="1" flipV="1" rot="5400000">
              <a:off x="3329640" y="3301920"/>
              <a:ext cx="362520" cy="1621800"/>
            </a:xfrm>
            <a:prstGeom prst="bentConnector3">
              <a:avLst>
                <a:gd name="adj1" fmla="val 315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8" name="_s278535"/>
            <p:cNvSpPr/>
            <p:nvPr/>
          </p:nvSpPr>
          <p:spPr>
            <a:xfrm>
              <a:off x="2340000" y="3213000"/>
              <a:ext cx="3960720" cy="719280"/>
            </a:xfrm>
            <a:prstGeom prst="bevel">
              <a:avLst>
                <a:gd name="adj" fmla="val 1250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рекин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ck 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сщеплять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278536"/>
            <p:cNvSpPr/>
            <p:nvPr/>
          </p:nvSpPr>
          <p:spPr>
            <a:xfrm>
              <a:off x="971640" y="4294080"/>
              <a:ext cx="3456000" cy="1297080"/>
            </a:xfrm>
            <a:prstGeom prst="bevel">
              <a:avLst>
                <a:gd name="adj" fmla="val 12500"/>
              </a:avLst>
            </a:prstGeom>
            <a:solidFill>
              <a:srgbClr val="99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ермическ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450-55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 = 2-7 М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278537"/>
            <p:cNvSpPr/>
            <p:nvPr/>
          </p:nvSpPr>
          <p:spPr>
            <a:xfrm>
              <a:off x="4643640" y="4294080"/>
              <a:ext cx="2735280" cy="1235160"/>
            </a:xfrm>
            <a:prstGeom prst="bevel">
              <a:avLst>
                <a:gd name="adj" fmla="val 12500"/>
              </a:avLst>
            </a:prstGeom>
            <a:solidFill>
              <a:srgbClr val="99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аталитическ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450-50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 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·n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7921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цесс термического расщепления углеводородов приводящее к образованию УВ с меньшей цепью углерод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91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 – В. Г. Ш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335400">
            <a:off x="6516720" y="206064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7235640" y="2565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852640"/>
            <a:ext cx="1871640" cy="64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ход бенз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5-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Термический крекинг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крекинга заключается в том, что при нагревании происходит расщепление крупных молекул углеводородов на более мелкие, в том числе на молекулы, входящие в состав бензина. Обычно расщепление происходит примерно в центре углеродной цепи по С—С-связи, 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4869000"/>
            <a:ext cx="453708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аталитический крекинг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9250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процесс был впервые осуществлён в 1918 году Н.Д. Зелинским. Его проводят в присутствии катализатора (алюмосиликатов: смеси оксида алюминия и оксида кремния) при температуре 450 — 500°С и атмосферном давл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каталитическом крекинге, который осуществляется с большой скоростью, получается бензин более высокого качества, чем при термическом крекинге. Это связано с тем, что наряду с реакциями расщепления происходят реакции изомеризации алканов нормального строения. Кроме того, образуется небольшой процент ароматических углеводородов, улучшающих качество бензина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иформинг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ство бензина можно улучшить также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формингом.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форминг – это процесс ароматизации бензинов, осуществляемый путём нагревания их в присутствии платинового катализатора. Более дешёвый и лёгкий путь увеличения октанового числа состоит в добавлении к бензину некоторых веществ, изменяющих характер горения топлива. Так, детонационную стойкость бензина увеличивают небольшие количества тетраэтилсвинца Pb(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ой бензин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илирован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09120" y="1412640"/>
            <a:ext cx="3886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ИРОЛИ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разложение органических веществ без доступа воздуха при высокой темп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иролизе основными продуктами реакции являются непредельные газообразные углеводороды (этилен, ацетилен) и ароматические (бензол, толуо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пиролиз – важнейший путь получения ароматических углеводородов, этот процесс часто называют ароматизацие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55640" y="1412640"/>
            <a:ext cx="4178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ИДРООЧИСТ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обработка водородом при нагревании и давлении в присутствии катализ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а в связи с проблемой окружающей среды : сернистые и азотсодержащие вещества, имеющиеся в нефтепродуктах, при сгорании образуют оксиды серы и азота, вызывающие коррозию аппаратуры и губительно действующее на все живое. С целью удаления этих химических элементов и проводят гидроочис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2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36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64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92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аменный уго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05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м источником получения бензола и его гомологов до середины ХХ века являлас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менноугольная см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ксовый г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аемый при перегонк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менного уг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перегон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менного угля образу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ксовый 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смольная вода (аммиа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менноугольная смола (получают арены, фенол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кс (применяют в металлургии для восстановления металло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imes New Roman"/>
              </a:rPr>
              <a:t>Проблемы использования углеводородного сырья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79246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фть нерастворима в воде и её плотность меньше, чем у воды, попадая в неё, нефть растекается по поверхности, препятствуя растворению кислорода. Если нефть попала в водоём, то   нефтяная пленка на поверхности воды нарушает обмен тепла, влаги и газов между водной средой и атмосферой, в результате нарушается биологическое равновесие. Количество поступающей за год в Мировой океан нефти оценивается в 5–10 млн. т. Нефть и нефтепродукты попадают в океан не только при аварии судов, но и при  разведке, добыче и сливе балластных вод танкерами. 1 л разлитой нефти загрязняет приблизительно около 40 тыс. л  морско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ефти на экосистемы проявляется по-разному, в зависимости от степени загрязнения. Это может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е отравление живых организмов с летальным исходо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е физиологической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е обволакивание нефтепродуктами живых организмов, отсутствие доступа кислорода. Возникновение болезней, вызванное попаданием в организм углевод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ые изменения в среде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нятие о углеводород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определений органической химии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имия углеводородов и их производных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изучение этого класса соединений имеет особое значение, так как углеводороды являются структурной основой всех остальных классов органическ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1320" y="1782720"/>
            <a:ext cx="419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§ 10, заполнить таб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лассификация углеводород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484280"/>
            <a:ext cx="2519640" cy="5763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леводо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63280" y="177336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651640" y="177336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2376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икл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2205000"/>
            <a:ext cx="2592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рбоцикл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41720"/>
            <a:ext cx="1800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1564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141720"/>
            <a:ext cx="2016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пред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292640"/>
            <a:ext cx="151128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к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64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5013360"/>
            <a:ext cx="151128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к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5516640"/>
            <a:ext cx="151128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и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6021360"/>
            <a:ext cx="15112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3141720"/>
            <a:ext cx="22320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ро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36400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3141720"/>
            <a:ext cx="23032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ицикл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12000" y="40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4221000"/>
            <a:ext cx="223200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клоалк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59640" y="4797360"/>
            <a:ext cx="223200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клоалк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3645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еводороды являются важнейшим видом сырья для химической промышленности. В свою очередь углеводороды широко распространены в природе и могут быть выделены из различных природных источников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фти, природного и попутного нефтяного газа и каменного угля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родный и попутный нефтяной г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сы природного газа на нашей планете очень велики, примерно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У нас в стране важнейшие месторождения этого ценнейшего топлива находятся в Западной Сибири (Уренгойское, Заполярное), в Волго-Уральском бассейне (Вуктыльское, Оренбургское) и на Северном Кавказе (Ставропольско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0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 способу добычи природные газы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ственно природ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утные нефтяные г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 попутного и природного газов, в %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4292640"/>
          <a:ext cx="8351640" cy="1979640"/>
        </p:xfrm>
        <a:graphic>
          <a:graphicData uri="http://schemas.openxmlformats.org/drawingml/2006/table">
            <a:tbl>
              <a:tblPr/>
              <a:tblGrid>
                <a:gridCol w="2232000"/>
                <a:gridCol w="1150920"/>
                <a:gridCol w="1225440"/>
                <a:gridCol w="1366920"/>
                <a:gridCol w="1224000"/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утный 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родный 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данных таблицы состава газа можно отметить, что разнообразное содержание углеводородов в нефтяном газе характеризует его как более ценный источник химического сырья чем природный газ. Для практических целей попутные газы разделяют на смеси более узкого состава (этан, пропан и т.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Нефт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35280" y="1341360"/>
            <a:ext cx="6194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ф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маслянистая жидкость от светло – бурого до черного цвета, с характерным запахом, не растворимая в воде, поэтому образует на ее поверхности пленку не пропускающую 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684440" cy="223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27640" y="4508640"/>
            <a:ext cx="359388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0-03T16:39:45Z</dcterms:modified>
  <cp:revision>82</cp:revision>
  <dc:subject/>
  <dc:title>PowerPoint Presentation</dc:title>
</cp:coreProperties>
</file>