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683-B274-4254-A97B-3D16BE86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788-D1A8-49C9-B640-815A7B4B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401-7743-4BC7-AC6A-B00E3FA9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8B1-C693-4E28-A959-BC226945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7890-10F8-48CA-9E3F-49113FBA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8663-3EC4-4737-AF45-A56BA403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5847-CC63-4476-8BB5-0814A519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71AF-4AF2-4FF5-8A4A-7A9148F7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4E0A-6AAE-4D84-BB76-E4A2742A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0E70-67E9-4FFB-A4CC-242D21E6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93F2-4D5D-4CD3-A4C9-9AB9355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687-2985-4E5F-901F-0F7E8772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83D5-DB42-4264-BC29-CC9554E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73E8-8A4F-48A3-A724-FABDEED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0F03-63C5-4FAF-A058-01A8F2A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207D-B0A9-45D7-9309-03D72D5E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C7E7-E887-44E7-9F11-C0286761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3F7-9DD4-425C-B17E-772AA112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CDE-A87F-4F8B-9F2C-2A00AD6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093-302A-48E2-99B5-8075AA1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39B-B2C8-4B2C-B2F3-FE2E9922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990-A836-47A8-963E-F36EE59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611-5A24-4E21-B9F1-F1EECEF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6EB-0F0C-49E6-A901-138D584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7735-A621-4D32-AEB8-BBA16961A7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72D-635D-48B4-8978-614AB1014F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103;" TargetMode="External"/><Relationship Id="rId2" Type="http://schemas.openxmlformats.org/officeDocument/2006/relationships/hyperlink" Target="http://ru.wikipedia.org/wiki/&#1059;&#1101;&#1083;&#1100;&#1089;" TargetMode="External"/><Relationship Id="rId3" Type="http://schemas.openxmlformats.org/officeDocument/2006/relationships/hyperlink" Target="http://ru.wikipedia.org/wiki/&#1048;&#1088;&#1083;&#1072;&#1085;&#1076;&#1080;&#1103;" TargetMode="External"/><Relationship Id="rId4" Type="http://schemas.openxmlformats.org/officeDocument/2006/relationships/hyperlink" Target="http://ru.wikipedia.org/wiki/&#1064;&#1086;&#1090;&#1083;&#1072;&#1085;&#1076;&#1080;&#1103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Система и содержание образования в Англ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Великобритании существуют две системы образования, которые легко уживаются вместе: одна в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Англ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Уэльс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и Северной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Ирланд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вторая — в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Шотланди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4932360" y="1773360"/>
            <a:ext cx="3548160" cy="45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ертификат о среднем образовании GC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ертификат GCE/A Le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аттестат о неполном среднем образовании (9 классов средней школ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= аттестат о среднем (полном) образовании (11 классов) + подготовительные курсы ВУЗ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1573200" cy="10494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1582920" cy="10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99520" y="35712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Что дальше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4192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альнейшее образование (Further Education) -академической степени не даё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49760" y="1984320"/>
            <a:ext cx="419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сшее образование (Higher Education) – возможность получения академической степен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411280" y="1268280"/>
            <a:ext cx="720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64000" y="1197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032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57440" y="228240"/>
            <a:ext cx="71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Дальнейшее образовани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124000" y="1196640"/>
            <a:ext cx="6562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нее специальное образов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чебные программы соответствуют потребностям и интересам учащихся любого возр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видетельство об окончании учебных заведений системы дальнейшего образования (GNVQ =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eneral National Vocational Qualificatio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448000" cy="16351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055520" cy="1584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3635280" y="4869000"/>
            <a:ext cx="2303640" cy="16570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239220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3160" y="431640"/>
            <a:ext cx="63831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i="1" lang="en-US" sz="3900" spc="-1" strike="noStrike">
                <a:solidFill>
                  <a:srgbClr val="ffffcc"/>
                </a:solidFill>
                <a:latin typeface="Tahoma"/>
              </a:rPr>
              <a:t>Высшее образование</a:t>
            </a:r>
            <a:r>
              <a:rPr b="0" lang="en-US" sz="39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колледжи, университеты, политехнические институт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одготовительный колледж для старшеклассников (6th Form College) – с 16 до 18 л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общий сертификат об углубленном уровне образования  - GCE/A Level (General Certificate of Education Advanced Level) 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09720" y="4064040"/>
            <a:ext cx="2392200" cy="1528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00360" cy="11872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2217600" cy="1660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859280" y="3645000"/>
            <a:ext cx="1658880" cy="1111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6659640" y="3860640"/>
            <a:ext cx="160020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707760" y="333360"/>
            <a:ext cx="7824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епень бакалавра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achelor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Degree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3-4 года обучения на дневном отделении ВУ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епень магистра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ster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Degree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+ 1 год обучения на дневном отделении ВУ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епень доктора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ctor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Degree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+ 3 или более лет  - исследовательская работ по какой-либо теме  + защита диссертаци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48180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Презентацию подготовили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Гусева Галина и Каредина Виктория, программа «Сравнительное образование» 1 курс</a:t>
            </a:r>
            <a:br>
              <a:rPr sz="4400"/>
            </a:b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2011го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Система образ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осударственный сектор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ate school)-93%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астный сектор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vate school)-7%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1988году в Великобритании введён единый государственный образовательный стандар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ое образование получают дети в возрасте от 5 до 16 ле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897440" cy="4235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148360" y="2709720"/>
            <a:ext cx="3673440" cy="31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Ступени образ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ошкольное образование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(pre-scho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чальное образование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mary-scho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реднее образование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condary-scho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ысшее образование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rther-edu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Дошкольное образов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192560" cy="4498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3 до 5 лет дети могут посещать детские сады и дошкольные классы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сударственные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ursery school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playgroup)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ли частные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indergart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-6229440" y="6353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-5307120" y="6335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CR A Extended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4475160" y="33728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ачальное образов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 5 до 7 лет-школа для малышей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(infant-school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e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–preparotory school)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,преподается математика, английский язык, география, музыка и искусство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 7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о11 лет -начальная школа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juniorschool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eporatory schoo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025960" y="1413000"/>
            <a:ext cx="3282840" cy="2373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003640" y="3938760"/>
            <a:ext cx="3313440" cy="23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Tahoma"/>
              </a:rPr>
              <a:t>primary school или elementary school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олее углубленное изучение традиционных предметов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чинают изучать естественные науки и информационные технолог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дают Общий вступительный экзамен Common Entrance Examination (CEE) в форме тестирования по основным изучаемым дисциплинам и уровню интеллектуального развития (IQ)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Среднее образовани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3924000"/>
            <a:ext cx="85406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сударственные средние школы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ая средняя школа(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mprehensive school)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классическая школа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ammer scho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астные школы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ublic scho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120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возможность самостоятельно выбирать предметы, которые он изучае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5406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углубленно изучается  4-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можно освоить и другие предметы в меньшем объеме учебных час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се школьное образование направлено на подготовку ребенка к сдаче экзамена на британский сертификат о среднем образовании General Certificate of Secondary Education (сокращенно GCSE)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5:18:00Z</dcterms:created>
  <dc:creator>Галя</dc:creator>
  <dc:description/>
  <dc:language>en-US</dc:language>
  <cp:lastModifiedBy>Галя</cp:lastModifiedBy>
  <dcterms:modified xsi:type="dcterms:W3CDTF">2011-12-04T16:12:06Z</dcterms:modified>
  <cp:revision>5</cp:revision>
  <dc:subject/>
  <dc:title>Ситема и содержание  образования в Англии. </dc:title>
</cp:coreProperties>
</file>