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D80-DE30-4F09-A4F5-936EF56B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49D-3740-490F-8E14-6F43C91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DBC-663C-44FE-8718-95B9934A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244-8D14-41E9-95FC-19878315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8AD0-B9AA-42FE-91C8-A1CCFCD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7592-7737-48AF-82ED-492A951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B4D-300A-4A28-B388-F78D5E6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FA45-5451-4DFF-8C9F-B635121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B64-041A-47BA-AC39-4C311D4F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54C2-E5B1-4014-B05D-45CE1111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04E5-C541-4B49-89F5-909A5B7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58C-B6E8-4C16-983C-380AD83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03B6-9A69-4033-9FB8-B8B9FBC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E21B-DFAE-40E2-A324-5E0264D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907-045F-406A-BA8D-AB57536E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3FA-7FED-402A-8188-0E0A9DD2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45DE-302F-4D63-ACA4-73446C9A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ED-326F-4771-AB33-D86A8CC2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1C7-70D3-4B0B-B704-ED14C577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8F0-1BCE-46E2-B03B-8B65F2B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293-6141-4115-A119-FAE6FF5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9EA-CB87-4D2E-B329-49812007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9EB-4610-41FF-BA92-A2BDFFC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0BC-0CC3-4B58-930F-1E51A39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037-BEAF-4B10-B74F-67B1E1478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9A92-4639-497F-AEAC-C00657A78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5157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Презентация Зениной Яны 4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’’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’’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332000" y="1197000"/>
            <a:ext cx="6769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Моя улиц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Улица Пушкин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66848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Улица Пушкина в настоящее время, пожалуй, самая протяжённая городская улица. Она пересекает город с севера на юг, начинается от железнодорожного вокзала и тянется в направлении г. Зарайска, до переезда 8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DSC02845"/>
          <p:cNvPicPr/>
          <p:nvPr/>
        </p:nvPicPr>
        <p:blipFill>
          <a:blip r:embed="rId1"/>
          <a:stretch/>
        </p:blipFill>
        <p:spPr>
          <a:xfrm>
            <a:off x="928800" y="785880"/>
            <a:ext cx="698472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5273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Формировалась на протяжении многих лет. Она вобрала в себя Новую деревню, которая начиналась за мостом через речку Чёрная и заканчивалась перекрёстком, деревню Кунаково и село Сушк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DSC02847"/>
          <p:cNvPicPr/>
          <p:nvPr/>
        </p:nvPicPr>
        <p:blipFill>
          <a:blip r:embed="rId1"/>
          <a:stretch/>
        </p:blipFill>
        <p:spPr>
          <a:xfrm>
            <a:off x="971640" y="476280"/>
            <a:ext cx="734544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Естественно, в наши дни не перечислишь всего, чем богата вся эта улица. Здесь и стадион «Спартак», и спортивный комплекс с бассейном – «Дельфин», и торговый комплекс на пересечении улицы с улицей Куйбышева, по которой проходит магистраль Москва-Челябинск, автотранспортное предприятие, автошкола, пожарная часть, несколько заправочных колонок и кварталы многоэтажных домов южной части города с торговыми и банковскими зданиями, и Казанская церковь, возведённая ещё в 18 веке, и недавно созданная городским поселением народная библиотека в Сушкове, и фабрика компании «Марс», и многое другое. Более 8 километров дороги с подъёмами и спусками. Под её мостами протекают две речки </a:t>
            </a: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–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Чёрная и Воб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На улице находится мемориальный комплекс с памятником        воинам-луховичанам, погибшим в годы Великой Отечественной войны 1941 – 1945 гг., скульптурная композиция в честь Луховицкого огурца, по вкусовым качеством знаменитого в Подмосковье. Его выращиванием занимаются многие жители нашего рай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Но заглянем на минутку в историческое прошлое ул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В самом её начале располагались: электростанция, сберкасса, магазин «Книги», лесотопливное предприятие (снабжало население углём, дровами), а в районе стадиона «Спартак» находились чайная, правление пристанционного колхо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Здание, которое много лет занимает отделение сберегательного банка, было пересыльной тюрьмой. Рядом, с 30-х годов,- магазин «Книга». В 70-е годы любители хорошей книги занимали очередь и дежурили ночами, чтобы приобрести литературную новинку. И чаще всего первой в очереди была многим известная в те времена Клавдия Петровна Голенищ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Эта женщина была интересна тем, что могла рассказать массу любопытных сведений не только о местных руководителях , но и об отдельных жителях г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Наверное, самая первая бензоколонка появилась тоже на улице Пушкина. Её построили напротив автотранспортного предприятия. Здесь же, на перекрёстке, был смонтирован первый в городе светофо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Несколько слов о люд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Многоэтажные дома в большинстве своём заселены работниками авиационного завода. В Кунакове и Сушкове старожилами являются Аракчеевы, Зенины, Коньковы, Фатеевы,  Когтевы. Так Николай Николаевич Зенин  в 80-е годы работал председателем городского Совета, Владимир Когтев – директором Центральной районной  библиоте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В северной части города старожилами являются Лебедевы. Братья Алексей и  Николай Иванович Лебедевы – ветераны спорта (в своё время играли за городскую команду «Большевик»), а также с честью носили звание ветеранов Великой Отечественной войн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DSC02843"/>
          <p:cNvPicPr/>
          <p:nvPr/>
        </p:nvPicPr>
        <p:blipFill>
          <a:blip r:embed="rId1"/>
          <a:stretch/>
        </p:blipFill>
        <p:spPr>
          <a:xfrm>
            <a:off x="-29343240" y="2732868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DSC02846"/>
          <p:cNvPicPr/>
          <p:nvPr/>
        </p:nvPicPr>
        <p:blipFill>
          <a:blip r:embed="rId2"/>
          <a:stretch/>
        </p:blipFill>
        <p:spPr>
          <a:xfrm>
            <a:off x="1476360" y="365040"/>
            <a:ext cx="612000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d05b"/>
                </a:solidFill>
                <a:latin typeface="Times New Roman"/>
              </a:rPr>
              <a:t>Ссылк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05b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d05b"/>
                </a:solidFill>
                <a:latin typeface="Times New Roman"/>
              </a:rPr>
              <a:t>- </a:t>
            </a:r>
            <a:r>
              <a:rPr b="1" i="1" lang="ru-RU" sz="3200" spc="-1" strike="noStrike">
                <a:solidFill>
                  <a:srgbClr val="ffd05b"/>
                </a:solidFill>
                <a:latin typeface="Times New Roman"/>
              </a:rPr>
              <a:t>фотографии из личного альбо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05b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d05b"/>
                </a:solidFill>
                <a:latin typeface="Times New Roman"/>
              </a:rPr>
              <a:t>- информация из книги «Земляки 4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2:22:48Z</dcterms:created>
  <dc:creator>Дмитрий</dc:creator>
  <dc:description/>
  <dc:language>en-US</dc:language>
  <cp:lastModifiedBy>User</cp:lastModifiedBy>
  <dcterms:modified xsi:type="dcterms:W3CDTF">2010-12-26T19:30:13Z</dcterms:modified>
  <cp:revision>11</cp:revision>
  <dc:subject/>
  <dc:title>Слайд 1</dc:title>
</cp:coreProperties>
</file>