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F01-324B-434E-B3F9-494F2CB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C5-9D7C-40D2-9B24-8A805C81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C88-0848-45ED-BD00-3D373138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045-6C04-4438-8871-C27210EC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1B1-6466-4D94-8F59-A8693D1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270-4161-4868-A846-7CCC1AA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007-78C6-48D4-845C-450FC503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19A-7398-4287-9DC3-B4EE57E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5D1-75E0-4030-852B-E37B0E6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152-7379-4384-8561-FFE18CE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5D9-C1DE-408F-B1B3-6447770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4A-A322-4CB6-99A1-4199458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194-29D5-4808-890B-B345E0DDEF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F65-FB72-4872-9E2C-A3F6F3DBF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ussiancity.ru/" TargetMode="External"/><Relationship Id="rId2" Type="http://schemas.openxmlformats.org/officeDocument/2006/relationships/hyperlink" Target="http://art-projekt.ru/" TargetMode="External"/><Relationship Id="rId3" Type="http://schemas.openxmlformats.org/officeDocument/2006/relationships/hyperlink" Target="http://www.kreml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7202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рхитектура Древней Руси.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кружающий мир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клипарты рамки фончики\karty\karty\map15.jpg"/>
          <p:cNvPicPr/>
          <p:nvPr/>
        </p:nvPicPr>
        <p:blipFill>
          <a:blip r:embed="rId1"/>
          <a:stretch/>
        </p:blipFill>
        <p:spPr>
          <a:xfrm>
            <a:off x="1920960" y="566640"/>
            <a:ext cx="1339920" cy="117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:\Documents and Settings\Aida\Рабочий стол\клипарты рамки фончики\karty\karty\map15.jpg"/>
          <p:cNvPicPr/>
          <p:nvPr/>
        </p:nvPicPr>
        <p:blipFill>
          <a:blip r:embed="rId2"/>
          <a:stretch/>
        </p:blipFill>
        <p:spPr>
          <a:xfrm>
            <a:off x="493560" y="633240"/>
            <a:ext cx="1773360" cy="1444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1042920" y="459576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УО «Новообинце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Кавылина Надежд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C00-0CA1-499A-8F09-89672C2CC4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5987-006E-4F5A-A105-E6CF7862D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39640" y="5157720"/>
            <a:ext cx="54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ковь Покрова в Фил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92-1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355680" y="351000"/>
            <a:ext cx="851040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рхитектуре 17 века ясно прослеживаются два этапа: 1 половина - середина века и вторая половина - конец века. Для первого этапа характерно сложение "классического" типа древнерусского посадского храма - небольшого 5-главого бесстолпного здания с "ложным пятиглавием", ярко расцвеченного, с обилием декоративных деталей, с построением "кораблем" из трех частей: колокольня, трапезная, церковь. Ярким образцом такого типа храма является церковь Троицы в Никитниках в Москве или церковь Рождества в Путинках. Последним ярким этапом развития древнерусской архитектуры было "нарышкинское барокко". Этот стиль не имеет ничего общего с европейским барокко. Здесь в каменной архитектуре используются традиционные формы русского деревянного зодчества: "восьмерик на четверике", соединение церкви с колокольней под одним куполом - "церковь иже под колоколы", любовь к резному узорочью, красивый центрический план. Самым замечательным памятником "нарышкинского барокко" является це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227640" y="3728880"/>
            <a:ext cx="26114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DD3B-419F-4043-80E1-2332923BF3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214-1C19-4589-8E93-8664C1228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531720" y="4292640"/>
            <a:ext cx="46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жский погост, Преображенская церк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дчий Не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14-17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4727520" y="476280"/>
            <a:ext cx="4021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своему типу Преображенская церковь — это летний (или холодный) храм. В ней служили только в особо торжественных случаях, в дни местных престольных праздников, да и то лишь в течение короткого северного лета. У нее нет зимних рам и двойных дверей, утепленного пола и потолка. В летних церквах меньше сырости, через щели и проемы происходит непрерывная естественная вентиляция и просушка всех помещений, частей и конструкций. В них сильнее тяга воздуха, значит, быстрее просыхает дерево и меньше опасность появления гнили, опасных грибков и насекомых. Спасо-Преображенская церковь стала как бы лебединой песней древнерусского деревянного зодчества. Это не рядовой сельский храм, а мемориальное сооружение, памятник-монумент. После окончания строительства мастер Нестор забросил топор в Онежское озеро, чтобы никто больше не смог построить ничего подобного. Во славу родной земли и стоит в Кижах уже два с половиной столетия Преображенская церк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60280" y="1143000"/>
            <a:ext cx="44672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8FB3-30A2-42C5-9D3D-42174C1270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0F4-0E5E-46A2-8A71-57FE902C2C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1165680" y="17002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ial"/>
              </a:rPr>
              <a:t>http://smallb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195560" y="21272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http://go.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187280" y="263700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russiancit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1270080" y="3141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t-projek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1264680" y="36450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krem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1346400" y="40766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https://sites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D7EE-2DA2-47EF-A0AD-361E314E52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4D6-D5DA-4C5D-89A4-F6737CDD5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33280" y="48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евский собор СвятойСоф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Iв. Украина, 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888840"/>
            <a:ext cx="394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уси первые каменные храмы были построены в Киеве, Новгороде и Владимире. В главном соборе Киева Святой Софии, построенном из плинфы, с девятью куполами, чувствуется влияние мастеров из Константиноп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4414680" y="476280"/>
            <a:ext cx="44229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2B0E-424B-40A0-B392-769B9ABAE2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F10-BFAA-4736-B285-978E61B3C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4932360" y="480528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 Святой 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ов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45-10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68360" y="333360"/>
            <a:ext cx="820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ский собор св.Софии. Ярослав Мудрый до конца жизни своей был благодарен новгородцам, посадившим его на киевский престол. Дал он им в князья любимого своего сына — Владимира, а когда тот с новгородской дружиной по отцовскому приказу разбил волжских болгар и захватил богатую добычу, Ярослав не поскупился: все отдал Новгороду. И решили новгородцы возвести у себя Новгородский Софийский собор, увенчанный пятью главами. Софию Новгородскую строили семь лет, и освящение ее состоялось в 1052 году. Святой князь Владимир по освящении собора прожил менее месяца, скончался 4 октября 1052 года и похоронен был в церкви Святой 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55680" y="3451320"/>
            <a:ext cx="42163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963-A2EE-4F5B-8090-0C290D17A7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BCF-8F31-49E4-9935-FCD83A6F3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4000" y="3475080"/>
            <a:ext cx="2447640" cy="3060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133880" y="522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 Покрова на Нер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-e XII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.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24000" y="26028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. Уже более восьмисот лет стоит в суздальской земле, на берегу Нерли, церковь Покрова Богородицы. В ясные летние дни, при безоблачном небе, среди зелени обширного заливного луга ее стройная белизна, отраженная гладью небольшого озерка, дышит поэзией и сказкой. В суровые зимы, когда все вокруг бело, она словно растворяется в бескрайнем снежном море. Храм настолько созвучен настроению окружающего пейзажа, что кажется, будто он родился вместе с ним, а не создан руками человека. Не зря для нее и посвящение выбрано Покрову. Покров есть зашита и покровительство, русским людям надежда и милость, от врагов укрытие и обер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9D7-B7B9-40D2-BD52-30498242CD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0DD-1AE6-4E99-81BF-9131C03F9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75564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ые вор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468360" y="907920"/>
            <a:ext cx="805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ые ворота — выдающийся памятник древнерусской архитектуры, расположенный в городе Владимире. Построены в 1164 году при владимирском князе Андрее Боголюбском. Помимо оборонных целей ворота имели также и триумфальный характер. Золотые ворота оформляли парадный вход в самую богатую княжеско-боярскую часть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ли Золотые ворота княжеские мас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0BA-D271-42E4-A0B2-C14080F7EA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C1FD-4E51-4F01-9B67-8E9EB2DB9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540240" y="4971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85-1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95280" y="69228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рна и светла Соборная площадь Кремля. Архитектурный ансамбль, возведенный на ней более 500 лет назад, неповторим по своей красоте и великолепию. Здесь и величественные храмы-богатыри, и храмы легкие, причудливые, словно игрушечные в сравнении с ними. Ныне существующие соборы стоят на месте более древних. Первостепенную роль в ансамбле Соборной площади играет Успенский собор. Исследователи считают, что ему предшествовали три храма: деревянная церковь XII века, Дмитровский собор XIII века и белокаменный храм времен Ивана Кали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95280" y="3513240"/>
            <a:ext cx="40147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1689-570B-4A0E-B1EF-2C6F09FE0F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9271-E8A2-466A-91C7-229983940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5760" y="3635280"/>
            <a:ext cx="1955520" cy="2795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3780000" y="4929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м Покрова на р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дчие Барма, По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55-15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55760" y="385920"/>
            <a:ext cx="82929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русские войска взяли Казань и прочно утвердились на волжских берегах, повелел царь Иван Грозный поставить у стен московского Кремля церковь о восьми главах — по числу одержанных побед. Недавно возвратился он из похода, с великим ликованием встречала его Москва: звонили колокола, люди со смехом и рыданиями бросали праздничные одежды под копыта царского коня: у многих родные и близкие томились в ордынском плену. Любимая супруга Анастасия Романовна разрешилась от бремени наследником — это тоже был праздник. Летопись гласит: "...царь и великий князь Иван Васильевич... повеле поставити храм Покрова с пределы о Казанской победе, что бог покорил безсерманский род казанских татар царю...". Увековечить эту победу поручили гениальным зодчим Барме и Постнику. Ходят легенды, что после окончания строительства царь велел выколоть глаза архитекторам, чтобы они больше ничего подобного построить не смог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7A43-5B8C-41EB-B282-7AAD8538DA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8248-9EF5-47DC-A00B-9E62CF220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4048200" y="522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локольня Ивана Великого, зод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рязин, Б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508, достр. в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689280" y="361800"/>
            <a:ext cx="529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505-1508 годы, другой итальянский архитектор, Бон Фрязин, возвел на месте старой постройки церковь "под колоколы" Иоанна Лествичника. Вначале она была двухъярусной, шатер ее поднимался на 60 метров. Она одновременно служила и колокольней и дозорной вышкой. Своим суровым обликом она походила на донжон западноевропейского замка. В 1600 году царь Борис Годунов велел надстроить колокольню, сделав ее на два яруса выше, и увенчать ее золотой главой, о чем свидетельствует велеречивая надпись, помещенная высоко на барабане купола в трех горизонтальных поясах. В результате надстройки высота колокольни стала 81 мет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4099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B95-7B97-4822-8D18-FAD28244E9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E17-E90B-4A5E-BD68-F27FB6310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52440" y="333360"/>
            <a:ext cx="239724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305928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ковь Воз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ломен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28-16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.об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63600" y="3519360"/>
            <a:ext cx="85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деревянной архитектуры привело к перенесению формы 8-гранного шатра в каменную архитектуру. Подобный тип храмов получил широкое распространение в 16 веке. Самым ярким образцом каменного шатрового зодчества 16 века является церковь Вознесения в Коломенском, поставленная в честь рождения Ивана IV (Грозного) в 1532 году на высоком берегу Москвы-реки. Ее высота составляет 62 метра, толщина стен - от 2 до 4 метров. Это уже не крестово -купольный храм, унаследованный от Византии. В плане здание представляет собой равноконечный кр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5:25Z</dcterms:created>
  <dc:creator>Антон</dc:creator>
  <dc:description>http://aida.ucoz.ru</dc:description>
  <dc:language>en-US</dc:language>
  <cp:lastModifiedBy>Антон</cp:lastModifiedBy>
  <dcterms:modified xsi:type="dcterms:W3CDTF">2012-02-24T11:39:34Z</dcterms:modified>
  <cp:revision>7</cp:revision>
  <dc:subject/>
  <dc:title>Архитектура Древней Руси.</dc:title>
</cp:coreProperties>
</file>