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53.png" ContentType="image/png"/>
  <Override PartName="/ppt/media/image56.jpeg" ContentType="image/jpeg"/>
  <Override PartName="/ppt/media/image4.gif" ContentType="image/gif"/>
  <Override PartName="/ppt/media/image34.gif" ContentType="image/gif"/>
  <Override PartName="/ppt/media/image22.jpeg" ContentType="image/jpeg"/>
  <Override PartName="/ppt/media/%D0%BC%D0%BE%D1%80%D0%B5.wav" ContentType="audio/x-wav"/>
  <Override PartName="/ppt/media/image46.gif" ContentType="image/gif"/>
  <Override PartName="/ppt/media/image27.gif" ContentType="image/gif"/>
  <Override PartName="/ppt/media/image51.jpeg" ContentType="image/jpeg"/>
  <Override PartName="/ppt/media/image12.png" ContentType="image/png"/>
  <Override PartName="/ppt/media/image25.gif" ContentType="image/gif"/>
  <Override PartName="/ppt/media/image18.png" ContentType="image/png"/>
  <Override PartName="/ppt/media/image3.gif" ContentType="image/gif"/>
  <Override PartName="/ppt/media/image26.gif" ContentType="image/gif"/>
  <Override PartName="/ppt/media/image2.jpeg" ContentType="image/jpeg"/>
  <Override PartName="/ppt/media/image57.png" ContentType="image/png"/>
  <Override PartName="/ppt/media/image54.gif" ContentType="image/gif"/>
  <Override PartName="/ppt/media/image10.png" ContentType="image/png"/>
  <Override PartName="/ppt/media/image15.png" ContentType="image/png"/>
  <Override PartName="/ppt/media/image59.gif" ContentType="image/gif"/>
  <Override PartName="/ppt/media/image28.gif" ContentType="image/gif"/>
  <Override PartName="/ppt/media/image31.gif" ContentType="image/gif"/>
  <Override PartName="/ppt/media/image16.png" ContentType="image/png"/>
  <Override PartName="/ppt/media/image1.gif" ContentType="image/gif"/>
  <Override PartName="/ppt/media/image23.png" ContentType="image/png"/>
  <Override PartName="/ppt/media/image20.gif" ContentType="image/gif"/>
  <Override PartName="/ppt/media/image24.png" ContentType="image/png"/>
  <Override PartName="/ppt/media/image21.gif" ContentType="image/gif"/>
  <Override PartName="/ppt/media/image14.png" ContentType="image/png"/>
  <Override PartName="/ppt/media/image58.gif" ContentType="image/gif"/>
  <Override PartName="/ppt/media/image60.gif" ContentType="image/gif"/>
  <Override PartName="/ppt/media/image41.jpeg" ContentType="image/jpeg"/>
  <Override PartName="/ppt/media/image19.gif" ContentType="image/gif"/>
  <Override PartName="/ppt/media/image7.gif" ContentType="image/gif"/>
  <Override PartName="/ppt/media/image37.gif" ContentType="image/gif"/>
  <Override PartName="/ppt/media/image13.png" ContentType="image/png"/>
  <Override PartName="/ppt/media/image52.jpeg" ContentType="image/jpeg"/>
  <Override PartName="/ppt/media/image17.png" ContentType="image/png"/>
  <Override PartName="/ppt/media/image5.png" ContentType="image/png"/>
  <Override PartName="/ppt/media/image42.gif" ContentType="image/gif"/>
  <Override PartName="/ppt/media/image8.jpeg" ContentType="image/jpeg"/>
  <Override PartName="/ppt/media/image45.gif" ContentType="image/gif"/>
  <Override PartName="/ppt/media/image29.gif" ContentType="image/gif"/>
  <Override PartName="/ppt/media/image9.png" ContentType="image/png"/>
  <Override PartName="/ppt/media/image6.gif" ContentType="image/gif"/>
  <Override PartName="/ppt/media/image11.png" ContentType="image/png"/>
  <Override PartName="/ppt/media/image55.gif" ContentType="image/gif"/>
  <Override PartName="/ppt/media/image32.gif" ContentType="image/gif"/>
  <Override PartName="/ppt/media/image30.gif" ContentType="image/gif"/>
  <Override PartName="/ppt/media/image33.png" ContentType="image/png"/>
  <Override PartName="/ppt/media/image35.gif" ContentType="image/gif"/>
  <Override PartName="/ppt/media/image36.png" ContentType="image/png"/>
  <Override PartName="/ppt/media/image43.gif" ContentType="image/gif"/>
  <Override PartName="/ppt/media/image38.gif" ContentType="image/gif"/>
  <Override PartName="/ppt/media/image39.gif" ContentType="image/gif"/>
  <Override PartName="/ppt/media/image40.jpeg" ContentType="image/jpeg"/>
  <Override PartName="/ppt/media/image47.png" ContentType="image/png"/>
  <Override PartName="/ppt/media/image44.gif" ContentType="image/gif"/>
  <Override PartName="/ppt/media/image48.gif" ContentType="image/gif"/>
  <Override PartName="/ppt/media/image49.gif" ContentType="image/gif"/>
  <Override PartName="/ppt/media/image5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266B-BB3E-4277-B127-4E62FE8498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3034-C320-4E99-8A3F-C3D68872CB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яц поёт песню по нотам ла ло лу 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5C84-BDC2-45A3-950B-BF8F804AAB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ывёт пла пло плу плы 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матизация звука л в словах со стечением соглас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A1B2-AEDD-4947-8DD0-FD05DC7726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а-ло-п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CDE0-8E78-4646-BF02-AF8273D5F7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жик наносил кучу грибов из л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8904-2940-4D40-8E3E-0EAAE4876C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4AEC-540B-4BDB-98E5-04E4AF725F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к и краб весело танцуют И ПУСКАЮТ РАЗНОЦВЕТНЫЕ ПУЗЫРЬ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A544-9C3B-47A3-86C3-619DA003D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C7A6-CF16-4D87-906D-A7A9DCCB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F8B6-8E7B-44FB-B18C-6A2AD7BED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1186-45D8-440D-B06C-A7618CAF1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7404-5173-4B01-8F9E-0B6B495B6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B34A-0B4F-4DEE-BAE8-CCBDDE06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12E6-D4CC-417B-B451-0A84A547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F283-C0D7-44A1-8B53-62870CF1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8156-2595-4738-A7C7-C4CC6FE8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0B6EA-D1F9-4176-B2EB-A811ED70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19261-886C-4EB3-9C68-99BD3A27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5493-076D-4C4C-819F-52B691F1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14DB3-E3D1-4289-AB05-0008EE08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8BF5-41F8-44D5-9465-ED14476D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6E0F-D5F7-426E-9090-1A47CB40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B1EB-14B7-48BC-96A7-D013FC545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F6A63-07D6-4548-A372-558A7E7D9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E43A2-CA39-4C4C-A5A0-D9FEAA5BB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98E90-C605-404C-844F-33F3AAF2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D3A74-AEAC-496B-B201-1E04693C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E9EB4-7790-40B2-8348-AAB60FC9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C2690-A2E8-4BED-8D1D-45703CE9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D65B-57AA-4BC2-8AA3-3FAD9E9E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84791-EA89-4FE3-A8AC-1E9CEF55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63F4F-B0FF-4262-9640-B6358C70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9C0A5-7D84-445C-A2C2-FC214521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8702A-6AE3-4DBC-A08C-68A815D5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3B553-8120-458C-89C0-BC1BCE9C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513C5-3313-47EF-8EC5-9CC4FDB8F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3CDE0-F9D1-4D3F-A66E-736FE9A5A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6B082-F075-40D2-B4B8-62A1B06F2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0FEC6-E95D-49F0-A466-3F93DC3D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F4AE3-4FDC-42BA-881D-D7D6ACF8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9008-1DC1-4F31-846D-0A84E193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3C544-985C-49F0-8F7E-2F950122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03613-8057-4C0E-A7B0-B3F58650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8EF27-DF54-40C7-A50E-7FF82E71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80F8F-CF83-4080-971E-8F5C5164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8DAA1-DAA0-4620-9DDB-53C3D0E1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E4747-97DE-4EEE-9093-6AAA5209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B17FE-E4CC-4F96-B368-558ECE95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DDC4C-0D11-440C-988F-9481208FC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1DC79-7543-4488-8288-788DCE36B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E801D-0F4A-4FD9-873F-E5896EF13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A00A-5F25-4F37-B2AB-B59F298D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02765-F36B-45C2-86A9-4CD2F220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3B0B0-9A36-4107-81D9-BE8BAA8B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0A322-FAD5-4785-819B-C9788437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7E117-BD9F-499B-96FC-2608EC6E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0543A-51F3-49D9-B5AE-3A0B1C45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64748-9714-4291-96A3-B6E82F23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4D581-66E1-4D89-AFC0-CAB4758B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44AAE-79DB-43DE-95EA-F8B6C5BF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F6EB0-7CE2-400A-A669-2255D2E5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58140-0AEB-4EE1-8F21-9095DCE93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3E52-677D-49EA-A5AE-1E6DE05C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16705-90E4-496A-8B7A-90F980C0F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B25D3-71B7-4440-82BC-7D01158BE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A1C44-9BED-45D9-B98E-A1EF8051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E94A3-7C75-446F-A27E-04DAEBF3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5517F-B20F-47C6-8B98-DE0753A2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FAEB4-1A64-4F42-A357-A3A2F5CB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04462-9C24-4D0B-9293-0E5E8C92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AB2CB-3688-4DD7-B08E-3F29D3FA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12037-C959-4AFA-A1D3-9E5B6334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5717D-56EF-4085-A327-C30A4875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3197-11E9-4704-BBF2-700511AA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73ED9-1C3B-495A-9BE7-CA5E3303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07017-A9F8-463A-BBE6-6005EE9AE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14618-F115-422B-AA6B-6392130B4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67BFE-3C0D-4A98-B919-8D03F8CB2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1C1D0-B382-4D8B-B8E7-EBDD19EC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FED4E-1A0A-44D4-B634-4F124BB3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02F89-945F-4724-9B0A-EA5D2BA7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0BEF7-8484-4513-A249-2273AA1C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15DB4-EE19-40A4-BA89-9D50C3BC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F0B34-25B4-4F90-9947-6A95506D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95B6-965D-44A3-B254-1296B25D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05EAB-A03A-4E6C-B76B-BCD1E942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6DC25-77DD-48F4-949C-A43A68CF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46416-C839-497A-98CA-D709AAB4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371DE-1DD0-4457-B320-3FD13261F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AAF98-B187-444C-9277-68F7A960C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DD973-5F76-4B26-9EB5-CC6304566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8919D-FB7C-4AAC-BCC9-F1ED0AA3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91944-796D-4326-9E74-DD920835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B7E20-698C-446D-BC96-6A7A968D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C923A-1D9C-48D0-B66E-F0BA9F19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60F7-7E75-490B-B951-6FB4A7F9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30BD4-77C0-472A-AB21-847E04B5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C5AFA-1909-4D48-BCAD-B4AFA3B3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AA2B3-9C40-49FC-97DE-CF8861CF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566EB-808D-4E13-A8C1-DD75C028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D7009-6784-4053-96C9-81DBA3B4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43CAE-9067-4872-A864-EBABF1AE8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EEC71-EE53-4F17-91D9-98750434C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A099-5AB8-4FAF-88BB-147E775A424B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6943-2D8F-41E1-BDB1-D3AB70188B60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3865-5F29-46C9-883C-C3762951F578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35A9-CF14-4066-933B-BAB21233290B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2562-37FB-4860-A273-9A768AEC9447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B371-6A51-4690-A2E1-22693EB67F2A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EDB9-814C-4D98-8BA4-9BFE204D95B3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1BDF-1FE8-412B-82B2-1BE15D6F7DE7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gif"/><Relationship Id="rId3" Type="http://schemas.openxmlformats.org/officeDocument/2006/relationships/image" Target="../media/image43.gif"/><Relationship Id="rId4" Type="http://schemas.openxmlformats.org/officeDocument/2006/relationships/image" Target="../media/image44.gif"/><Relationship Id="rId5" Type="http://schemas.openxmlformats.org/officeDocument/2006/relationships/image" Target="../media/image45.gif"/><Relationship Id="rId6" Type="http://schemas.openxmlformats.org/officeDocument/2006/relationships/image" Target="../media/image46.gif"/><Relationship Id="rId7" Type="http://schemas.openxmlformats.org/officeDocument/2006/relationships/image" Target="../media/image47.png"/><Relationship Id="rId8" Type="http://schemas.openxmlformats.org/officeDocument/2006/relationships/image" Target="../media/image47.png"/><Relationship Id="rId9" Type="http://schemas.openxmlformats.org/officeDocument/2006/relationships/image" Target="../media/image48.gi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0.jpeg"/><Relationship Id="rId6" Type="http://schemas.openxmlformats.org/officeDocument/2006/relationships/image" Target="../media/image53.png"/><Relationship Id="rId7" Type="http://schemas.openxmlformats.org/officeDocument/2006/relationships/image" Target="../media/image54.gif"/><Relationship Id="rId8" Type="http://schemas.openxmlformats.org/officeDocument/2006/relationships/image" Target="../media/image55.gif"/><Relationship Id="rId9" Type="http://schemas.openxmlformats.org/officeDocument/2006/relationships/audio" Target="../media/&#1084;&#1086;&#1088;&#1077;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png"/><Relationship Id="rId3" Type="http://schemas.openxmlformats.org/officeDocument/2006/relationships/image" Target="../media/image58.gif"/><Relationship Id="rId4" Type="http://schemas.openxmlformats.org/officeDocument/2006/relationships/image" Target="../media/image59.gif"/><Relationship Id="rId5" Type="http://schemas.openxmlformats.org/officeDocument/2006/relationships/image" Target="../media/image60.gif"/><Relationship Id="rId6" Type="http://schemas.openxmlformats.org/officeDocument/2006/relationships/image" Target="../media/image60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2.jpeg"/><Relationship Id="rId5" Type="http://schemas.openxmlformats.org/officeDocument/2006/relationships/image" Target="../media/image5.pn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.xml"/><Relationship Id="rId3" Type="http://schemas.openxmlformats.org/officeDocument/2006/relationships/image" Target="../media/image9.png"/><Relationship Id="rId4" Type="http://schemas.openxmlformats.org/officeDocument/2006/relationships/image" Target="../media/image8.jpe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" Target="slide4.xml"/><Relationship Id="rId11" Type="http://schemas.openxmlformats.org/officeDocument/2006/relationships/image" Target="../media/image9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image" Target="../media/image28.gif"/><Relationship Id="rId5" Type="http://schemas.openxmlformats.org/officeDocument/2006/relationships/image" Target="../media/image29.gif"/><Relationship Id="rId6" Type="http://schemas.openxmlformats.org/officeDocument/2006/relationships/image" Target="../media/image30.gif"/><Relationship Id="rId7" Type="http://schemas.openxmlformats.org/officeDocument/2006/relationships/image" Target="../media/image31.gif"/><Relationship Id="rId8" Type="http://schemas.openxmlformats.org/officeDocument/2006/relationships/slideLayout" Target="../slideLayouts/slideLayout49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png"/><Relationship Id="rId3" Type="http://schemas.openxmlformats.org/officeDocument/2006/relationships/image" Target="../media/image32.gif"/><Relationship Id="rId4" Type="http://schemas.openxmlformats.org/officeDocument/2006/relationships/image" Target="../media/image34.gif"/><Relationship Id="rId5" Type="http://schemas.openxmlformats.org/officeDocument/2006/relationships/image" Target="../media/image35.gif"/><Relationship Id="rId6" Type="http://schemas.openxmlformats.org/officeDocument/2006/relationships/image" Target="../media/image36.png"/><Relationship Id="rId7" Type="http://schemas.openxmlformats.org/officeDocument/2006/relationships/image" Target="../media/image18.png"/><Relationship Id="rId8" Type="http://schemas.openxmlformats.org/officeDocument/2006/relationships/image" Target="../media/image32.gif"/><Relationship Id="rId9" Type="http://schemas.openxmlformats.org/officeDocument/2006/relationships/image" Target="../media/image32.gif"/><Relationship Id="rId10" Type="http://schemas.openxmlformats.org/officeDocument/2006/relationships/image" Target="../media/image32.gif"/><Relationship Id="rId11" Type="http://schemas.openxmlformats.org/officeDocument/2006/relationships/image" Target="../media/image32.gif"/><Relationship Id="rId12" Type="http://schemas.openxmlformats.org/officeDocument/2006/relationships/image" Target="../media/image32.gif"/><Relationship Id="rId13" Type="http://schemas.openxmlformats.org/officeDocument/2006/relationships/image" Target="../media/image32.gif"/><Relationship Id="rId14" Type="http://schemas.openxmlformats.org/officeDocument/2006/relationships/image" Target="../media/image32.gif"/><Relationship Id="rId15" Type="http://schemas.openxmlformats.org/officeDocument/2006/relationships/image" Target="../media/image32.gif"/><Relationship Id="rId16" Type="http://schemas.openxmlformats.org/officeDocument/2006/relationships/image" Target="../media/image32.gi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8.gif"/><Relationship Id="rId3" Type="http://schemas.openxmlformats.org/officeDocument/2006/relationships/image" Target="../media/image39.gif"/><Relationship Id="rId4" Type="http://schemas.openxmlformats.org/officeDocument/2006/relationships/image" Target="../media/image40.jpeg"/><Relationship Id="rId5" Type="http://schemas.openxmlformats.org/officeDocument/2006/relationships/image" Target="../media/image40.jpeg"/><Relationship Id="rId6" Type="http://schemas.openxmlformats.org/officeDocument/2006/relationships/image" Target="../media/image39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e6e8e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4" descr="http://animashky.ru/flist/objiv/10/110.gif"/>
          <p:cNvPicPr/>
          <p:nvPr/>
        </p:nvPicPr>
        <p:blipFill>
          <a:blip r:embed="rId1"/>
          <a:stretch/>
        </p:blipFill>
        <p:spPr>
          <a:xfrm>
            <a:off x="2556000" y="3284640"/>
            <a:ext cx="2847960" cy="3146400"/>
          </a:xfrm>
          <a:prstGeom prst="rect">
            <a:avLst/>
          </a:prstGeom>
          <a:ln w="0">
            <a:noFill/>
          </a:ln>
        </p:spPr>
      </p:pic>
      <p:sp>
        <p:nvSpPr>
          <p:cNvPr id="360" name="WordArt 5"/>
          <p:cNvSpPr txBox="1"/>
          <p:nvPr/>
        </p:nvSpPr>
        <p:spPr>
          <a:xfrm>
            <a:off x="108000" y="357120"/>
            <a:ext cx="8640720" cy="227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4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втоматизация 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вук  а  Л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1" name="Rectangle 12"/>
          <p:cNvSpPr/>
          <p:nvPr/>
        </p:nvSpPr>
        <p:spPr>
          <a:xfrm>
            <a:off x="539640" y="6597720"/>
            <a:ext cx="2592360" cy="2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2"/>
          <p:cNvSpPr/>
          <p:nvPr/>
        </p:nvSpPr>
        <p:spPr>
          <a:xfrm>
            <a:off x="5472000" y="5805360"/>
            <a:ext cx="36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зентацию подготови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-логопед МОУСОШ №2, Кагарлыцкая Татьяна Леонид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53"/>
                </a:solidFill>
                <a:latin typeface="Cambria"/>
              </a:rPr>
              <a:t>Посмотри, как мышки дрязнят кошку, повтори за ними слоги.</a:t>
            </a:r>
            <a:endParaRPr b="0" lang="en-US" sz="28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86" name="Picture 4" descr="bestgif"/>
          <p:cNvPicPr/>
          <p:nvPr/>
        </p:nvPicPr>
        <p:blipFill>
          <a:blip r:embed="rId2"/>
          <a:stretch/>
        </p:blipFill>
        <p:spPr>
          <a:xfrm>
            <a:off x="5713560" y="428760"/>
            <a:ext cx="3430440" cy="452592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5" descr="a178"/>
          <p:cNvPicPr/>
          <p:nvPr/>
        </p:nvPicPr>
        <p:blipFill>
          <a:blip r:embed="rId3"/>
          <a:stretch/>
        </p:blipFill>
        <p:spPr>
          <a:xfrm>
            <a:off x="571680" y="5214960"/>
            <a:ext cx="1371600" cy="13334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3" descr="крыса, анимашка"/>
          <p:cNvPicPr/>
          <p:nvPr/>
        </p:nvPicPr>
        <p:blipFill>
          <a:blip r:embed="rId4"/>
          <a:stretch/>
        </p:blipFill>
        <p:spPr>
          <a:xfrm>
            <a:off x="1643040" y="2286000"/>
            <a:ext cx="1276200" cy="13622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5" descr="танцующая мышь, анимашка"/>
          <p:cNvPicPr/>
          <p:nvPr/>
        </p:nvPicPr>
        <p:blipFill>
          <a:blip r:embed="rId5"/>
          <a:stretch/>
        </p:blipFill>
        <p:spPr>
          <a:xfrm>
            <a:off x="3643200" y="4500720"/>
            <a:ext cx="1785960" cy="1785960"/>
          </a:xfrm>
          <a:prstGeom prst="rect">
            <a:avLst/>
          </a:prstGeom>
          <a:ln w="0">
            <a:noFill/>
          </a:ln>
        </p:spPr>
      </p:pic>
      <p:sp>
        <p:nvSpPr>
          <p:cNvPr id="490" name="TextBox 11"/>
          <p:cNvSpPr/>
          <p:nvPr/>
        </p:nvSpPr>
        <p:spPr>
          <a:xfrm rot="20019000">
            <a:off x="2184480" y="1260360"/>
            <a:ext cx="25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А-ЛА-ЛА-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12"/>
          <p:cNvSpPr/>
          <p:nvPr/>
        </p:nvSpPr>
        <p:spPr>
          <a:xfrm rot="2128800">
            <a:off x="3592800" y="4246560"/>
            <a:ext cx="19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О-ЛО-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13"/>
          <p:cNvSpPr/>
          <p:nvPr/>
        </p:nvSpPr>
        <p:spPr>
          <a:xfrm rot="20045400">
            <a:off x="273960" y="424620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ЛЫ-ЛЫ-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14"/>
          <p:cNvSpPr/>
          <p:nvPr/>
        </p:nvSpPr>
        <p:spPr>
          <a:xfrm rot="1695000">
            <a:off x="1286280" y="500076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ЛУ-ЛУ-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15"/>
          <p:cNvSpPr/>
          <p:nvPr/>
        </p:nvSpPr>
        <p:spPr>
          <a:xfrm rot="20698800">
            <a:off x="4428720" y="3714840"/>
            <a:ext cx="11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ЛО-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11" descr="кошка бежит, анимашка"/>
          <p:cNvPicPr/>
          <p:nvPr/>
        </p:nvPicPr>
        <p:blipFill>
          <a:blip r:embed="rId6"/>
          <a:stretch/>
        </p:blipFill>
        <p:spPr>
          <a:xfrm flipH="1">
            <a:off x="6391440" y="3071880"/>
            <a:ext cx="2752560" cy="19177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4" descr=""/>
          <p:cNvPicPr/>
          <p:nvPr/>
        </p:nvPicPr>
        <p:blipFill>
          <a:blip r:embed="rId7"/>
          <a:stretch/>
        </p:blipFill>
        <p:spPr>
          <a:xfrm>
            <a:off x="9358200" y="285840"/>
            <a:ext cx="233640" cy="23328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4" descr=""/>
          <p:cNvPicPr/>
          <p:nvPr/>
        </p:nvPicPr>
        <p:blipFill>
          <a:blip r:embed="rId8"/>
          <a:stretch/>
        </p:blipFill>
        <p:spPr>
          <a:xfrm>
            <a:off x="9358200" y="714240"/>
            <a:ext cx="233640" cy="233640"/>
          </a:xfrm>
          <a:prstGeom prst="rect">
            <a:avLst/>
          </a:prstGeom>
          <a:ln w="0">
            <a:noFill/>
          </a:ln>
        </p:spPr>
      </p:pic>
      <p:sp>
        <p:nvSpPr>
          <p:cNvPr id="498" name="TextBox 20"/>
          <p:cNvSpPr/>
          <p:nvPr/>
        </p:nvSpPr>
        <p:spPr>
          <a:xfrm rot="1738800">
            <a:off x="1249200" y="15429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ЛА-ЛО-ЛУ-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2" descr="http://animashky.ru/flist/objiv/251/56.gif"/>
          <p:cNvPicPr/>
          <p:nvPr/>
        </p:nvPicPr>
        <p:blipFill>
          <a:blip r:embed="rId9"/>
          <a:stretch/>
        </p:blipFill>
        <p:spPr>
          <a:xfrm flipH="1">
            <a:off x="285480" y="3357720"/>
            <a:ext cx="717480" cy="103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6" dur="1" fill="hold"/>
                                        <p:tgtEl>
                                          <p:spTgt spid="4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mediacall" presetID="1">
                                  <p:stCondLst>
                                    <p:cond delay="4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9" dur="1" fill="hold"/>
                                        <p:tgtEl>
                                          <p:spTgt spid="4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508" dur="20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1" dur="5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500"/>
                            </p:stCondLst>
                            <p:childTnLst>
                              <p:par>
                                <p:cTn id="5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521" dur="2000" fill="hold"/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000"/>
                            </p:stCondLst>
                            <p:childTnLst>
                              <p:par>
                                <p:cTn id="523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4" dur="5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500"/>
                            </p:stCondLst>
                            <p:childTnLst>
                              <p:par>
                                <p:cTn id="5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09806E-006 L -0.00209 -0.5458 E">
                                      <p:cBhvr>
                                        <p:cTn id="534" dur="2000" fill="hold"/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2000"/>
                            </p:stCondLst>
                            <p:childTnLst>
                              <p:par>
                                <p:cTn id="536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7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500"/>
                            </p:stCondLst>
                            <p:childTnLst>
                              <p:par>
                                <p:cTn id="5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547" dur="200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0" dur="5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560" dur="2000" fill="hold"/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000"/>
                            </p:stCondLst>
                            <p:childTnLst>
                              <p:par>
                                <p:cTn id="5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35 -0.04209 L -0.02708 -0.43039 E">
                                      <p:cBhvr>
                                        <p:cTn id="568" dur="20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0" dur="252" fill="hold"/>
                                        <p:tgtEl>
                                          <p:spTgt spid="4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000"/>
                            </p:stCondLst>
                            <p:childTnLst>
                              <p:par>
                                <p:cTn id="5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2.21092E-006 C -0.00938 -0.00833 -0.01997 -0.01318 -0.0309 -0.01688 C -0.03472 -0.02151 -0.03281 -0.02035 -0.03802 -0.02267 C -0.0408 -0.02405 -0.04653 -0.02637 -0.04653 -0.02614 C -0.05226 -0.03793 -0.06476 -0.04626 -0.07465 -0.05065 C -0.08073 -0.05921 -0.07361 -0.05042 -0.08177 -0.05643 C -0.08472 -0.05851 -0.0901 -0.06383 -0.0901 -0.0636 C -0.0941 -0.0717 -0.10035 -0.07748 -0.10556 -0.08441 C -0.11233 -0.09343 -0.11875 -0.10384 -0.12674 -0.11078 C -0.13247 -0.12234 -0.12604 -0.1117 -0.13385 -0.11818 C -0.14375 -0.12627 -0.12865 -0.11864 -0.1408 -0.12396 C -0.14601 -0.12327 -0.15139 -0.12419 -0.15625 -0.12211 C -0.1566 -0.12188 -0.16528 -0.10685 -0.16615 -0.10523 C -0.16945 -0.09158 -0.17205 -0.07771 -0.17465 -0.06383 C -0.17535 -0.06013 -0.17691 -0.04556 -0.17882 -0.04325 C -0.18229 -0.03909 -0.18403 -0.03053 -0.18872 -0.03007 C -0.19583 -0.02937 -0.20278 -0.02891 -0.2099 -0.02822 C -0.21129 -0.02752 -0.2132 -0.02799 -0.21406 -0.02637 C -0.21458 -0.02521 -0.21545 -0.01365 -0.21684 -0.01133 C -0.2191 -0.00763 -0.22517 -0.00278 -0.22813 2.21092E-006 C -0.23507 0.01387 -0.24774 0.00254 -0.25781 0.0111 C -0.25972 0.01919 -0.25695 0.00809 -0.26076 0.01503 C -0.26285 0.0185 -0.26024 0.01318 -0.26215 0.01688 C -0.26302 0.01873 -0.26493 0.02151 -0.26632 0.02266 C -0.2717 0.02729 -0.25955 0.01549 -0.26354 0.02081 E">
                                      <p:cBhvr>
                                        <p:cTn id="573" dur="2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4000"/>
                            </p:stCondLst>
                            <p:childTnLst>
                              <p:par>
                                <p:cTn id="575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6" dur="50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4500"/>
                            </p:stCondLst>
                            <p:childTnLst>
                              <p:par>
                                <p:cTn id="5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455 0.05435 C -0.28594 0.05504 -0.28733 0.05666 -0.28872 0.0562 C -0.2901 0.05573 -0.29045 0.05319 -0.29167 0.05226 C -0.29427 0.05041 -0.29722 0.04972 -0.3 0.04856 C -0.30156 0.04787 -0.30278 0.04579 -0.30434 0.04486 C -0.30695 0.04324 -0.31267 0.04116 -0.31267 0.04139 C -0.37674 0.0444 -0.43993 0.04579 -0.50434 0.04671 C -0.51632 0.04856 -0.51493 0.04671 -0.52257 0.05435 C -0.52535 0.05712 -0.53108 0.06175 -0.53108 0.06198 C -0.5349 0.06938 -0.53941 0.07539 -0.54514 0.08048 C -0.5507 0.09158 -0.54931 0.08626 -0.54653 0.10869 C -0.54601 0.11262 -0.54375 0.11979 -0.54375 0.12003 C -0.54358 0.13182 -0.53681 0.22803 -0.54653 0.24745 C -0.5625 0.24676 -0.58177 0.25694 -0.59445 0.24375 C -0.59913 0.2389 -0.60295 0.23057 -0.60712 0.22502 C -0.61146 0.21924 -0.61684 0.21392 -0.62118 0.20814 C -0.62517 0.20282 -0.63247 0.19126 -0.63247 0.19149 C -0.63125 0.17854 -0.63299 0.17877 -0.62969 0.16697 C -0.63212 0.15818 -0.61754 0.15957 -0.62552 0.15957 E">
                                      <p:cBhvr>
                                        <p:cTn id="581" dur="2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6500"/>
                            </p:stCondLst>
                            <p:childTnLst>
                              <p:par>
                                <p:cTn id="583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4" dur="50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7000"/>
                            </p:stCondLst>
                            <p:childTnLst>
                              <p:par>
                                <p:cTn id="5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4097 0.13876 C -0.6474 0.14153 -0.65295 0.14153 -0.65781 0.13483 C -0.66198 0.11841 -0.66111 0.12673 -0.6592 0.10499 C -0.65903 0.10222 -0.65816 0.09042 -0.65642 0.08603 C -0.6526 0.07655 -0.64948 0.07493 -0.64514 0.0673 C -0.63785 0.05411 -0.64323 0.05781 -0.63524 0.05435 C -0.62726 0.04348 -0.63142 0.04625 -0.62396 0.04301 C -0.61701 0.03654 -0.6099 0.03053 -0.60295 0.02428 C -0.59601 0.01827 -0.59392 0.00948 -0.5875 0.0037 C -0.58004 -0.01087 -0.59115 0.00925 -0.57622 -0.00948 C -0.56858 -0.0192 -0.55608 -0.03724 -0.54653 -0.0414 C -0.54514 -0.04256 -0.54392 -0.04417 -0.54236 -0.0451 C -0.54097 -0.04602 -0.53941 -0.04626 -0.5382 -0.04718 C -0.53038 -0.05342 -0.52274 -0.06198 -0.51563 -0.06961 C -0.50226 -0.08418 -0.5191 -0.06661 -0.50851 -0.08095 C -0.50729 -0.08256 -0.50556 -0.08326 -0.50434 -0.08465 C -0.49705 -0.09297 -0.49427 -0.09806 -0.48594 -0.10523 C -0.48316 -0.10754 -0.48195 -0.1124 -0.47899 -0.11471 C -0.4776 -0.11587 -0.47604 -0.11725 -0.47465 -0.11841 C -0.47951 -0.13576 -0.45677 -0.12882 -0.44931 -0.12951 C -0.44792 -0.1309 -0.4467 -0.13252 -0.44514 -0.13344 C -0.44236 -0.13506 -0.43663 -0.13714 -0.43663 -0.13691 C -0.43177 -0.14154 -0.42622 -0.1457 -0.42257 -0.15218 C -0.42049 -0.15588 -0.41979 -0.16096 -0.41701 -0.16351 C -0.41285 -0.16721 -0.40573 -0.17646 -0.40573 -0.17623 C -0.40434 -0.18201 -0.40295 -0.18779 -0.40156 -0.19334 C -0.40104 -0.19519 -0.40017 -0.19912 -0.40017 -0.19889 C -0.40174 -0.23058 -0.39635 -0.22433 -0.4099 -0.23104 C -0.41267 -0.22965 -0.41563 -0.22849 -0.4184 -0.22711 C -0.41979 -0.22641 -0.42257 -0.22526 -0.42257 -0.22503 C -0.4316 -0.21392 -0.4375 -0.21554 -0.45087 -0.21416 C -0.45642 -0.21138 -0.46198 -0.21046 -0.46771 -0.20837 C -0.47656 -0.20514 -0.48403 -0.2012 -0.49306 -0.19912 C -0.49445 -0.19774 -0.49601 -0.19658 -0.49722 -0.19519 C -0.49965 -0.19219 -0.50434 -0.18594 -0.50434 -0.18571 C -0.50816 -0.18663 -0.49931 -0.1901 -0.50295 -0.19126 C -0.49879 -0.19704 -0.50191 -0.19126 -0.50729 -0.19126 E">
                                      <p:cBhvr>
                                        <p:cTn id="589" dur="2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9000"/>
                            </p:stCondLst>
                            <p:childTnLst>
                              <p:par>
                                <p:cTn id="591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2" dur="50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0729 -0.19126 C -0.51597 -0.19496 -0.5184 -0.20514 -0.52535 -0.21138 C -0.53108 -0.22248 -0.52726 -0.21647 -0.53854 -0.22711 C -0.54965 -0.23728 -0.55504 -0.25208 -0.56823 -0.2581 C -0.5842 -0.2729 -0.61406 -0.27544 -0.63247 -0.27845 C -0.63854 -0.28122 -0.64375 -0.28238 -0.64896 -0.28724 C -0.65347 -0.29602 -0.65781 -0.30181 -0.66372 -0.30944 C -0.66701 -0.31383 -0.67135 -0.32193 -0.67535 -0.32516 C -0.67674 -0.32632 -0.67865 -0.32632 -0.68021 -0.32725 C -0.68195 -0.3284 -0.68351 -0.33048 -0.68507 -0.33164 C -0.70087 -0.33071 -0.72031 -0.33233 -0.73611 -0.32516 C -0.74705 -0.32609 -0.75816 -0.32609 -0.7691 -0.32725 C -0.77552 -0.32817 -0.78038 -0.33835 -0.78542 -0.34297 C -0.79097 -0.3543 -0.79913 -0.35985 -0.80538 -0.36957 C -0.82049 -0.39385 -0.84167 -0.41998 -0.86441 -0.42993 C -0.87431 -0.429 -0.8842 -0.43039 -0.8941 -0.42762 C -0.89792 -0.42646 -0.90382 -0.41883 -0.90382 -0.4186 C -0.90764 -0.41906 -0.94358 -0.41582 -0.95642 -0.42553 C -0.97066 -0.43594 -0.96163 -0.43224 -0.97136 -0.43663 C -0.97448 -0.43825 -0.97795 -0.43964 -0.98125 -0.44103 C -0.98281 -0.44195 -0.98611 -0.44334 -0.98611 -0.44311 C -0.98854 -0.44311 -1.01094 -0.44427 -1.01094 -0.43201 E">
                                      <p:cBhvr>
                                        <p:cTn id="598" dur="2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-360" y="35640"/>
            <a:ext cx="314316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501" name="Picture 2" descr="G:\ОТКРЫТЫЙ УРОК НА ФЕВРАЛЬ\картинки\фотки со школы\bongo_drum.gif"/>
          <p:cNvPicPr/>
          <p:nvPr/>
        </p:nvPicPr>
        <p:blipFill>
          <a:blip r:embed="rId1"/>
          <a:stretch/>
        </p:blipFill>
        <p:spPr>
          <a:xfrm>
            <a:off x="5572080" y="471492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0" descr="http://www.lenagold.ru/fon/clipart/n/nota/nota07.jpg"/>
          <p:cNvPicPr/>
          <p:nvPr/>
        </p:nvPicPr>
        <p:blipFill>
          <a:blip r:embed="rId2"/>
          <a:stretch/>
        </p:blipFill>
        <p:spPr>
          <a:xfrm>
            <a:off x="571680" y="1571760"/>
            <a:ext cx="1618920" cy="17143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12" descr="http://www.lenagold.ru/fon/clipart/n/nota/nota05.jpg"/>
          <p:cNvPicPr/>
          <p:nvPr/>
        </p:nvPicPr>
        <p:blipFill>
          <a:blip r:embed="rId3"/>
          <a:stretch/>
        </p:blipFill>
        <p:spPr>
          <a:xfrm>
            <a:off x="3929040" y="2071800"/>
            <a:ext cx="1619280" cy="17143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14" descr="http://www.lenagold.ru/fon/clipart/n/nota/nota16.jpg"/>
          <p:cNvPicPr/>
          <p:nvPr/>
        </p:nvPicPr>
        <p:blipFill>
          <a:blip r:embed="rId4"/>
          <a:stretch/>
        </p:blipFill>
        <p:spPr>
          <a:xfrm>
            <a:off x="1643040" y="1071720"/>
            <a:ext cx="2305080" cy="2214360"/>
          </a:xfrm>
          <a:prstGeom prst="rect">
            <a:avLst/>
          </a:prstGeom>
          <a:ln w="0">
            <a:noFill/>
          </a:ln>
        </p:spPr>
      </p:pic>
      <p:sp>
        <p:nvSpPr>
          <p:cNvPr id="505" name="TextBox 7"/>
          <p:cNvSpPr/>
          <p:nvPr/>
        </p:nvSpPr>
        <p:spPr>
          <a:xfrm>
            <a:off x="785880" y="264312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2da7a"/>
                </a:solidFill>
                <a:latin typeface="Arial"/>
              </a:rPr>
              <a:t>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8"/>
          <p:cNvSpPr/>
          <p:nvPr/>
        </p:nvSpPr>
        <p:spPr>
          <a:xfrm>
            <a:off x="1785960" y="27147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2da7a"/>
                </a:solidFill>
                <a:latin typeface="Arial"/>
              </a:rPr>
              <a:t>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9"/>
          <p:cNvSpPr/>
          <p:nvPr/>
        </p:nvSpPr>
        <p:spPr>
          <a:xfrm>
            <a:off x="2714760" y="26431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2da7a"/>
                </a:solidFill>
                <a:latin typeface="Arial"/>
              </a:rPr>
              <a:t>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10"/>
          <p:cNvSpPr/>
          <p:nvPr/>
        </p:nvSpPr>
        <p:spPr>
          <a:xfrm>
            <a:off x="4071960" y="3071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10" descr="http://www.lenagold.ru/fon/clipart/n/nota/nota07.jpg"/>
          <p:cNvPicPr/>
          <p:nvPr/>
        </p:nvPicPr>
        <p:blipFill>
          <a:blip r:embed="rId5"/>
          <a:stretch/>
        </p:blipFill>
        <p:spPr>
          <a:xfrm>
            <a:off x="5143680" y="2571840"/>
            <a:ext cx="2357280" cy="2286000"/>
          </a:xfrm>
          <a:prstGeom prst="rect">
            <a:avLst/>
          </a:prstGeom>
          <a:ln w="0">
            <a:noFill/>
          </a:ln>
        </p:spPr>
      </p:pic>
      <p:sp>
        <p:nvSpPr>
          <p:cNvPr id="510" name="TextBox 17"/>
          <p:cNvSpPr/>
          <p:nvPr/>
        </p:nvSpPr>
        <p:spPr>
          <a:xfrm>
            <a:off x="5429160" y="400068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2da7a"/>
                </a:solidFill>
                <a:latin typeface="Arial"/>
              </a:rPr>
              <a:t>ЛА-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16" descr="http://www.lenagold.ru/fon/clipart/n/nota/nota17.jpg"/>
          <p:cNvPicPr/>
          <p:nvPr/>
        </p:nvPicPr>
        <p:blipFill>
          <a:blip r:embed="rId6"/>
          <a:stretch/>
        </p:blipFill>
        <p:spPr>
          <a:xfrm>
            <a:off x="7047000" y="3760920"/>
            <a:ext cx="2116080" cy="2116080"/>
          </a:xfrm>
          <a:prstGeom prst="rect">
            <a:avLst/>
          </a:prstGeom>
          <a:ln w="0">
            <a:noFill/>
          </a:ln>
        </p:spPr>
      </p:pic>
      <p:sp>
        <p:nvSpPr>
          <p:cNvPr id="512" name="TextBox 18"/>
          <p:cNvSpPr/>
          <p:nvPr/>
        </p:nvSpPr>
        <p:spPr>
          <a:xfrm>
            <a:off x="7286760" y="5286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11" descr="мультяшки - Тигренок "/>
          <p:cNvPicPr/>
          <p:nvPr/>
        </p:nvPicPr>
        <p:blipFill>
          <a:blip r:embed="rId7"/>
          <a:stretch/>
        </p:blipFill>
        <p:spPr>
          <a:xfrm>
            <a:off x="3500280" y="4143240"/>
            <a:ext cx="2262240" cy="2714760"/>
          </a:xfrm>
          <a:prstGeom prst="rect">
            <a:avLst/>
          </a:prstGeom>
          <a:ln w="0">
            <a:noFill/>
          </a:ln>
        </p:spPr>
      </p:pic>
      <p:sp>
        <p:nvSpPr>
          <p:cNvPr id="514" name="Cloud"/>
          <p:cNvSpPr/>
          <p:nvPr/>
        </p:nvSpPr>
        <p:spPr>
          <a:xfrm rot="494400">
            <a:off x="50400" y="6113160"/>
            <a:ext cx="4651560" cy="1114200"/>
          </a:xfrm>
          <a:prstGeom prst="pie">
            <a:avLst/>
          </a:prstGeom>
          <a:gradFill rotWithShape="0">
            <a:gsLst>
              <a:gs pos="0">
                <a:srgbClr val="00b050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Cloud"/>
          <p:cNvSpPr/>
          <p:nvPr/>
        </p:nvSpPr>
        <p:spPr>
          <a:xfrm rot="20964600">
            <a:off x="4573080" y="5944680"/>
            <a:ext cx="4962600" cy="1262160"/>
          </a:xfrm>
          <a:prstGeom prst="pie">
            <a:avLst/>
          </a:prstGeom>
          <a:gradFill rotWithShape="0">
            <a:gsLst>
              <a:gs pos="0">
                <a:srgbClr val="00b050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8" descr="кролик играет на гитаре, анимашка"/>
          <p:cNvPicPr/>
          <p:nvPr/>
        </p:nvPicPr>
        <p:blipFill>
          <a:blip r:embed="rId8"/>
          <a:stretch/>
        </p:blipFill>
        <p:spPr>
          <a:xfrm>
            <a:off x="357120" y="3571920"/>
            <a:ext cx="3608280" cy="300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7.58557E-007 L -0.00677 -0.20699 E">
                                      <p:cBhvr>
                                        <p:cTn id="612" dur="2000" fill="hold"/>
                                        <p:tgtEl>
                                          <p:spTgt spid="5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9.62072E-007 L -0.00538 -0.22156 E">
                                      <p:cBhvr>
                                        <p:cTn id="614" dur="2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000"/>
                            </p:stCondLst>
                            <p:childTnLst>
                              <p:par>
                                <p:cTn id="6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4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20259E-006 L 0.00521 -0.18502 E">
                                      <p:cBhvr>
                                        <p:cTn id="6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9.25069E-007 L 0.00208 -0.19172 E">
                                      <p:cBhvr>
                                        <p:cTn id="630" dur="2000" fill="hold"/>
                                        <p:tgtEl>
                                          <p:spTgt spid="5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89454E-006 L -0.00121 -0.18131 E">
                                      <p:cBhvr>
                                        <p:cTn id="632" dur="20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74838E-006 L -0.0026 -0.30481 E">
                                      <p:cBhvr>
                                        <p:cTn id="643" dur="2000" fill="hold"/>
                                        <p:tgtEl>
                                          <p:spTgt spid="5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49584E-006 L 2.5E-006 -0.28423 E">
                                      <p:cBhvr>
                                        <p:cTn id="645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2000"/>
                            </p:stCondLst>
                            <p:childTnLst>
                              <p:par>
                                <p:cTn id="6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41258E-006 L -0.00226 -0.40889 E">
                                      <p:cBhvr>
                                        <p:cTn id="656" dur="2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82146E-006 L -0.00243 -0.39408 E">
                                      <p:cBhvr>
                                        <p:cTn id="658" dur="2000" fill="hold"/>
                                        <p:tgtEl>
                                          <p:spTgt spid="5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07308E-006 L -0.00069 -0.42322 E">
                                      <p:cBhvr>
                                        <p:cTn id="669" dur="2000" fill="hold"/>
                                        <p:tgtEl>
                                          <p:spTgt spid="5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02405E-006 L 0.0026 -0.42992 E">
                                      <p:cBhvr>
                                        <p:cTn id="671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alt"/>
          <p:cNvPicPr/>
          <p:nvPr/>
        </p:nvPicPr>
        <p:blipFill>
          <a:blip r:embed="rId1"/>
          <a:stretch/>
        </p:blipFill>
        <p:spPr>
          <a:xfrm>
            <a:off x="0" y="-2500200"/>
            <a:ext cx="9144000" cy="978696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5" descr="осьминог, анимашка, анимация"/>
          <p:cNvPicPr/>
          <p:nvPr/>
        </p:nvPicPr>
        <p:blipFill>
          <a:blip r:embed="rId2"/>
          <a:stretch/>
        </p:blipFill>
        <p:spPr>
          <a:xfrm>
            <a:off x="6643800" y="2928960"/>
            <a:ext cx="2500200" cy="250020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92000" y="836640"/>
            <a:ext cx="725004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ff0000"/>
                </a:solidFill>
                <a:latin typeface="Cambria"/>
              </a:rPr>
              <a:t>Осьминог плывёт к берегу к своему другу,  слышен плеск его щупалец. Повтори за ним: ПЛА – ПЛО- ПЛЫ- ПЛУ,  КЛА – ЗЛА-ШЛА-МЛА-ПЛА.</a:t>
            </a: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520" name="Picture 4" descr="bestgif"/>
          <p:cNvPicPr/>
          <p:nvPr/>
        </p:nvPicPr>
        <p:blipFill>
          <a:blip r:embed="rId3"/>
          <a:stretch/>
        </p:blipFill>
        <p:spPr>
          <a:xfrm>
            <a:off x="214200" y="3929040"/>
            <a:ext cx="2857680" cy="31338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" descr="j0283925"/>
          <p:cNvPicPr/>
          <p:nvPr/>
        </p:nvPicPr>
        <p:blipFill>
          <a:blip r:embed="rId4"/>
          <a:stretch/>
        </p:blipFill>
        <p:spPr>
          <a:xfrm>
            <a:off x="357120" y="357120"/>
            <a:ext cx="1398600" cy="123840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2" descr="AG00181_"/>
          <p:cNvPicPr/>
          <p:nvPr/>
        </p:nvPicPr>
        <p:blipFill>
          <a:blip r:embed="rId5"/>
          <a:stretch/>
        </p:blipFill>
        <p:spPr>
          <a:xfrm>
            <a:off x="4284720" y="5699160"/>
            <a:ext cx="1944720" cy="115884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3" descr="AG00181_"/>
          <p:cNvPicPr/>
          <p:nvPr/>
        </p:nvPicPr>
        <p:blipFill>
          <a:blip r:embed="rId6"/>
          <a:stretch/>
        </p:blipFill>
        <p:spPr>
          <a:xfrm flipH="1" rot="351600">
            <a:off x="5202000" y="5902200"/>
            <a:ext cx="19447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215 -0.01781 C -0.06753 -0.01527 -0.07222 -0.01434 -0.07708 -0.00995 C -0.08003 -0.00717 -0.08299 -0.00463 -0.08594 -0.00185 C -0.0875 -0.00046 -0.09045 0.00208 -0.09045 0.00231 C -0.09253 0.01364 -0.09149 0.01249 -0.09792 0.01989 C -0.10052 0.02289 -0.10538 0.02983 -0.10538 0.03006 C -0.11979 0.02914 -0.13437 0.03029 -0.14861 0.02798 C -0.15069 0.02752 -0.15156 0.02382 -0.15312 0.02197 C -0.15729 0.01734 -0.16128 0.01249 -0.16649 0.00994 C -0.17014 0.00532 -0.17708 -0.00393 -0.17708 -0.0037 C -0.17812 -0.0081 -0.18125 -0.01133 -0.18142 -0.01573 C -0.18246 -0.05319 -0.17934 -0.06846 -0.17101 -0.09922 C -0.17049 -0.10384 -0.17066 -0.10893 -0.16962 -0.11332 C -0.1691 -0.1154 -0.16302 -0.12026 -0.16215 -0.12119 C -0.15816 -0.12535 -0.15295 -0.1383 -0.14722 -0.13899 C -0.13229 -0.14084 -0.11736 -0.14038 -0.10243 -0.14107 C -0.05573 -0.15703 -0.01163 -0.142 0.03351 -0.13506 C 0.11111 -0.1383 0.06684 -0.12558 0.09618 -0.15102 C 0.09722 -0.1531 0.09844 -0.15495 0.09913 -0.15703 C 0.10035 -0.16073 0.10208 -0.16883 0.10208 -0.1686 C 0.10156 -0.1834 0.10191 -0.19797 0.1007 -0.21254 C 0.09931 -0.22942 0.08854 -0.24052 0.07969 -0.25046 C 0.07517 -0.25555 0.07587 -0.25717 0.07083 -0.26041 C 0.06945 -0.26133 0.06111 -0.26411 0.06024 -0.26434 C 0.03889 -0.26365 0.01754 -0.26318 -0.00382 -0.26226 C -0.01424 -0.2618 -0.02483 -0.26156 -0.03524 -0.26041 C -0.03837 -0.26018 -0.04392 -0.25786 -0.04722 -0.25648 C -0.05017 -0.25509 -0.05608 -0.25231 -0.05608 -0.25208 C -0.06059 -0.24653 -0.06371 -0.24306 -0.06962 -0.24052 C -0.10069 -0.2123 -0.13142 -0.22364 -0.17257 -0.22248 C -0.1783 -0.22017 -0.17934 -0.21508 -0.18437 -0.21069 C -0.18733 -0.20467 -0.19149 -0.19935 -0.1934 -0.19265 C -0.19826 -0.17461 -0.2 -0.15218 -0.21285 -0.14107 C -0.21562 -0.12882 -0.21875 -0.11818 -0.22031 -0.10523 C -0.22153 -0.09551 -0.22257 -0.07956 -0.22621 -0.06938 C -0.2283 -0.0636 -0.23246 -0.05897 -0.23524 -0.05366 C -0.23715 -0.04556 -0.2401 -0.04417 -0.2441 -0.0377 C -0.24983 -0.02845 -0.25573 -0.02035 -0.26215 -0.0118 C -0.26823 -0.0037 -0.26146 -0.00717 -0.26962 -0.00185 C -0.27135 -0.0007 -0.27882 0.00162 -0.28003 0.00208 C -0.28299 0.00139 -0.28611 0.00162 -0.28889 1.37835E-006 C -0.2908 -0.00116 -0.29184 -0.00393 -0.2934 -0.00578 C -0.29844 -0.01226 -0.30347 -0.01897 -0.30833 -0.02567 C -0.31059 -0.02868 -0.3118 -0.03307 -0.31424 -0.03562 C -0.31545 -0.037 -0.31719 -0.037 -0.31875 -0.0377 C -0.32187 -0.04417 -0.3243 -0.04718 -0.32917 -0.05157 C -0.3375 -0.06753 -0.33594 -0.10176 -0.32621 -0.11725 C -0.3217 -0.12442 -0.31528 -0.12928 -0.3099 -0.13506 C -0.30555 -0.13946 -0.30469 -0.14269 -0.2993 -0.14501 C -0.28281 -0.15981 -0.30642 -0.13922 -0.29045 -0.15102 C -0.28733 -0.15333 -0.28142 -0.15888 -0.28142 -0.15865 C -0.2783 -0.16513 -0.2743 -0.16721 -0.27101 -0.17299 C -0.26615 -0.18178 -0.26059 -0.19149 -0.25608 -0.20074 C -0.25226 -0.21762 -0.25781 -0.19704 -0.25156 -0.21069 C -0.2474 -0.21994 -0.24809 -0.23173 -0.24271 -0.24052 C -0.24132 -0.2426 -0.23993 -0.24491 -0.23819 -0.24653 C -0.23542 -0.24954 -0.22917 -0.2544 -0.22917 -0.25416 C -0.22448 -0.26388 -0.21788 -0.27243 -0.2099 -0.27637 C -0.20417 -0.28354 -0.19635 -0.28909 -0.18889 -0.29209 C -0.10312 -0.37119 0.02135 -0.25995 0.11997 -0.30204 C 0.12361 -0.30712 0.12587 -0.30921 0.12743 -0.31614 C 0.12691 -0.33141 0.12743 -0.34667 0.12604 -0.3617 C 0.12552 -0.36725 0.11215 -0.38414 0.10816 -0.38761 C 0.10035 -0.40264 0.0875 -0.40773 0.07517 -0.41351 C 0.05226 -0.41166 0.02934 -0.41096 0.0066 -0.40749 C -0.01736 -0.39639 -0.00174 -0.39986 -0.04566 -0.39755 C -0.0651 -0.39223 -0.06615 -0.39131 -0.09184 -0.38969 C -0.09479 -0.3883 -0.09792 -0.38691 -0.10087 -0.38552 C -0.10434 -0.38391 -0.1099 -0.37766 -0.1099 -0.37743 C -0.11771 -0.3617 -0.10746 -0.3809 -0.11736 -0.36772 C -0.11858 -0.3661 -0.11892 -0.36309 -0.12031 -0.3617 C -0.12378 -0.358 -0.13524 -0.35569 -0.13976 -0.35384 C -0.15486 -0.355 -0.16267 -0.35638 -0.17552 -0.3617 C -0.20035 -0.36101 -0.22535 -0.3617 -0.25017 -0.35985 C -0.2533 -0.35962 -0.25903 -0.35569 -0.25903 -0.35546 C -0.26007 -0.3543 -0.26128 -0.35315 -0.26215 -0.35176 C -0.26337 -0.34991 -0.26337 -0.34575 -0.2651 -0.34575 C -0.3158 -0.3432 -0.36667 -0.34459 -0.41736 -0.3439 C -0.41875 -0.34251 -0.42083 -0.34205 -0.4217 -0.33996 C -0.42344 -0.33626 -0.42309 -0.33141 -0.42483 -0.32794 C -0.42674 -0.32401 -0.42951 -0.32054 -0.43073 -0.31614 C -0.43125 -0.31406 -0.43125 -0.31175 -0.43229 -0.31013 C -0.43333 -0.30874 -0.43524 -0.30874 -0.43663 -0.30805 C -0.4441 -0.30874 -0.45156 -0.30897 -0.45903 -0.31013 C -0.46406 -0.31082 -0.4691 -0.31429 -0.47396 -0.31614 C -0.49288 -0.32331 -0.51406 -0.33094 -0.53368 -0.33187 C -0.55608 -0.33303 -0.57847 -0.33326 -0.60087 -0.33395 C -0.60677 -0.33904 -0.6118 -0.3402 -0.61875 -0.34181 C -0.62517 -0.34112 -0.63177 -0.34112 -0.63819 -0.33996 C -0.6526 -0.33765 -0.6625 -0.31406 -0.67101 -0.30204 C -0.67535 -0.28608 -0.66944 -0.30551 -0.67552 -0.29209 C -0.67621 -0.2907 -0.67812 -0.28169 -0.67847 -0.2803 C -0.67795 -0.27035 -0.68021 -0.25833 -0.67552 -0.25046 C -0.6658 -0.23381 -0.64549 -0.22664 -0.63073 -0.22063 C -0.55208 -0.22294 -0.53212 -0.2241 -0.43976 -0.22248 C -0.41441 -0.22086 -0.38871 -0.22109 -0.36354 -0.2167 C -0.35729 -0.21092 -0.35417 -0.21045 -0.34861 -0.20259 C -0.34236 -0.17623 -0.34635 -0.15773 -0.3651 -0.1531 C -0.47795 -0.15472 -0.44878 -0.13992 -0.49496 -0.15888 C -0.49635 -0.16027 -0.49757 -0.16235 -0.4993 -0.16304 C -0.50365 -0.16513 -0.51285 -0.16698 -0.51285 -0.16675 C -0.53524 -0.16536 -0.55694 -0.16189 -0.57847 -0.1531 C -0.57986 -0.15125 -0.58403 -0.1457 -0.58437 -0.14316 C -0.58576 -0.13252 -0.57621 -0.12928 -0.57101 -0.1272 C -0.56441 -0.12142 -0.55781 -0.11656 -0.55017 -0.11332 C -0.54462 -0.10569 -0.51424 -0.10407 -0.50677 -0.10338 C -0.49253 -0.09644 -0.47483 -0.09829 -0.46059 -0.09736 C -0.45417 -0.09181 -0.45104 -0.08465 -0.44861 -0.07539 C -0.44913 -0.06406 -0.44896 -0.05273 -0.45017 -0.04163 C -0.45052 -0.03793 -0.45608 -0.03192 -0.45764 -0.02983 C -0.46319 -0.02243 -0.46719 -0.01341 -0.47257 -0.00578 C -0.47639 0.00994 -0.47101 -0.00925 -0.47708 0.00416 C -0.48351 0.01804 -0.47309 0.00254 -0.48142 0.01411 C -0.48576 0.03006 -0.47986 0.01064 -0.48594 0.02405 C -0.48837 0.02937 -0.48837 0.03631 -0.49045 0.04186 C -0.49132 0.04394 -0.49271 0.04579 -0.4934 0.04787 C -0.49462 0.05157 -0.49531 0.05573 -0.49635 0.05967 C -0.49687 0.06175 -0.49792 0.06568 -0.49792 0.06591 C -0.4974 0.071 -0.49635 0.07632 -0.49635 0.08164 C -0.49635 0.11332 -0.44566 0.04163 -0.46059 0.06152 C -0.46823 0.07169 -0.46962 0.07308 -0.48003 0.07747 C -0.47396 0.06545 -0.47847 0.07354 -0.46805 0.06938 C -0.45729 0.0592 -0.49809 0.09019 -0.48733 0.08325 C -0.48229 0.08002 -0.48837 0.04787 -0.48299 0.04556 C -0.47865 0.04186 -0.49618 0.05712 -0.49184 0.05342 C -0.48108 0.03145 -0.48854 0.12696 -0.49045 0.08164 C -0.49983 0.08973 -0.48437 0.04348 -0.48733 0.05758 C -0.48785 0.06036 -0.48837 0.04903 -0.48889 0.05157 C -0.48976 0.0555 -0.49184 0.07516 -0.49184 0.07539 C -0.49097 0.04787 -0.51892 0.08649 -0.4993 0.08164 C -0.49757 0.07377 -0.49184 0.06892 -0.49184 0.06175 E">
                                      <p:cBhvr>
                                        <p:cTn id="677" dur="25000" fill="hold"/>
                                        <p:tgtEl>
                                          <p:spTgt spid="5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Пятно 2 13"/>
          <p:cNvSpPr/>
          <p:nvPr/>
        </p:nvSpPr>
        <p:spPr>
          <a:xfrm>
            <a:off x="928800" y="2000160"/>
            <a:ext cx="5857920" cy="5572080"/>
          </a:xfrm>
          <a:prstGeom prst="irregularSeal2">
            <a:avLst/>
          </a:prstGeom>
          <a:solidFill>
            <a:srgbClr val="ffffff"/>
          </a:solidFill>
          <a:ln w="1260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2" descr="carrot01"/>
          <p:cNvPicPr/>
          <p:nvPr/>
        </p:nvPicPr>
        <p:blipFill>
          <a:blip r:embed="rId1"/>
          <a:stretch/>
        </p:blipFill>
        <p:spPr>
          <a:xfrm>
            <a:off x="2357280" y="3357720"/>
            <a:ext cx="1895760" cy="1589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2578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Cambria"/>
              </a:rPr>
              <a:t>Скажи столько раз слог </a:t>
            </a:r>
            <a:r>
              <a:rPr b="1" lang="ru-RU" sz="2800" spc="-1" strike="noStrike">
                <a:solidFill>
                  <a:srgbClr val="008080"/>
                </a:solidFill>
                <a:latin typeface="Arial"/>
              </a:rPr>
              <a:t>Л</a:t>
            </a:r>
            <a:r>
              <a:rPr b="1" lang="ru-RU" sz="2800" spc="-1" strike="noStrike">
                <a:solidFill>
                  <a:srgbClr val="008080"/>
                </a:solidFill>
                <a:latin typeface="Cambria"/>
              </a:rPr>
              <a:t>А, сколько </a:t>
            </a:r>
            <a:br>
              <a:rPr sz="2800"/>
            </a:br>
            <a:r>
              <a:rPr b="1" lang="ru-RU" sz="2800" spc="-1" strike="noStrike">
                <a:solidFill>
                  <a:srgbClr val="008080"/>
                </a:solidFill>
                <a:latin typeface="Cambria"/>
              </a:rPr>
              <a:t>морковок</a:t>
            </a:r>
            <a:r>
              <a:rPr b="1" lang="en-US" sz="2800" spc="-1" strike="noStrike">
                <a:solidFill>
                  <a:srgbClr val="008080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008080"/>
                </a:solidFill>
                <a:latin typeface="Cambria"/>
              </a:rPr>
              <a:t> у зайца</a:t>
            </a:r>
            <a:endParaRPr b="0" lang="en-US" sz="28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66" name="Picture 2" descr="http://animashky.ru/flist/objiv/17/162.gif"/>
          <p:cNvPicPr/>
          <p:nvPr/>
        </p:nvPicPr>
        <p:blipFill>
          <a:blip r:embed="rId2"/>
          <a:stretch/>
        </p:blipFill>
        <p:spPr>
          <a:xfrm>
            <a:off x="6215040" y="571680"/>
            <a:ext cx="2643120" cy="39528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" descr="http://animashky.ru/flist/objiv/17/57.gif"/>
          <p:cNvPicPr/>
          <p:nvPr/>
        </p:nvPicPr>
        <p:blipFill>
          <a:blip r:embed="rId3"/>
          <a:stretch/>
        </p:blipFill>
        <p:spPr>
          <a:xfrm rot="615000">
            <a:off x="6053040" y="5197320"/>
            <a:ext cx="1600200" cy="15303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carrot01"/>
          <p:cNvPicPr/>
          <p:nvPr/>
        </p:nvPicPr>
        <p:blipFill>
          <a:blip r:embed="rId4"/>
          <a:stretch/>
        </p:blipFill>
        <p:spPr>
          <a:xfrm>
            <a:off x="2143080" y="4768920"/>
            <a:ext cx="2492280" cy="20890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9" descr="cl236"/>
          <p:cNvPicPr/>
          <p:nvPr/>
        </p:nvPicPr>
        <p:blipFill>
          <a:blip r:embed="rId5"/>
          <a:stretch/>
        </p:blipFill>
        <p:spPr>
          <a:xfrm>
            <a:off x="-428760" y="3500280"/>
            <a:ext cx="2408400" cy="27147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carrot01"/>
          <p:cNvPicPr/>
          <p:nvPr/>
        </p:nvPicPr>
        <p:blipFill>
          <a:blip r:embed="rId6"/>
          <a:stretch/>
        </p:blipFill>
        <p:spPr>
          <a:xfrm rot="19183800">
            <a:off x="3975120" y="3881520"/>
            <a:ext cx="1703520" cy="142884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2"/>
          <p:cNvSpPr/>
          <p:nvPr/>
        </p:nvSpPr>
        <p:spPr>
          <a:xfrm>
            <a:off x="468360" y="189000"/>
            <a:ext cx="62578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mbria"/>
              </a:rPr>
              <a:t>Скажи столько раз слог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ЛО</a:t>
            </a:r>
            <a:r>
              <a:rPr b="1" lang="ru-RU" sz="2800" spc="-1" strike="noStrike">
                <a:solidFill>
                  <a:srgbClr val="0000ff"/>
                </a:solidFill>
                <a:latin typeface="Cambria"/>
              </a:rPr>
              <a:t>, сколько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Cambria"/>
              </a:rPr>
              <a:t>морковок</a:t>
            </a:r>
            <a:r>
              <a:rPr b="1" lang="en-US" sz="28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Cambria"/>
              </a:rPr>
              <a:t> у зай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"/>
          <p:cNvSpPr/>
          <p:nvPr/>
        </p:nvSpPr>
        <p:spPr>
          <a:xfrm>
            <a:off x="324000" y="189000"/>
            <a:ext cx="62578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Скажи столько раз слог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Ы</a:t>
            </a: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, сколько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морковок</a:t>
            </a:r>
            <a:r>
              <a:rPr b="1" lang="en-US" sz="28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 у зай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10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Ослик ИА учится правильно говорить звук Л, давай вместе с ним повторять слоги</a:t>
            </a:r>
            <a:endParaRPr b="0" lang="en-US" sz="28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74" name="Picture 12" descr="http://animashky.ru/flist/objiv/11/110.gif"/>
          <p:cNvPicPr/>
          <p:nvPr/>
        </p:nvPicPr>
        <p:blipFill>
          <a:blip r:embed="rId1"/>
          <a:stretch/>
        </p:blipFill>
        <p:spPr>
          <a:xfrm>
            <a:off x="5072040" y="1643040"/>
            <a:ext cx="3846600" cy="4375080"/>
          </a:xfrm>
          <a:prstGeom prst="rect">
            <a:avLst/>
          </a:prstGeom>
          <a:ln w="0">
            <a:noFill/>
          </a:ln>
        </p:spPr>
      </p:pic>
      <p:sp>
        <p:nvSpPr>
          <p:cNvPr id="375" name="Выноска-облако 5"/>
          <p:cNvSpPr/>
          <p:nvPr/>
        </p:nvSpPr>
        <p:spPr>
          <a:xfrm>
            <a:off x="3286080" y="3214800"/>
            <a:ext cx="1071720" cy="642960"/>
          </a:xfrm>
          <a:prstGeom prst="cloudCallout">
            <a:avLst>
              <a:gd name="adj1" fmla="val -20833"/>
              <a:gd name="adj2" fmla="val 101495"/>
            </a:avLst>
          </a:prstGeom>
          <a:solidFill>
            <a:srgbClr val="ffffff"/>
          </a:solidFill>
          <a:ln w="1260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Выноска-облако 6"/>
          <p:cNvSpPr/>
          <p:nvPr/>
        </p:nvSpPr>
        <p:spPr>
          <a:xfrm>
            <a:off x="3143160" y="2857680"/>
            <a:ext cx="1071720" cy="642600"/>
          </a:xfrm>
          <a:prstGeom prst="cloudCallout">
            <a:avLst>
              <a:gd name="adj1" fmla="val -20833"/>
              <a:gd name="adj2" fmla="val 110671"/>
            </a:avLst>
          </a:prstGeom>
          <a:solidFill>
            <a:srgbClr val="ffffff"/>
          </a:solidFill>
          <a:ln w="1260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Выноска-облако 7"/>
          <p:cNvSpPr/>
          <p:nvPr/>
        </p:nvSpPr>
        <p:spPr>
          <a:xfrm>
            <a:off x="3214800" y="2214720"/>
            <a:ext cx="1071360" cy="642960"/>
          </a:xfrm>
          <a:prstGeom prst="cloudCallout">
            <a:avLst>
              <a:gd name="adj1" fmla="val -26337"/>
              <a:gd name="adj2" fmla="val 94615"/>
            </a:avLst>
          </a:prstGeom>
          <a:solidFill>
            <a:srgbClr val="ffffff"/>
          </a:solidFill>
          <a:ln w="1260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Выноска-облако 8"/>
          <p:cNvSpPr/>
          <p:nvPr/>
        </p:nvSpPr>
        <p:spPr>
          <a:xfrm>
            <a:off x="2928960" y="3000240"/>
            <a:ext cx="1071720" cy="642960"/>
          </a:xfrm>
          <a:prstGeom prst="cloudCallout">
            <a:avLst>
              <a:gd name="adj1" fmla="val -20833"/>
              <a:gd name="adj2" fmla="val 99203"/>
            </a:avLst>
          </a:prstGeom>
          <a:solidFill>
            <a:srgbClr val="ffffff"/>
          </a:solidFill>
          <a:ln w="1260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Выноска-облако 9"/>
          <p:cNvSpPr/>
          <p:nvPr/>
        </p:nvSpPr>
        <p:spPr>
          <a:xfrm>
            <a:off x="6929280" y="2571840"/>
            <a:ext cx="1071720" cy="642960"/>
          </a:xfrm>
          <a:prstGeom prst="cloudCallout">
            <a:avLst>
              <a:gd name="adj1" fmla="val -20833"/>
              <a:gd name="adj2" fmla="val 108379"/>
            </a:avLst>
          </a:prstGeom>
          <a:solidFill>
            <a:srgbClr val="99ffcc"/>
          </a:solidFill>
          <a:ln w="1260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Выноска-облако 10"/>
          <p:cNvSpPr/>
          <p:nvPr/>
        </p:nvSpPr>
        <p:spPr>
          <a:xfrm>
            <a:off x="4714920" y="1857240"/>
            <a:ext cx="1071360" cy="714600"/>
          </a:xfrm>
          <a:prstGeom prst="cloudCallout">
            <a:avLst>
              <a:gd name="adj1" fmla="val -22208"/>
              <a:gd name="adj2" fmla="val 96907"/>
            </a:avLst>
          </a:prstGeom>
          <a:solidFill>
            <a:srgbClr val="ccffff"/>
          </a:solidFill>
          <a:ln w="1260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Выноска-облако 11"/>
          <p:cNvSpPr/>
          <p:nvPr/>
        </p:nvSpPr>
        <p:spPr>
          <a:xfrm>
            <a:off x="5000760" y="1357200"/>
            <a:ext cx="1071360" cy="642960"/>
          </a:xfrm>
          <a:prstGeom prst="cloudCallout">
            <a:avLst>
              <a:gd name="adj1" fmla="val -20833"/>
              <a:gd name="adj2" fmla="val 101495"/>
            </a:avLst>
          </a:prstGeom>
          <a:solidFill>
            <a:srgbClr val="ffccff"/>
          </a:solidFill>
          <a:ln w="1260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Выноска-облако 12"/>
          <p:cNvSpPr/>
          <p:nvPr/>
        </p:nvSpPr>
        <p:spPr>
          <a:xfrm>
            <a:off x="5715000" y="1428840"/>
            <a:ext cx="1071720" cy="642960"/>
          </a:xfrm>
          <a:prstGeom prst="cloudCallout">
            <a:avLst>
              <a:gd name="adj1" fmla="val -20833"/>
              <a:gd name="adj2" fmla="val 90027"/>
            </a:avLst>
          </a:prstGeom>
          <a:solidFill>
            <a:srgbClr val="ccecff"/>
          </a:solidFill>
          <a:ln w="1260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Выноска-облако 13"/>
          <p:cNvSpPr/>
          <p:nvPr/>
        </p:nvSpPr>
        <p:spPr>
          <a:xfrm>
            <a:off x="4643280" y="2000160"/>
            <a:ext cx="1071720" cy="642960"/>
          </a:xfrm>
          <a:prstGeom prst="cloudCallout">
            <a:avLst>
              <a:gd name="adj1" fmla="val -20833"/>
              <a:gd name="adj2" fmla="val 94615"/>
            </a:avLst>
          </a:prstGeom>
          <a:solidFill>
            <a:srgbClr val="ffff00"/>
          </a:solidFill>
          <a:ln w="1260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Выноска-облако 14"/>
          <p:cNvSpPr/>
          <p:nvPr/>
        </p:nvSpPr>
        <p:spPr>
          <a:xfrm>
            <a:off x="2428920" y="2643120"/>
            <a:ext cx="1071360" cy="642960"/>
          </a:xfrm>
          <a:prstGeom prst="cloudCallout">
            <a:avLst>
              <a:gd name="adj1" fmla="val -20833"/>
              <a:gd name="adj2" fmla="val 101495"/>
            </a:avLst>
          </a:prstGeom>
          <a:solidFill>
            <a:srgbClr val="ffffff"/>
          </a:solidFill>
          <a:ln w="1260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Выноска-облако 15"/>
          <p:cNvSpPr/>
          <p:nvPr/>
        </p:nvSpPr>
        <p:spPr>
          <a:xfrm>
            <a:off x="2428920" y="2143080"/>
            <a:ext cx="1071360" cy="642960"/>
          </a:xfrm>
          <a:prstGeom prst="cloudCallout">
            <a:avLst>
              <a:gd name="adj1" fmla="val -26337"/>
              <a:gd name="adj2" fmla="val 101495"/>
            </a:avLst>
          </a:prstGeom>
          <a:solidFill>
            <a:srgbClr val="ffffff"/>
          </a:solidFill>
          <a:ln w="1260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6"/>
          <p:cNvSpPr/>
          <p:nvPr/>
        </p:nvSpPr>
        <p:spPr>
          <a:xfrm>
            <a:off x="3071880" y="307188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7"/>
          <p:cNvSpPr/>
          <p:nvPr/>
        </p:nvSpPr>
        <p:spPr>
          <a:xfrm>
            <a:off x="3286080" y="2928960"/>
            <a:ext cx="10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18"/>
          <p:cNvSpPr/>
          <p:nvPr/>
        </p:nvSpPr>
        <p:spPr>
          <a:xfrm>
            <a:off x="2643120" y="271476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9"/>
          <p:cNvSpPr/>
          <p:nvPr/>
        </p:nvSpPr>
        <p:spPr>
          <a:xfrm>
            <a:off x="3357720" y="228600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20"/>
          <p:cNvSpPr/>
          <p:nvPr/>
        </p:nvSpPr>
        <p:spPr>
          <a:xfrm>
            <a:off x="2571840" y="228600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21"/>
          <p:cNvSpPr/>
          <p:nvPr/>
        </p:nvSpPr>
        <p:spPr>
          <a:xfrm>
            <a:off x="3429000" y="335772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23"/>
          <p:cNvSpPr/>
          <p:nvPr/>
        </p:nvSpPr>
        <p:spPr>
          <a:xfrm>
            <a:off x="7072200" y="26431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24"/>
          <p:cNvSpPr/>
          <p:nvPr/>
        </p:nvSpPr>
        <p:spPr>
          <a:xfrm>
            <a:off x="5786280" y="1500120"/>
            <a:ext cx="10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25"/>
          <p:cNvSpPr/>
          <p:nvPr/>
        </p:nvSpPr>
        <p:spPr>
          <a:xfrm>
            <a:off x="5143680" y="1428840"/>
            <a:ext cx="10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26"/>
          <p:cNvSpPr/>
          <p:nvPr/>
        </p:nvSpPr>
        <p:spPr>
          <a:xfrm>
            <a:off x="4786200" y="20718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6" descr="http://animashky.ru/flist/objiv/11/111.gif"/>
          <p:cNvPicPr/>
          <p:nvPr/>
        </p:nvPicPr>
        <p:blipFill>
          <a:blip r:embed="rId2"/>
          <a:stretch/>
        </p:blipFill>
        <p:spPr>
          <a:xfrm>
            <a:off x="285840" y="2857680"/>
            <a:ext cx="328608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7.40741E-007 L 0.00312 -0.56181 E">
                                      <p:cBhvr>
                                        <p:cTn id="77" dur="2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.01042 L -0.00486 -0.53796 E">
                                      <p:cBhvr>
                                        <p:cTn id="79" dur="20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07407E-006 L 0.0033 -0.53033 E">
                                      <p:cBhvr>
                                        <p:cTn id="92" dur="2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85185E-006 L -0.00451 -0.52755 E">
                                      <p:cBhvr>
                                        <p:cTn id="94" dur="20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07407E-006 L -0.00521 -0.53056 E">
                                      <p:cBhvr>
                                        <p:cTn id="107" dur="2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1.85185E-006 L -0.00122 -0.51736 E">
                                      <p:cBhvr>
                                        <p:cTn id="109" dur="2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07407E-006 L 0.0033 -0.47871 E">
                                      <p:cBhvr>
                                        <p:cTn id="122" dur="20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85185E-006 L -0.00069 -0.46528 E">
                                      <p:cBhvr>
                                        <p:cTn id="124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3.33333E-006 L -0.0033 -0.46343 E">
                                      <p:cBhvr>
                                        <p:cTn id="137" dur="2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81481E-006 L 0.00052 -0.45532 E">
                                      <p:cBhvr>
                                        <p:cTn id="139" dur="2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7.40741E-007 L 0.01042 -0.45764 E">
                                      <p:cBhvr>
                                        <p:cTn id="152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85185E-006 L -0.00521 -0.48634 E">
                                      <p:cBhvr>
                                        <p:cTn id="154" dur="2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59259E-006 L -0.00243 -0.38518 E">
                                      <p:cBhvr>
                                        <p:cTn id="167" dur="20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69" dur="20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7.40741E-007 L -0.00451 -0.6456 E">
                                      <p:cBhvr>
                                        <p:cTn id="182" dur="2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85185E-006 L -0.00451 -0.64259 E">
                                      <p:cBhvr>
                                        <p:cTn id="184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97" dur="2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99" dur="20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301 L -0.00347 -0.46551 E">
                                      <p:cBhvr>
                                        <p:cTn id="209" dur="20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85185E-006 L 0.00052 -0.39213 E">
                                      <p:cBhvr>
                                        <p:cTn id="211" dur="2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7.40741E-007 L 0.0066 -0.50972 E">
                                      <p:cBhvr>
                                        <p:cTn id="224" dur="2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48148E-006 L 0.00261 -0.49653 E">
                                      <p:cBhvr>
                                        <p:cTn id="226" dur="2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.14445 C 0.03281 0.14283 0.06632 0.14445 0.09948 0.13913 C 0.10312 0.13843 0.1243 0.08889 0.12969 0.0801 C 0.1335 0.04908 0.13055 0.0676 0.14097 0.02709 L 0.14097 0.02778 C 0.14323 0.01135 0.146 -0.00393 0.14791 -0.01967 C 0.15156 -0.04976 0.15104 -0.06759 0.16423 -0.07847 C 0.1809 -0.06527 0.16059 -0.08379 0.17812 -0.05509 C 0.18212 -0.04814 0.18732 -0.04745 0.19184 -0.04305 C 0.19323 0.1301 0.16354 0.20417 0.20816 0.24468 C 0.22986 0.2426 0.25156 0.24468 0.27291 0.2382 C 0.27743 0.23681 0.28073 0.22732 0.28455 0.22107 C 0.28923 0.21366 0.29844 0.197 0.29844 0.19769 C 0.31406 0.13774 0.29409 0.21968 0.30538 0.04468 C 0.3059 0.03797 0.30989 0.03588 0.31232 0.03288 C 0.32552 0.0176 0.3401 0.01644 0.35399 0.00926 C 0.35955 0.12246 0.3493 0.03866 0.43021 0.0625 C 0.43559 0.06459 0.43871 0.08149 0.44409 0.08588 C 0.4526 0.0838 0.46094 0.08311 0.46944 0.0801 C 0.47187 0.0794 0.47534 0.0794 0.47639 0.07362 C 0.47812 0.0669 0.47639 0.05811 0.47639 0.05047 E">
                                      <p:cBhvr>
                                        <p:cTn id="229" dur="20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Блок-схема: перфолента 16"/>
          <p:cNvSpPr/>
          <p:nvPr/>
        </p:nvSpPr>
        <p:spPr>
          <a:xfrm flipH="1" rot="16200000">
            <a:off x="6893640" y="4178880"/>
            <a:ext cx="2428920" cy="357120"/>
          </a:xfrm>
          <a:prstGeom prst="flowChartPunchedTape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Arial"/>
              </a:rPr>
              <a:t>Мартышка потерялась и плачет на дереве зовёт маму:</a:t>
            </a:r>
            <a:r>
              <a:rPr b="0" lang="ru-RU" sz="1400" spc="-1" strike="noStrike">
                <a:solidFill>
                  <a:srgbClr val="464653"/>
                </a:solidFill>
                <a:latin typeface="Cambria"/>
              </a:rPr>
              <a:t> пр</a:t>
            </a:r>
            <a:r>
              <a:rPr b="0" lang="ru-RU" sz="1400" spc="-1" strike="noStrike">
                <a:solidFill>
                  <a:srgbClr val="464653"/>
                </a:solidFill>
                <a:latin typeface="Arial"/>
              </a:rPr>
              <a:t>и</a:t>
            </a:r>
            <a:r>
              <a:rPr b="0" lang="ru-RU" sz="1400" spc="-1" strike="noStrike">
                <a:solidFill>
                  <a:srgbClr val="464653"/>
                </a:solidFill>
                <a:latin typeface="Cambria"/>
              </a:rPr>
              <a:t>говаривая слоги: </a:t>
            </a:r>
            <a:r>
              <a:rPr b="0" lang="ru-RU" sz="1400" spc="-1" strike="noStrike">
                <a:solidFill>
                  <a:srgbClr val="464653"/>
                </a:solidFill>
                <a:latin typeface="Arial"/>
              </a:rPr>
              <a:t>мла,мло,млу,млы,пла,пло,плу,плы,бла,бло,блу,блы</a:t>
            </a:r>
            <a:endParaRPr b="0" lang="en-US" sz="14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99" name="Picture 10" descr="f011[1]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214200" y="2571840"/>
            <a:ext cx="5286240" cy="4714920"/>
          </a:xfrm>
          <a:prstGeom prst="rect">
            <a:avLst/>
          </a:prstGeom>
          <a:ln w="0">
            <a:noFill/>
          </a:ln>
        </p:spPr>
      </p:pic>
      <p:sp>
        <p:nvSpPr>
          <p:cNvPr id="400" name="Цилиндр 10"/>
          <p:cNvSpPr/>
          <p:nvPr/>
        </p:nvSpPr>
        <p:spPr>
          <a:xfrm>
            <a:off x="6929280" y="2428920"/>
            <a:ext cx="285840" cy="2857320"/>
          </a:xfrm>
          <a:prstGeom prst="can">
            <a:avLst>
              <a:gd name="adj" fmla="val 2500"/>
            </a:avLst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955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plant"/>
          <p:cNvGrpSpPr/>
          <p:nvPr/>
        </p:nvGrpSpPr>
        <p:grpSpPr>
          <a:xfrm>
            <a:off x="5529240" y="1116000"/>
            <a:ext cx="3365640" cy="1932120"/>
            <a:chOff x="5529240" y="1116000"/>
            <a:chExt cx="3365640" cy="1932120"/>
          </a:xfrm>
        </p:grpSpPr>
        <p:pic>
          <p:nvPicPr>
            <p:cNvPr id="402" name="plant" descr=""/>
            <p:cNvPicPr/>
            <p:nvPr/>
          </p:nvPicPr>
          <p:blipFill>
            <a:blip r:embed="rId5"/>
            <a:stretch/>
          </p:blipFill>
          <p:spPr>
            <a:xfrm>
              <a:off x="5529240" y="1116000"/>
              <a:ext cx="3365640" cy="193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6629400" y="1987560"/>
              <a:ext cx="11080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plant"/>
          <p:cNvGrpSpPr/>
          <p:nvPr/>
        </p:nvGrpSpPr>
        <p:grpSpPr>
          <a:xfrm>
            <a:off x="6321600" y="1328760"/>
            <a:ext cx="1639800" cy="1433520"/>
            <a:chOff x="6321600" y="1328760"/>
            <a:chExt cx="1639800" cy="1433520"/>
          </a:xfrm>
        </p:grpSpPr>
        <p:pic>
          <p:nvPicPr>
            <p:cNvPr id="405" name="plant" descr=""/>
            <p:cNvPicPr/>
            <p:nvPr/>
          </p:nvPicPr>
          <p:blipFill>
            <a:blip r:embed="rId6"/>
            <a:stretch/>
          </p:blipFill>
          <p:spPr>
            <a:xfrm>
              <a:off x="6321600" y="1328760"/>
              <a:ext cx="163980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6851520" y="1968480"/>
              <a:ext cx="51624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plant"/>
          <p:cNvGrpSpPr/>
          <p:nvPr/>
        </p:nvGrpSpPr>
        <p:grpSpPr>
          <a:xfrm>
            <a:off x="5888160" y="4900680"/>
            <a:ext cx="866520" cy="506520"/>
            <a:chOff x="5888160" y="4900680"/>
            <a:chExt cx="866520" cy="506520"/>
          </a:xfrm>
        </p:grpSpPr>
        <p:pic>
          <p:nvPicPr>
            <p:cNvPr id="408" name="plant" descr=""/>
            <p:cNvPicPr/>
            <p:nvPr/>
          </p:nvPicPr>
          <p:blipFill>
            <a:blip r:embed="rId7"/>
            <a:stretch/>
          </p:blipFill>
          <p:spPr>
            <a:xfrm>
              <a:off x="5888160" y="4900680"/>
              <a:ext cx="86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6164280" y="5106960"/>
              <a:ext cx="24588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plant"/>
          <p:cNvGrpSpPr/>
          <p:nvPr/>
        </p:nvGrpSpPr>
        <p:grpSpPr>
          <a:xfrm>
            <a:off x="7321680" y="5261040"/>
            <a:ext cx="1073160" cy="718920"/>
            <a:chOff x="7321680" y="5261040"/>
            <a:chExt cx="1073160" cy="718920"/>
          </a:xfrm>
        </p:grpSpPr>
        <p:pic>
          <p:nvPicPr>
            <p:cNvPr id="411" name="plant" descr=""/>
            <p:cNvPicPr/>
            <p:nvPr/>
          </p:nvPicPr>
          <p:blipFill>
            <a:blip r:embed="rId8"/>
            <a:stretch/>
          </p:blipFill>
          <p:spPr>
            <a:xfrm>
              <a:off x="7321680" y="5261040"/>
              <a:ext cx="107316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7662960" y="5564160"/>
              <a:ext cx="320400" cy="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plant"/>
          <p:cNvGrpSpPr/>
          <p:nvPr/>
        </p:nvGrpSpPr>
        <p:grpSpPr>
          <a:xfrm>
            <a:off x="6729480" y="2475000"/>
            <a:ext cx="3036960" cy="1054080"/>
            <a:chOff x="6729480" y="2475000"/>
            <a:chExt cx="3036960" cy="1054080"/>
          </a:xfrm>
        </p:grpSpPr>
        <p:pic>
          <p:nvPicPr>
            <p:cNvPr id="414" name="plant" descr=""/>
            <p:cNvPicPr/>
            <p:nvPr/>
          </p:nvPicPr>
          <p:blipFill>
            <a:blip r:embed="rId9"/>
            <a:stretch/>
          </p:blipFill>
          <p:spPr>
            <a:xfrm>
              <a:off x="6729480" y="2475000"/>
              <a:ext cx="303696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7726320" y="2933640"/>
              <a:ext cx="9842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6" name="Picture 10" descr="f011[1]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 rot="20127000">
            <a:off x="6041880" y="1114200"/>
            <a:ext cx="1500480" cy="12157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" descr="cl331"/>
          <p:cNvPicPr/>
          <p:nvPr/>
        </p:nvPicPr>
        <p:blipFill>
          <a:blip r:embed="rId12"/>
          <a:stretch/>
        </p:blipFill>
        <p:spPr>
          <a:xfrm>
            <a:off x="214200" y="1214280"/>
            <a:ext cx="1035000" cy="10303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" descr="cl215"/>
          <p:cNvPicPr/>
          <p:nvPr/>
        </p:nvPicPr>
        <p:blipFill>
          <a:blip r:embed="rId13"/>
          <a:stretch/>
        </p:blipFill>
        <p:spPr>
          <a:xfrm rot="3326400">
            <a:off x="5980320" y="5761800"/>
            <a:ext cx="881280" cy="936720"/>
          </a:xfrm>
          <a:prstGeom prst="rect">
            <a:avLst/>
          </a:prstGeom>
          <a:ln w="0">
            <a:noFill/>
          </a:ln>
        </p:spPr>
      </p:pic>
      <p:grpSp>
        <p:nvGrpSpPr>
          <p:cNvPr id="419" name="plant"/>
          <p:cNvGrpSpPr/>
          <p:nvPr/>
        </p:nvGrpSpPr>
        <p:grpSpPr>
          <a:xfrm>
            <a:off x="7534440" y="2468520"/>
            <a:ext cx="1225440" cy="890640"/>
            <a:chOff x="7534440" y="2468520"/>
            <a:chExt cx="1225440" cy="890640"/>
          </a:xfrm>
        </p:grpSpPr>
        <p:pic>
          <p:nvPicPr>
            <p:cNvPr id="420" name="plant" descr=""/>
            <p:cNvPicPr/>
            <p:nvPr/>
          </p:nvPicPr>
          <p:blipFill>
            <a:blip r:embed="rId14"/>
            <a:stretch/>
          </p:blipFill>
          <p:spPr>
            <a:xfrm>
              <a:off x="7534440" y="2468520"/>
              <a:ext cx="122544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7948440" y="2878200"/>
              <a:ext cx="39384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2" name="Picture 2" descr=""/>
          <p:cNvPicPr/>
          <p:nvPr/>
        </p:nvPicPr>
        <p:blipFill>
          <a:blip r:embed="rId15"/>
          <a:stretch/>
        </p:blipFill>
        <p:spPr>
          <a:xfrm>
            <a:off x="8358120" y="62150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3" descr="http://animashky.ru/flist/objiv/5/9.gif"/>
          <p:cNvPicPr/>
          <p:nvPr/>
        </p:nvPicPr>
        <p:blipFill>
          <a:blip r:embed="rId1"/>
          <a:stretch/>
        </p:blipFill>
        <p:spPr>
          <a:xfrm>
            <a:off x="857160" y="1233360"/>
            <a:ext cx="2857680" cy="196236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5" descr="http://animashky.ru/flist/objiv/5/29.gif"/>
          <p:cNvPicPr/>
          <p:nvPr/>
        </p:nvPicPr>
        <p:blipFill>
          <a:blip r:embed="rId2"/>
          <a:stretch/>
        </p:blipFill>
        <p:spPr>
          <a:xfrm>
            <a:off x="5214960" y="1928880"/>
            <a:ext cx="2571840" cy="25718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7" descr="http://animashky.ru/flist/objiv/5/8.gif"/>
          <p:cNvPicPr/>
          <p:nvPr/>
        </p:nvPicPr>
        <p:blipFill>
          <a:blip r:embed="rId3"/>
          <a:stretch/>
        </p:blipFill>
        <p:spPr>
          <a:xfrm>
            <a:off x="3500280" y="4857840"/>
            <a:ext cx="1357560" cy="89532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5"/>
          <p:cNvSpPr/>
          <p:nvPr/>
        </p:nvSpPr>
        <p:spPr>
          <a:xfrm>
            <a:off x="0" y="26028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ЫТЬ – ПЛЫВУ - ПЛАВАЮ - ПЛЫВЁМ - ПЛАВАЕМ - ПОПЛЫЛИ –ПОПЛАВ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Ы – КЛУ - СЛА – ШЛО – МЛУ – ЖЛА – ДЛЫ - Н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8" descr="фон"/>
          <p:cNvPicPr/>
          <p:nvPr/>
        </p:nvPicPr>
        <p:blipFill>
          <a:blip r:embed="rId1"/>
          <a:stretch/>
        </p:blipFill>
        <p:spPr>
          <a:xfrm>
            <a:off x="-2581200" y="-1938240"/>
            <a:ext cx="14306400" cy="1073448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468360" y="33336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води пальцем по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ЛЕДАМ Винни-пуха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и произноси слоги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шл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,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шл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,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шл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,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шл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ша,шмо,шму,шмы,шла,шло,шлу,шл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0" name="Picture 4" descr="11"/>
          <p:cNvPicPr/>
          <p:nvPr/>
        </p:nvPicPr>
        <p:blipFill>
          <a:blip r:embed="rId2"/>
          <a:stretch/>
        </p:blipFill>
        <p:spPr>
          <a:xfrm flipH="1">
            <a:off x="7327440" y="4357800"/>
            <a:ext cx="1816200" cy="19810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2" descr="мультяшки - Винни Пух "/>
          <p:cNvPicPr/>
          <p:nvPr/>
        </p:nvPicPr>
        <p:blipFill>
          <a:blip r:embed="rId3"/>
          <a:stretch/>
        </p:blipFill>
        <p:spPr>
          <a:xfrm>
            <a:off x="214200" y="2281320"/>
            <a:ext cx="3571920" cy="4284720"/>
          </a:xfrm>
          <a:prstGeom prst="rect">
            <a:avLst/>
          </a:prstGeom>
          <a:ln w="0">
            <a:noFill/>
          </a:ln>
        </p:spPr>
      </p:pic>
      <p:sp>
        <p:nvSpPr>
          <p:cNvPr id="432" name="5-конечная звезда 15"/>
          <p:cNvSpPr/>
          <p:nvPr/>
        </p:nvSpPr>
        <p:spPr>
          <a:xfrm>
            <a:off x="0" y="5429160"/>
            <a:ext cx="1000080" cy="928800"/>
          </a:xfrm>
          <a:prstGeom prst="pie">
            <a:avLst/>
          </a:prstGeom>
          <a:gradFill rotWithShape="0">
            <a:gsLst>
              <a:gs pos="0">
                <a:srgbClr val="ff0000"/>
              </a:gs>
              <a:gs pos="100000">
                <a:srgbClr val="4d0808"/>
              </a:gs>
            </a:gsLst>
            <a:lin ang="21540000"/>
          </a:gradFill>
          <a:ln w="12600">
            <a:solidFill>
              <a:srgbClr val="525977"/>
            </a:solidFill>
            <a:miter/>
          </a:ln>
          <a:effectLst>
            <a:outerShdw dist="76320" dir="0" blurRad="0" rotWithShape="0">
              <a:srgbClr val="ffc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mph" presetID="8" repeatCount="14000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44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5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5729 -0.0037 C -0.06128 -0.01873 -0.07152 -0.02266 -0.07847 -0.03422 C -0.08576 -0.04579 -0.09409 -0.05666 -0.10243 -0.06753 C -0.10885 -0.07585 -0.11284 -0.08719 -0.11927 -0.09574 C -0.12135 -0.1043 -0.12812 -0.11239 -0.13194 -0.12026 C -0.13368 -0.12326 -0.13385 -0.12766 -0.13489 -0.13136 C -0.13541 -0.13321 -0.13628 -0.13691 -0.13628 -0.13668 C -0.13576 -0.16373 -0.13576 -0.19079 -0.13489 -0.21762 C -0.13489 -0.2197 -0.1335 -0.22132 -0.1335 -0.2234 C -0.1335 -0.24398 -0.13368 -0.26457 -0.13489 -0.28515 C -0.13524 -0.29186 -0.14062 -0.31059 -0.14184 -0.31706 C -0.14618 -0.34019 -0.15156 -0.36378 -0.15729 -0.38645 C -0.16128 -0.40194 -0.16163 -0.42715 -0.17031 -0.43917 C -0.17395 -0.45351 -0.18055 -0.46369 -0.18836 -0.47479 C -0.1901 -0.48103 -0.19201 -0.48496 -0.19548 -0.48982 C -0.19739 -0.49583 -0.1993 -0.50092 -0.20121 -0.5067 C -0.20659 -0.5222 -0.20121 -0.51364 -0.20694 -0.52174 C -0.20885 -0.53076 -0.21475 -0.53885 -0.22083 -0.54417 C -0.22378 -0.54972 -0.2276 -0.55203 -0.23055 -0.55735 C -0.23628 -0.5666 -0.24166 -0.574 -0.25034 -0.57793 C -0.25486 -0.58395 -0.26093 -0.58834 -0.2677 -0.59112 C -0.27986 -0.58996 -0.29444 -0.59135 -0.3052 -0.58163 C -0.30711 -0.5784 -0.30989 -0.57585 -0.31093 -0.57238 C -0.31267 -0.56892 -0.31232 -0.56429 -0.31388 -0.56105 C -0.31458 -0.5592 -0.31579 -0.55735 -0.31666 -0.5555 C -0.31927 -0.54371 -0.321 -0.53145 -0.32378 -0.51966 C -0.32343 -0.48843 -0.32916 -0.39963 -0.31267 -0.35453 C -0.30763 -0.34181 -0.29913 -0.33187 -0.2927 -0.32077 C -0.28802 -0.31313 -0.27986 -0.29764 -0.27343 -0.29463 C -0.27135 -0.28746 -0.26909 -0.28561 -0.26458 -0.28145 C -0.26041 -0.27312 -0.25607 -0.2678 -0.24913 -0.26457 C -0.24236 -0.25092 -0.2434 -0.23288 -0.23506 -0.22132 C -0.23263 -0.21161 -0.23194 -0.20374 -0.23055 -0.19334 C -0.23159 -0.18455 -0.2302 -0.1753 -0.23229 -0.16697 C -0.23298 -0.16281 -0.23923 -0.15772 -0.23923 -0.15749 C -0.25451 -0.15842 -0.26944 -0.15795 -0.28437 -0.15957 C -0.2934 -0.1605 -0.30121 -0.1709 -0.30989 -0.1746 C -0.31388 -0.18247 -0.32048 -0.19357 -0.32673 -0.19889 C -0.32986 -0.20166 -0.33107 -0.20259 -0.3335 -0.20652 C -0.33923 -0.21577 -0.34531 -0.2241 -0.35191 -0.23265 C -0.35451 -0.23589 -0.35711 -0.23843 -0.35885 -0.24213 C -0.36527 -0.25462 -0.36232 -0.25 -0.36718 -0.25717 C -0.37638 -0.29324 -0.36996 -0.26434 -0.36857 -0.34713 C -0.36909 -0.40287 -0.36909 -0.45837 -0.36996 -0.5141 C -0.36996 -0.51619 -0.37135 -0.5178 -0.3717 -0.51966 C -0.37378 -0.53422 -0.37343 -0.54602 -0.38125 -0.55735 C -0.38316 -0.56452 -0.38524 -0.56614 -0.38975 -0.5703 C -0.39392 -0.57909 -0.40173 -0.58695 -0.40798 -0.59297 C -0.41302 -0.59759 -0.4177 -0.60546 -0.42361 -0.608 C -0.42638 -0.60916 -0.42916 -0.61054 -0.43194 -0.6117 C -0.43333 -0.61239 -0.43489 -0.61286 -0.43628 -0.61355 C -0.43767 -0.61424 -0.44045 -0.6154 -0.44045 -0.61517 C -0.45729 -0.61471 -0.4743 -0.61517 -0.49114 -0.61355 C -0.49409 -0.61332 -0.49965 -0.60985 -0.49965 -0.60962 C -0.50468 -0.60291 -0.50711 -0.60407 -0.51232 -0.59852 C -0.51979 -0.59042 -0.5243 -0.5777 -0.5309 -0.56845 C -0.53333 -0.55527 -0.53593 -0.54255 -0.53784 -0.52914 C -0.53715 -0.47595 -0.54479 -0.43385 -0.5335 -0.38853 C -0.53107 -0.35985 -0.52916 -0.34135 -0.51232 -0.32285 C -0.50954 -0.31984 -0.50642 -0.31267 -0.50243 -0.31151 C -0.49583 -0.3099 -0.48923 -0.31036 -0.48263 -0.30966 C -0.47187 -0.30643 -0.46423 -0.30342 -0.4559 -0.29278 C -0.4526 -0.27937 -0.45486 -0.28469 -0.45034 -0.2759 C -0.44722 -0.25902 -0.44496 -0.2456 -0.43767 -0.2308 C -0.43611 -0.22756 -0.43576 -0.22317 -0.43489 -0.21947 C -0.43385 -0.21531 -0.42916 -0.20837 -0.42916 -0.20814 C -0.42638 -0.19704 -0.42291 -0.1901 -0.41788 -0.18015 C -0.41006 -0.1642 -0.42326 -0.18409 -0.41371 -0.17067 C -0.4118 -0.16304 -0.40833 -0.15541 -0.40243 -0.15194 C -0.39965 -0.15032 -0.39392 -0.14824 -0.39392 -0.14801 C -0.39253 -0.14708 -0.39131 -0.14546 -0.38975 -0.14454 C -0.38836 -0.14361 -0.3868 -0.14361 -0.38559 -0.14269 C -0.38333 -0.14084 -0.38246 -0.13668 -0.37986 -0.13506 C -0.37743 -0.13321 -0.3743 -0.13274 -0.3717 -0.13136 C -0.37013 -0.13066 -0.36718 -0.12951 -0.36718 -0.12928 C -0.36597 -0.12835 -0.36458 -0.12673 -0.36302 -0.12581 C -0.3618 -0.12488 -0.36024 -0.12488 -0.35885 -0.12396 C -0.35243 -0.1191 -0.34878 -0.11355 -0.34184 -0.11077 C -0.33784 -0.10707 -0.33559 -0.10337 -0.33055 -0.10129 C -0.32239 -0.09412 -0.31493 -0.08603 -0.30694 -0.07886 C -0.30451 -0.07724 -0.30225 -0.07308 -0.29982 -0.07123 C -0.29201 -0.06614 -0.28159 -0.06614 -0.27447 -0.06013 C -0.26631 -0.05319 -0.26388 -0.05273 -0.25468 -0.04879 C -0.25191 -0.04787 -0.24618 -0.04509 -0.24618 -0.04486 C -0.24305 -0.04093 -0.23628 -0.03191 -0.23628 -0.03168 C -0.23871 0.07563 -0.22916 0.03955 -0.33211 0.03747 C -0.34079 0.03354 -0.34566 0.02706 -0.35191 0.01874 C -0.35312 0.01712 -0.35329 0.01457 -0.35468 0.01318 C -0.35729 0.01018 -0.36302 0.00555 -0.36302 0.00578 C -0.37066 -0.00971 -0.36093 0.00856 -0.36996 -0.0037 C -0.37413 -0.00971 -0.37691 -0.01387 -0.38125 -0.01873 C -0.38506 -0.02266 -0.39253 -0.03006 -0.39253 -0.02983 C -0.39739 -0.04047 -0.40364 -0.04463 -0.40972 -0.05273 C -0.41527 -0.06013 -0.42118 -0.07123 -0.42777 -0.07724 C -0.43229 -0.0858 -0.43802 -0.09343 -0.44461 -0.09944 C -0.44704 -0.10407 -0.45017 -0.11054 -0.45312 -0.11447 C -0.46076 -0.12465 -0.45416 -0.11193 -0.46024 -0.12211 C -0.46562 -0.13089 -0.45989 -0.12488 -0.46718 -0.13136 C -0.47447 -0.14593 -0.46493 -0.12835 -0.4743 -0.14084 C -0.47552 -0.14246 -0.47586 -0.14477 -0.47708 -0.14639 C -0.48333 -0.15472 -0.47934 -0.1457 -0.4842 -0.15379 C -0.48975 -0.16304 -0.49496 -0.17183 -0.50243 -0.1783 C -0.50572 -0.18478 -0.50885 -0.18894 -0.51388 -0.19334 C -0.51736 -0.20027 -0.52204 -0.20583 -0.52777 -0.20837 C -0.53107 -0.21461 -0.53229 -0.21716 -0.53784 -0.21947 C -0.54236 -0.22571 -0.54583 -0.23196 -0.55034 -0.2382 C -0.55138 -0.23959 -0.55312 -0.24213 -0.55312 -0.2419 C -0.55572 -0.25231 -0.55572 -0.26133 -0.56024 -0.27012 C -0.56284 -0.28052 -0.56788 -0.28839 -0.57309 -0.29648 C -0.58159 -0.31013 -0.58993 -0.324 -0.60104 -0.33418 C -0.6059 -0.34435 -0.61631 -0.35083 -0.625 -0.35453 C -0.65798 -0.35268 -0.65659 -0.36008 -0.67152 -0.3321 C -0.67204 -0.32909 -0.67291 -0.32608 -0.67291 -0.32285 C -0.67291 -0.29417 -0.67777 -0.23173 -0.65729 -0.20444 C -0.65434 -0.19241 -0.64704 -0.18524 -0.64045 -0.17645 C -0.63923 -0.17484 -0.63888 -0.17229 -0.63767 -0.17067 C -0.63211 -0.1642 -0.62656 -0.16281 -0.62066 -0.15772 C -0.60902 -0.13344 -0.6151 -0.09759 -0.61371 -0.06938 C -0.61423 -0.05573 -0.61284 -0.04163 -0.6151 -0.02821 C -0.61579 -0.02451 -0.62569 -0.01156 -0.63055 -0.01133 C -0.65503 -0.01017 -0.67934 -0.01017 -0.70381 -0.00971 C -0.71076 -0.00717 -0.76267 0.034 -0.76979 0.034 E">
                                      <p:cBhvr>
                                        <p:cTn id="246" dur="300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500"/>
                            </p:stCondLst>
                            <p:childTnLst>
                              <p:par>
                                <p:cTn id="248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9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1000"/>
                            </p:stCondLst>
                            <p:childTnLst>
                              <p:par>
                                <p:cTn id="2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3" descr="http://animashky.ru/flist/objiv/3/25.gif"/>
          <p:cNvPicPr/>
          <p:nvPr/>
        </p:nvPicPr>
        <p:blipFill>
          <a:blip r:embed="rId1"/>
          <a:stretch/>
        </p:blipFill>
        <p:spPr>
          <a:xfrm>
            <a:off x="4857840" y="2714760"/>
            <a:ext cx="1874880" cy="22143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http://animashky.ru/flist/objiv/3/31.gif"/>
          <p:cNvPicPr/>
          <p:nvPr/>
        </p:nvPicPr>
        <p:blipFill>
          <a:blip r:embed="rId2"/>
          <a:stretch/>
        </p:blipFill>
        <p:spPr>
          <a:xfrm>
            <a:off x="6786720" y="3786120"/>
            <a:ext cx="1603080" cy="22860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7" descr="http://animashky.ru/flist/objiv/3/34.gif"/>
          <p:cNvPicPr/>
          <p:nvPr/>
        </p:nvPicPr>
        <p:blipFill>
          <a:blip r:embed="rId3"/>
          <a:stretch/>
        </p:blipFill>
        <p:spPr>
          <a:xfrm>
            <a:off x="2786040" y="2143080"/>
            <a:ext cx="2394000" cy="28576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9" descr="http://animashky.ru/flist/objiv/3/40.gif"/>
          <p:cNvPicPr/>
          <p:nvPr/>
        </p:nvPicPr>
        <p:blipFill>
          <a:blip r:embed="rId4"/>
          <a:stretch/>
        </p:blipFill>
        <p:spPr>
          <a:xfrm>
            <a:off x="0" y="17640"/>
            <a:ext cx="2928960" cy="2197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37" name="Picture 11" descr="http://animashky.ru/flist/objiv/11/107.gif"/>
          <p:cNvPicPr/>
          <p:nvPr/>
        </p:nvPicPr>
        <p:blipFill>
          <a:blip r:embed="rId5"/>
          <a:stretch/>
        </p:blipFill>
        <p:spPr>
          <a:xfrm>
            <a:off x="2357280" y="360360"/>
            <a:ext cx="1714680" cy="19969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3" descr="http://animashky.ru/flist/objiv/7/25.gif"/>
          <p:cNvPicPr/>
          <p:nvPr/>
        </p:nvPicPr>
        <p:blipFill>
          <a:blip r:embed="rId6"/>
          <a:stretch/>
        </p:blipFill>
        <p:spPr>
          <a:xfrm>
            <a:off x="857160" y="2976480"/>
            <a:ext cx="1714680" cy="24908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5" descr="http://animashky.ru/flist/objiv/13/20.gif"/>
          <p:cNvPicPr/>
          <p:nvPr/>
        </p:nvPicPr>
        <p:blipFill>
          <a:blip r:embed="rId7"/>
          <a:stretch/>
        </p:blipFill>
        <p:spPr>
          <a:xfrm>
            <a:off x="7286760" y="500040"/>
            <a:ext cx="1333440" cy="1857240"/>
          </a:xfrm>
          <a:prstGeom prst="rect">
            <a:avLst/>
          </a:prstGeom>
          <a:ln w="0">
            <a:noFill/>
          </a:ln>
        </p:spPr>
      </p:pic>
      <p:sp>
        <p:nvSpPr>
          <p:cNvPr id="440" name="TextBox 10"/>
          <p:cNvSpPr/>
          <p:nvPr/>
        </p:nvSpPr>
        <p:spPr>
          <a:xfrm>
            <a:off x="611280" y="609300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образи пение слогов ла-ло-лы-лу, незабуд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у  каждого танцующего свой гол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8" descr="a218"/>
          <p:cNvPicPr/>
          <p:nvPr/>
        </p:nvPicPr>
        <p:blipFill>
          <a:blip r:embed="rId1"/>
          <a:stretch/>
        </p:blipFill>
        <p:spPr>
          <a:xfrm>
            <a:off x="3357720" y="4429080"/>
            <a:ext cx="419040" cy="6224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7" descr="clip585"/>
          <p:cNvPicPr/>
          <p:nvPr/>
        </p:nvPicPr>
        <p:blipFill>
          <a:blip r:embed="rId2"/>
          <a:stretch/>
        </p:blipFill>
        <p:spPr>
          <a:xfrm>
            <a:off x="2286000" y="5014800"/>
            <a:ext cx="1857240" cy="184320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64653"/>
                </a:solidFill>
                <a:latin typeface="Cambria"/>
              </a:rPr>
              <a:t> </a:t>
            </a:r>
            <a:r>
              <a:rPr b="0" lang="ru-RU" sz="2500" spc="-1" strike="noStrike">
                <a:solidFill>
                  <a:srgbClr val="464653"/>
                </a:solidFill>
                <a:latin typeface="Cambria"/>
              </a:rPr>
              <a:t>проговаривай  слоги: ала, ало, алу, алы</a:t>
            </a:r>
            <a:r>
              <a:rPr b="0" lang="en-US" sz="2500" spc="-1" strike="noStrike">
                <a:solidFill>
                  <a:srgbClr val="464653"/>
                </a:solidFill>
                <a:latin typeface="Bookman Old Style"/>
              </a:rPr>
              <a:t> </a:t>
            </a:r>
            <a:r>
              <a:rPr b="0" lang="ru-RU" sz="2500" spc="-1" strike="noStrike">
                <a:solidFill>
                  <a:srgbClr val="464653"/>
                </a:solidFill>
                <a:latin typeface="Cambria"/>
              </a:rPr>
              <a:t>столько раз, сколько грибов принесёт ёжик</a:t>
            </a:r>
            <a:br>
              <a:rPr sz="2500"/>
            </a:br>
            <a:endParaRPr b="0" lang="en-US" sz="25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44" name="Picture 8" descr="a218"/>
          <p:cNvPicPr/>
          <p:nvPr/>
        </p:nvPicPr>
        <p:blipFill>
          <a:blip r:embed="rId3"/>
          <a:stretch/>
        </p:blipFill>
        <p:spPr>
          <a:xfrm>
            <a:off x="428760" y="2786040"/>
            <a:ext cx="2500200" cy="371484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3" descr="http://animashky.ru/flist/objiv/10/86.gif"/>
          <p:cNvPicPr/>
          <p:nvPr/>
        </p:nvPicPr>
        <p:blipFill>
          <a:blip r:embed="rId4"/>
          <a:stretch/>
        </p:blipFill>
        <p:spPr>
          <a:xfrm>
            <a:off x="3929040" y="5643720"/>
            <a:ext cx="7048440" cy="71424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5" descr="http://animashky.ru/flist/objiv/11/49.gif"/>
          <p:cNvPicPr/>
          <p:nvPr/>
        </p:nvPicPr>
        <p:blipFill>
          <a:blip r:embed="rId5"/>
          <a:stretch/>
        </p:blipFill>
        <p:spPr>
          <a:xfrm>
            <a:off x="7500960" y="4813200"/>
            <a:ext cx="1643040" cy="16686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2" descr="cl331"/>
          <p:cNvPicPr/>
          <p:nvPr/>
        </p:nvPicPr>
        <p:blipFill>
          <a:blip r:embed="rId6"/>
          <a:stretch/>
        </p:blipFill>
        <p:spPr>
          <a:xfrm flipH="1" rot="1150200">
            <a:off x="2977560" y="1265040"/>
            <a:ext cx="1414440" cy="140796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2" descr=""/>
          <p:cNvPicPr/>
          <p:nvPr/>
        </p:nvPicPr>
        <p:blipFill>
          <a:blip r:embed="rId7"/>
          <a:stretch/>
        </p:blipFill>
        <p:spPr>
          <a:xfrm>
            <a:off x="8510760" y="6523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8" descr="a218"/>
          <p:cNvPicPr/>
          <p:nvPr/>
        </p:nvPicPr>
        <p:blipFill>
          <a:blip r:embed="rId8"/>
          <a:stretch/>
        </p:blipFill>
        <p:spPr>
          <a:xfrm>
            <a:off x="4214880" y="4500720"/>
            <a:ext cx="419040" cy="6220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8" descr="a218"/>
          <p:cNvPicPr/>
          <p:nvPr/>
        </p:nvPicPr>
        <p:blipFill>
          <a:blip r:embed="rId9"/>
          <a:stretch/>
        </p:blipFill>
        <p:spPr>
          <a:xfrm>
            <a:off x="4000680" y="4929120"/>
            <a:ext cx="419040" cy="6224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8" descr="a218"/>
          <p:cNvPicPr/>
          <p:nvPr/>
        </p:nvPicPr>
        <p:blipFill>
          <a:blip r:embed="rId10"/>
          <a:stretch/>
        </p:blipFill>
        <p:spPr>
          <a:xfrm>
            <a:off x="4643280" y="4500720"/>
            <a:ext cx="419400" cy="6220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8" descr="a218"/>
          <p:cNvPicPr/>
          <p:nvPr/>
        </p:nvPicPr>
        <p:blipFill>
          <a:blip r:embed="rId11"/>
          <a:stretch/>
        </p:blipFill>
        <p:spPr>
          <a:xfrm>
            <a:off x="4429080" y="4929120"/>
            <a:ext cx="419040" cy="6224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8" descr="a218"/>
          <p:cNvPicPr/>
          <p:nvPr/>
        </p:nvPicPr>
        <p:blipFill>
          <a:blip r:embed="rId12"/>
          <a:stretch/>
        </p:blipFill>
        <p:spPr>
          <a:xfrm>
            <a:off x="3857760" y="4429080"/>
            <a:ext cx="419040" cy="62244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8" descr="a218"/>
          <p:cNvPicPr/>
          <p:nvPr/>
        </p:nvPicPr>
        <p:blipFill>
          <a:blip r:embed="rId13"/>
          <a:stretch/>
        </p:blipFill>
        <p:spPr>
          <a:xfrm>
            <a:off x="4786200" y="4929120"/>
            <a:ext cx="419040" cy="6224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8" descr="a218"/>
          <p:cNvPicPr/>
          <p:nvPr/>
        </p:nvPicPr>
        <p:blipFill>
          <a:blip r:embed="rId14"/>
          <a:stretch/>
        </p:blipFill>
        <p:spPr>
          <a:xfrm>
            <a:off x="3571920" y="4786200"/>
            <a:ext cx="419040" cy="62244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8" descr="a218"/>
          <p:cNvPicPr/>
          <p:nvPr/>
        </p:nvPicPr>
        <p:blipFill>
          <a:blip r:embed="rId15"/>
          <a:stretch/>
        </p:blipFill>
        <p:spPr>
          <a:xfrm>
            <a:off x="3429000" y="5500800"/>
            <a:ext cx="419040" cy="6220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8" descr="a218"/>
          <p:cNvPicPr/>
          <p:nvPr/>
        </p:nvPicPr>
        <p:blipFill>
          <a:blip r:embed="rId16"/>
          <a:stretch/>
        </p:blipFill>
        <p:spPr>
          <a:xfrm>
            <a:off x="3286080" y="4857840"/>
            <a:ext cx="41904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59" name="Picture 5" descr="краб, анимашка"/>
          <p:cNvPicPr/>
          <p:nvPr/>
        </p:nvPicPr>
        <p:blipFill>
          <a:blip r:embed="rId1"/>
          <a:stretch/>
        </p:blipFill>
        <p:spPr>
          <a:xfrm>
            <a:off x="5429160" y="3357720"/>
            <a:ext cx="2735280" cy="183960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7" descr="рак, анимашка"/>
          <p:cNvPicPr/>
          <p:nvPr/>
        </p:nvPicPr>
        <p:blipFill>
          <a:blip r:embed="rId2"/>
          <a:stretch/>
        </p:blipFill>
        <p:spPr>
          <a:xfrm>
            <a:off x="1857240" y="3143160"/>
            <a:ext cx="1791000" cy="23097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9" descr="черепаха, анимашка"/>
          <p:cNvPicPr/>
          <p:nvPr/>
        </p:nvPicPr>
        <p:blipFill>
          <a:blip r:embed="rId3"/>
          <a:stretch/>
        </p:blipFill>
        <p:spPr>
          <a:xfrm>
            <a:off x="8292960" y="5500800"/>
            <a:ext cx="851040" cy="860400"/>
          </a:xfrm>
          <a:prstGeom prst="rect">
            <a:avLst/>
          </a:prstGeom>
          <a:ln w="0">
            <a:noFill/>
          </a:ln>
        </p:spPr>
      </p:pic>
      <p:sp>
        <p:nvSpPr>
          <p:cNvPr id="462" name="Овал 6"/>
          <p:cNvSpPr/>
          <p:nvPr/>
        </p:nvSpPr>
        <p:spPr>
          <a:xfrm>
            <a:off x="2500200" y="2500200"/>
            <a:ext cx="857520" cy="785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9"/>
          <p:cNvSpPr/>
          <p:nvPr/>
        </p:nvSpPr>
        <p:spPr>
          <a:xfrm>
            <a:off x="3071880" y="1857240"/>
            <a:ext cx="785880" cy="785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Овал 10"/>
          <p:cNvSpPr/>
          <p:nvPr/>
        </p:nvSpPr>
        <p:spPr>
          <a:xfrm>
            <a:off x="6858000" y="2857680"/>
            <a:ext cx="785880" cy="78552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Овал 11"/>
          <p:cNvSpPr/>
          <p:nvPr/>
        </p:nvSpPr>
        <p:spPr>
          <a:xfrm>
            <a:off x="6072120" y="2643120"/>
            <a:ext cx="785880" cy="785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Овал 12"/>
          <p:cNvSpPr/>
          <p:nvPr/>
        </p:nvSpPr>
        <p:spPr>
          <a:xfrm>
            <a:off x="7215120" y="2714760"/>
            <a:ext cx="785880" cy="7855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Овал 13"/>
          <p:cNvSpPr/>
          <p:nvPr/>
        </p:nvSpPr>
        <p:spPr>
          <a:xfrm>
            <a:off x="6643800" y="2428920"/>
            <a:ext cx="785880" cy="78588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Овал 14"/>
          <p:cNvSpPr/>
          <p:nvPr/>
        </p:nvSpPr>
        <p:spPr>
          <a:xfrm>
            <a:off x="6500880" y="3000240"/>
            <a:ext cx="785880" cy="785880"/>
          </a:xfrm>
          <a:prstGeom prst="ellipse">
            <a:avLst/>
          </a:prstGeom>
          <a:solidFill>
            <a:srgbClr val="66ffcc"/>
          </a:solidFill>
          <a:ln w="1260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Овал 15"/>
          <p:cNvSpPr/>
          <p:nvPr/>
        </p:nvSpPr>
        <p:spPr>
          <a:xfrm>
            <a:off x="1857240" y="2214720"/>
            <a:ext cx="785880" cy="78552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Овал 16"/>
          <p:cNvSpPr/>
          <p:nvPr/>
        </p:nvSpPr>
        <p:spPr>
          <a:xfrm>
            <a:off x="3500280" y="2643120"/>
            <a:ext cx="857520" cy="92880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Овал 17"/>
          <p:cNvSpPr/>
          <p:nvPr/>
        </p:nvSpPr>
        <p:spPr>
          <a:xfrm>
            <a:off x="1428840" y="2714760"/>
            <a:ext cx="785880" cy="78552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Трапеция 18"/>
          <p:cNvSpPr/>
          <p:nvPr/>
        </p:nvSpPr>
        <p:spPr>
          <a:xfrm>
            <a:off x="-285840" y="6286680"/>
            <a:ext cx="9715680" cy="57132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32-конечная звезда 19"/>
          <p:cNvSpPr/>
          <p:nvPr/>
        </p:nvSpPr>
        <p:spPr>
          <a:xfrm>
            <a:off x="-1785960" y="6072120"/>
            <a:ext cx="13001760" cy="1000080"/>
          </a:xfrm>
          <a:custGeom>
            <a:avLst/>
            <a:gdLst>
              <a:gd name="textAreaLeft" fmla="*/ 2968200 w 13001760"/>
              <a:gd name="textAreaRight" fmla="*/ 10033560 w 13001760"/>
              <a:gd name="textAreaTop" fmla="*/ 228240 h 1000080"/>
              <a:gd name="textAreaBottom" fmla="*/ 77184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0"/>
          <p:cNvSpPr/>
          <p:nvPr/>
        </p:nvSpPr>
        <p:spPr>
          <a:xfrm>
            <a:off x="3571920" y="292896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21"/>
          <p:cNvSpPr/>
          <p:nvPr/>
        </p:nvSpPr>
        <p:spPr>
          <a:xfrm>
            <a:off x="6500880" y="3214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22"/>
          <p:cNvSpPr/>
          <p:nvPr/>
        </p:nvSpPr>
        <p:spPr>
          <a:xfrm>
            <a:off x="1857240" y="242892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23"/>
          <p:cNvSpPr/>
          <p:nvPr/>
        </p:nvSpPr>
        <p:spPr>
          <a:xfrm>
            <a:off x="2643120" y="271476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24"/>
          <p:cNvSpPr/>
          <p:nvPr/>
        </p:nvSpPr>
        <p:spPr>
          <a:xfrm>
            <a:off x="3143160" y="207180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25"/>
          <p:cNvSpPr/>
          <p:nvPr/>
        </p:nvSpPr>
        <p:spPr>
          <a:xfrm>
            <a:off x="1428840" y="29289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26"/>
          <p:cNvSpPr/>
          <p:nvPr/>
        </p:nvSpPr>
        <p:spPr>
          <a:xfrm>
            <a:off x="6929280" y="307188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У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27"/>
          <p:cNvSpPr/>
          <p:nvPr/>
        </p:nvSpPr>
        <p:spPr>
          <a:xfrm>
            <a:off x="6072120" y="28576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28"/>
          <p:cNvSpPr/>
          <p:nvPr/>
        </p:nvSpPr>
        <p:spPr>
          <a:xfrm>
            <a:off x="6643800" y="26431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29"/>
          <p:cNvSpPr/>
          <p:nvPr/>
        </p:nvSpPr>
        <p:spPr>
          <a:xfrm>
            <a:off x="7286760" y="29289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9" descr="черепаха, анимашка"/>
          <p:cNvPicPr/>
          <p:nvPr/>
        </p:nvPicPr>
        <p:blipFill>
          <a:blip r:embed="rId6"/>
          <a:stretch/>
        </p:blipFill>
        <p:spPr>
          <a:xfrm flipH="1">
            <a:off x="214200" y="6000840"/>
            <a:ext cx="85104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9" dur="5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44444E-006 C 0.00243 -0.02939 0.000869999999999999 -0.02199 0.01944 -0.02546 C 0.02274 -0.0287 0.02743 -0.03032 0.02916 -0.03564 C 0.03194 -0.04513 0.03437 -0.05463 0.03715 -0.06365 C 0.03663 -0.07708 0.0375 -0.09097 0.03559 -0.10393 C 0.03524 -0.10671 0.03229 -0.10532 0.03073 -0.10648 C 0.01857 -0.11458 0.03003 -0.10949 0.01788 -0.11412 C 0.01163 -0.1206 0.00573 -0.12314 -0.00157 -0.12685 C -0.00313 -0.12754 -0.00643 -0.12939 -0.00643 -0.12916 C -0.01302 -0.13634 -0.01979 -0.13796 -0.02726 -0.14213 C -0.02882 -0.14467 -0.03091 -0.14652 -0.03212 -0.14953 C -0.03525 -0.15671 -0.03351 -0.15949 -0.03212 -0.16736 C -0.02917 -0.18287 -0.01719 -0.18657 -0.00799 -0.19004 C -0.00452 -0.19838 -0.00035 -0.20231 0.0033 -0.21018 C 0.0085 -0.23564 0.00885 -0.23472 0.0033 -0.28148 C 0.00295 -0.28472 -0.00104 -0.28287 -0.00313 -0.28379 C -0.01927 -0.29097 0.00555 -0.28125 -0.01441 -0.28865 C -0.01997 -0.29305 -0.02466 -0.29861 -0.03056 -0.30162 C -0.0316 -0.30393 -0.03299 -0.30625 -0.03386 -0.30902 C -0.03525 -0.31412 -0.03698 -0.32407 -0.03698 -0.32384 C -0.03577 -0.35046 -0.03907 -0.35717 -0.02726 -0.3699 C -0.01719 -0.41782 -0.02413 -0.37963 -0.02413 -0.48842 E">
                                      <p:cBhvr>
                                        <p:cTn id="333" dur="2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4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51 -0.0037 -0.00625 -0.00486 -0.00972 -0.01065 C -0.01215 -0.01482 -0.01614 -0.02361 -0.01614 -0.02361 C -0.01545 -0.03449 -0.01805 -0.04722 -0.01302 -0.05579 C -0.01007 -0.06065 -0.00173 -0.06296 0.00156 -0.06435 C 0.01736 -0.07107 0.0349 -0.06597 0.05156 -0.06667 C 0.05313 -0.06736 0.05521 -0.06713 0.05643 -0.06875 C 0.0592 -0.07245 0.06285 -0.08171 0.06285 -0.08171 C 0.06563 -0.09329 0.0691 -0.10023 0.06441 -0.11389 C 0.06337 -0.1169 0.06025 -0.1169 0.05799 -0.11829 C 0.04445 -0.12639 0.03281 -0.12755 0.01771 -0.12894 C 0.01198 -0.13009 0.0033 -0.13125 -0.00173 -0.13542 C -0.00434 -0.1375 -0.00677 -0.14051 -0.00972 -0.1419 C -0.01389 -0.14398 -0.02257 -0.14607 -0.02257 -0.14607 C -0.02882 -0.15162 -0.03594 -0.15162 -0.04201 -0.15695 C -0.04826 -0.16227 -0.04514 -0.16019 -0.05173 -0.16343 C -0.05521 -0.17315 -0.06024 -0.18125 -0.06302 -0.1912 C -0.05503 -0.23125 -0.01041 -0.2206 0.01129 -0.22153 C 0.02552 -0.22755 0.03837 -0.23681 0.05313 -0.24074 C 0.05469 -0.24282 0.05608 -0.2456 0.05799 -0.24722 C 0.06476 -0.25324 0.06198 -0.24375 0.06771 -0.25579 C 0.07031 -0.26134 0.07413 -0.27315 0.07413 -0.27315 C 0.07188 -0.31505 0.07882 -0.29861 0.05799 -0.30741 C 0.04306 -0.32083 0.02396 -0.32454 0.00643 -0.32685 C -0.00833 -0.33171 -0.02257 -0.33449 -0.03715 -0.33982 C -0.04757 -0.34861 -0.03559 -0.33958 -0.05 -0.34607 C -0.07326 -0.35648 -0.04028 -0.34537 -0.06302 -0.35255 C -0.07066 -0.3588 -0.07725 -0.36111 -0.08559 -0.36551 C -0.09288 -0.38032 -0.0908 -0.37361 -0.09357 -0.38495 C -0.06823 -0.41759 0.03229 -0.40417 0.03542 -0.40417 C 0.04115 -0.40903 0.0467 -0.40972 0.05313 -0.4125 C 0.05747 -0.42153 0.06615 -0.43148 0.05313 -0.43657 C 0.05104 -0.4375 0.04879 -0.43796 0.0467 -0.43866 C 0.04167 -0.44282 0.03507 -0.44722 0.029 -0.44722 E">
                                      <p:cBhvr>
                                        <p:cTn id="348" dur="2000" fill="hold"/>
                                        <p:tgtEl>
                                          <p:spTgt spid="4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5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277 -0.00069 -0.00555 -0.00116 -0.00816 -0.00208 C -0.01146 -0.00324 -0.01788 -0.00648 -0.01788 -0.00648 C -0.02343 -0.02986 -0.00555 -0.03125 0.00643 -0.03657 C 0.0092 -0.03773 0.01146 -0.04051 0.01441 -0.04097 C 0.02934 -0.04282 0.04445 -0.04236 0.05955 -0.04306 C 0.06129 -0.04653 0.06441 -0.05139 0.06441 -0.05602 C 0.06441 -0.06667 0.06476 -0.07778 0.06285 -0.08819 C 0.06216 -0.09236 0.04479 -0.09745 0.04184 -0.09884 C 0.02101 -0.1081 0.03698 -0.10301 -0.00173 -0.10532 C -0.01215 -0.11042 -0.01996 -0.11644 -0.02916 -0.12477 C -0.03021 -0.12917 -0.03125 -0.13333 -0.03229 -0.13773 C -0.03975 -0.16875 -0.00677 -0.18194 0.00955 -0.18495 C 0.01441 -0.18588 0.01927 -0.18611 0.02413 -0.18704 C 0.02952 -0.18819 0.0349 -0.19051 0.04028 -0.19144 C 0.0467 -0.19259 0.05313 -0.19282 0.05955 -0.19352 C 0.075 -0.2088 0.08924 -0.20394 0.10157 -0.22801 C 0.10469 -0.24074 0.10851 -0.25509 0.0967 -0.26019 C 0.08959 -0.26968 0.07726 -0.27407 0.06771 -0.27731 C 0.05712 -0.28102 0.04775 -0.28889 0.03698 -0.29236 C 0.02795 -0.30046 0.0165 -0.30185 0.00643 -0.30764 C -0.00139 -0.31227 -0.01093 -0.31597 -0.01788 -0.32269 C -0.01962 -0.32431 -0.02083 -0.32708 -0.02257 -0.32894 C -0.02413 -0.33056 -0.02587 -0.33194 -0.02743 -0.33333 C -0.0276 -0.33403 -0.03073 -0.34537 -0.03073 -0.3463 C -0.03073 -0.35556 -0.01875 -0.3669 -0.01302 -0.36991 C 0.00504 -0.37917 0.02396 -0.38542 0.04184 -0.3956 C 0.05521 -0.40324 0.06962 -0.41042 0.08386 -0.41505 C 0.09306 -0.4213 0.10261 -0.42477 0.11129 -0.43218 C 0.1165 -0.44306 0.11771 -0.44861 0.10955 -0.4581 C 0.10452 -0.46366 0.10469 -0.46204 0.09827 -0.46458 C 0.09514 -0.46597 0.08872 -0.46875 0.08872 -0.46875 C 0.08316 -0.47384 0.07743 -0.47824 0.07743 -0.48819 E">
                                      <p:cBhvr>
                                        <p:cTn id="363" dur="2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95 4.07407E-006 C -0.02951 -0.05324 -0.06198 -0.10556 -0.05521 -0.14144 C -0.04844 -0.17686 0.03542 -0.17755 0.04323 -0.21389 C 0.05104 -0.25024 0.02014 -0.32153 -0.00833 -0.35996 C -0.03681 -0.39862 -0.13576 -0.42477 -0.12778 -0.44514 C -0.11979 -0.46505 0.0151 -0.46227 0.0401 -0.48125 C 0.0651 -0.50047 0.02621 -0.54769 0.02222 -0.56158 E">
                                      <p:cBhvr>
                                        <p:cTn id="378" dur="2000" fill="hold"/>
                                        <p:tgtEl>
                                          <p:spTgt spid="4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5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5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712 -0.00301 -0.01232 -0.00764 -0.01927 -0.01065 C -0.02083 -0.01204 -0.02292 -0.01297 -0.02413 -0.01505 C -0.02708 -0.02014 -0.02569 -0.02385 -0.02257 -0.02778 C -0.01632 -0.03588 -0.00642 -0.04005 0.00174 -0.04306 C 0.01129 -0.05116 0.00139 -0.04398 0.01458 -0.04931 C 0.01893 -0.05116 0.02292 -0.05417 0.02743 -0.05579 C 0.02969 -0.05648 0.03177 -0.05741 0.03403 -0.05811 C 0.04097 -0.06412 0.04375 -0.06111 0.04844 -0.07084 C 0.04636 -0.08195 0.04323 -0.08311 0.03559 -0.0882 C 0.02639 -0.09422 0.01563 -0.09491 0.0066 -0.10093 C 0.00035 -0.1051 -0.00469 -0.10672 -0.01128 -0.10973 C -0.0184 -0.11297 -0.02326 -0.11806 -0.03055 -0.12037 C -0.03107 -0.1213 -0.03663 -0.13079 -0.03542 -0.13334 C -0.03385 -0.13658 -0.02482 -0.13866 -0.02257 -0.13982 C -0.00729 -0.14746 0.00868 -0.15232 0.02431 -0.15903 C 0.02726 -0.16297 0.0316 -0.16528 0.03403 -0.16991 C 0.03681 -0.17523 0.04045 -0.18704 0.04045 -0.18704 C 0.03993 -0.19352 0.04045 -0.20023 0.03872 -0.20648 C 0.03802 -0.2088 0.03577 -0.20949 0.03403 -0.21065 C 0.02778 -0.21482 0.02118 -0.21713 0.01458 -0.21922 C 0.00538 -0.22547 -0.00434 -0.22894 -0.01441 -0.23218 C -0.02014 -0.23727 -0.02569 -0.23797 -0.03212 -0.24074 C -0.03767 -0.24584 -0.03976 -0.24954 -0.04184 -0.25811 C -0.00382 -0.30093 0.04219 -0.28704 0.09202 -0.29028 C 0.0974 -0.29236 0.1033 -0.29306 0.10816 -0.29699 C 0.11077 -0.29885 0.10972 -0.30764 0.10816 -0.30973 C 0.10174 -0.31829 0.09931 -0.31806 0.09202 -0.32037 C 0.08351 -0.32732 0.08004 -0.32616 0.07257 -0.33102 C 0.05833 -0.34051 0.07118 -0.33565 0.0566 -0.33982 C 0.0441 -0.35047 0.02899 -0.35625 0.01458 -0.36111 C 0.00434 -0.36806 -0.00382 -0.3713 -0.01441 -0.37639 C -0.01719 -0.38172 -0.02031 -0.38403 -0.01597 -0.39144 C -0.01493 -0.39306 -0.01285 -0.3926 -0.01128 -0.39352 C 0.00365 -0.40324 -0.02101 -0.39121 0.0033 -0.40209 C 0.00486 -0.40278 0.00816 -0.40417 0.00816 -0.40417 C 0.00972 -0.40556 0.01129 -0.40741 0.01302 -0.40857 C 0.01615 -0.41042 0.02257 -0.41273 0.02257 -0.41273 E">
                                      <p:cBhvr>
                                        <p:cTn id="397" dur="2000" fill="hold"/>
                                        <p:tgtEl>
                                          <p:spTgt spid="4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5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99 -0.00416 -0.01267 -0.01018 -0.00799 -0.02569 C -0.0059 -0.03287 0.00833 -0.0331 0.01285 -0.03449 C 0.02292 -0.04328 0.03819 -0.04861 0.05 -0.0537 C 0.05295 -0.05764 0.05642 -0.06018 0.05642 -0.06666 C 0.05642 -0.07731 0.05712 -0.08842 0.05486 -0.09884 C 0.05451 -0.10023 0.04531 -0.10509 0.04358 -0.10532 C 0.02899 -0.10648 0.01458 -0.10671 0 -0.1074 C 0.02517 -0.13009 0.05104 -0.12523 0.08073 -0.12685 C 0.08455 -0.14259 0.0776 -0.14282 0.06771 -0.14629 C 0.04635 -0.16481 0.00399 -0.16643 -0.01927 -0.17014 C -0.02517 -0.17384 -0.03125 -0.17685 -0.03715 -0.18055 C -0.04427 -0.19027 -0.04653 -0.21597 -0.03229 -0.21713 C 0.00312 -0.2199 0.03871 -0.21875 0.07413 -0.21944 C 0.08073 -0.22523 0.08333 -0.23171 0.07899 -0.24305 C 0.07674 -0.24861 0.06354 -0.25277 0.05972 -0.25393 C 0.04948 -0.26088 0.03976 -0.26435 0.02899 -0.26875 C 0.01406 -0.27477 0.00069 -0.28541 -0.01458 -0.29027 C -0.01979 -0.29514 -0.02465 -0.29629 -0.03056 -0.29884 C -0.0316 -0.30092 -0.03299 -0.30301 -0.03385 -0.30532 C -0.03524 -0.30949 -0.03715 -0.31828 -0.03715 -0.31828 C -0.03611 -0.32338 -0.03559 -0.3287 -0.03385 -0.33333 C -0.02899 -0.34606 -0.01285 -0.34514 -0.00486 -0.34629 C 0.00434 -0.3493 0.01337 -0.35254 0.02257 -0.35486 C 0.03073 -0.36041 0.03854 -0.36643 0.0467 -0.37199 E">
                                      <p:cBhvr>
                                        <p:cTn id="412" dur="20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52 -0.02639 0.00347 -0.05394 -0.00156 -0.0794 C -0.00278 -0.08565 -0.01146 -0.07917 -0.01597 -0.08171 C -0.01805 -0.0831 -0.01163 -0.0831 -0.00955 -0.0838 C -0.00521 -0.08542 -0.00226 -0.08681 0.00174 -0.09028 C 0.01094 -0.09838 0.01979 -0.10579 0.02743 -0.11597 C 0.03177 -0.13264 0.0316 -0.14051 0.02101 -0.15278 C 0.01893 -0.15486 0.01684 -0.15718 0.01458 -0.15903 C 0.01146 -0.16204 0.00486 -0.16759 0.00486 -0.16759 C -0.00017 -0.17801 -0.00486 -0.18218 -0.01285 -0.18912 C -0.01441 -0.19051 -0.01771 -0.19352 -0.01771 -0.19352 C -0.01476 -0.20509 -0.00955 -0.2037 -0.00156 -0.20671 C 0.0059 -0.21389 0.01233 -0.21528 0.02101 -0.21921 C 0.02622 -0.22153 0.03038 -0.22546 0.03559 -0.22778 C 0.03663 -0.23218 0.03768 -0.23634 0.03872 -0.24074 C 0.03924 -0.24282 0.04045 -0.24722 0.04045 -0.24722 C 0.04011 -0.25347 0.04184 -0.28357 0.03403 -0.29236 C 0.0283 -0.29907 0.02066 -0.30509 0.01458 -0.31204 C 0.01042 -0.3162 0 -0.3206 0 -0.3206 C -0.00156 -0.32176 -0.00347 -0.32292 -0.00469 -0.32477 C -0.00729 -0.3287 -0.01128 -0.3375 -0.01128 -0.3375 C -0.01076 -0.34398 -0.01146 -0.35093 -0.00955 -0.35694 C -0.00885 -0.35926 -0.00625 -0.3581 -0.00469 -0.35926 C 0.00504 -0.36458 0.01389 -0.36944 0.02431 -0.37199 C 0.03663 -0.38449 0.05052 -0.38056 0.06302 -0.39144 C 0.06458 -0.39306 0.06615 -0.39444 0.06788 -0.3956 C 0.07101 -0.39769 0.07743 -0.4 0.07743 -0.4 C 0.07899 -0.40278 0.08038 -0.40602 0.08229 -0.40857 C 0.08368 -0.41042 0.08681 -0.41042 0.08715 -0.41273 C 0.08837 -0.42384 0.08611 -0.44676 0.08073 -0.4581 C 0.07847 -0.46296 0.07205 -0.47269 0.06788 -0.47523 C 0.06476 -0.47708 0.05816 -0.4794 0.05816 -0.4794 C 0.0474 -0.48912 0.0309 -0.49468 0.01788 -0.49884 C 0.00903 -0.50694 0.01493 -0.50324 -0.00156 -0.50324 E">
                                      <p:cBhvr>
                                        <p:cTn id="431" dur="2000" fill="hold"/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6" dur="50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59259E-006 L 0.00608 -0.52014 E">
                                      <p:cBhvr>
                                        <p:cTn id="450" dur="2000" fill="hold"/>
                                        <p:tgtEl>
                                          <p:spTgt spid="4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5" dur="50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59259E-006 L 0.00573 -0.54074 E">
                                      <p:cBhvr>
                                        <p:cTn id="469" dur="2000" fill="hold"/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4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146 -0.05 L 0.18646 -0.54074 E">
                                      <p:cBhvr>
                                        <p:cTn id="488" dur="2000" fill="hold"/>
                                        <p:tgtEl>
                                          <p:spTgt spid="4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48148E-006 L 0.17188 -0.47894 E">
                                      <p:cBhvr>
                                        <p:cTn id="490" dur="2000" fill="hold"/>
                                        <p:tgtEl>
                                          <p:spTgt spid="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8T06:14:24Z</dcterms:created>
  <dc:creator>nach</dc:creator>
  <dc:description/>
  <dc:language>en-US</dc:language>
  <cp:lastModifiedBy>Саня</cp:lastModifiedBy>
  <dcterms:modified xsi:type="dcterms:W3CDTF">2011-11-19T10:51:43Z</dcterms:modified>
  <cp:revision>141</cp:revision>
  <dc:subject/>
  <dc:title>Нарисуй путь рыбки,поизнося слоги: ста, сто,сту,сты</dc:title>
</cp:coreProperties>
</file>