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gif" ContentType="image/gif"/>
  <Override PartName="/ppt/media/image8.jpeg" ContentType="image/jpeg"/>
  <Override PartName="/ppt/media/image25.gif" ContentType="image/gif"/>
  <Override PartName="/ppt/media/image28.png" ContentType="image/png"/>
  <Override PartName="/ppt/media/image5.gif" ContentType="image/gif"/>
  <Override PartName="/ppt/media/image23.png" ContentType="image/png"/>
  <Override PartName="/ppt/media/image30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png" ContentType="image/png"/>
  <Override PartName="/ppt/media/image27.gif" ContentType="image/gif"/>
  <Override PartName="/ppt/media/image9.gif" ContentType="image/gif"/>
  <Override PartName="/ppt/media/image3.jpeg" ContentType="image/jpeg"/>
  <Override PartName="/ppt/media/image12.gif" ContentType="image/gif"/>
  <Override PartName="/ppt/media/image13.gif" ContentType="image/gif"/>
  <Override PartName="/ppt/media/image4.png" ContentType="image/png"/>
  <Override PartName="/ppt/media/image31.gif" ContentType="image/gif"/>
  <Override PartName="/ppt/media/image1.gif" ContentType="image/gif"/>
  <Override PartName="/ppt/media/image24.gif" ContentType="image/gif"/>
  <Override PartName="/ppt/media/image2.png" ContentType="image/png"/>
  <Override PartName="/ppt/media/image15.gif" ContentType="image/gif"/>
  <Override PartName="/ppt/media/image16.gif" ContentType="image/gif"/>
  <Override PartName="/ppt/media/image17.gif" ContentType="image/gif"/>
  <Override PartName="/ppt/media/image22.png" ContentType="image/png"/>
  <Override PartName="/ppt/media/image18.jpeg" ContentType="image/jpeg"/>
  <Override PartName="/ppt/media/image14.jpeg" ContentType="image/jpeg"/>
  <Override PartName="/ppt/media/image19.gif" ContentType="image/gif"/>
  <Override PartName="/ppt/media/image21.gif" ContentType="image/gif"/>
  <Override PartName="/ppt/media/image2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5483-7672-4799-92F0-7295BD9DFA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грёнок поёт песенку лалало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9B8A-C66A-43D5-BB57-7704972830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E339-8E71-4BA4-AD3A-A4B5631FAA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 и краб весело ИГРАЮТ В СЛОВА И ПУСКАЮТ РАЗНОЦВЕТНЫЕ ПУЗЫРЬ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грята учатся рычать, ОТРАБАТЫВАЮТ СИЛУ И ТЕМБР ГОЛОСА: тихо, громко, слабо, сильно, в полголоса, сначала низко - потом – выше, близко – далек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озаврик играет в инопланетян и посылает им послание попробуй его прочитать правильно произнося звук Р ,Повторяй слова за динозаври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ч прожил на земле много лет и научился правильным манерам поведения. Увидев в луже поросёнка он не мог понять, почему он валяется в грязи и от злости зарычал. Поросёнок Гром ответил ему по своему: ХРО-Х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3CBE-FA7B-4254-AC6E-C7526B0559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2AA9-2DBB-4624-A07B-A18C58670C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ака-фокусник  ловит предметы в которых есть звук 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голов забьёт д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CEB-8C5A-44B6-9D5E-75F4E4CA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AE2-5480-4451-AAF2-E8B14D15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58F9-6592-4EC0-BCD4-08729906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1F3-D5B1-4B48-BA19-3E870513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71BD-9B8F-4020-B315-0C5A8676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AE0C-FE0C-4F66-A2BA-ABA4872C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5FAD-9C6D-46DF-ADA7-2DE7402F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8BD2-7BA3-4E12-97DF-7CAB78A3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55B1-9345-4450-B97C-C9F02E9E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3FA0-F2F2-4FA4-AF7B-25749463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7BFB-55A1-47C9-9D45-C23A8B51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C23-09DF-4088-8388-081B86E2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AB4D-9463-4E4A-B5B3-69BB3112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E544-9926-4F66-B5D1-6FF604CB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1417-4D24-4849-A021-1CA81FA0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7270-D7DF-4BFB-A7F5-8179DE63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A034-19A0-412A-B818-154D0F55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45236-91E2-4D1A-A4DF-61C4272B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74F9A-B7D8-439A-B9E8-EDC44BDB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B1A1D-1956-4130-9AAE-29A62D88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449F1-55BE-4D75-A210-5F0300D3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9508C-3DDF-4EB3-92ED-02BE5786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6C7-9D48-41D1-8836-06CBB3F1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64159-D559-47BE-98CB-83C3AE9C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01648-A865-423E-A3E7-27189FEC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2E78C-9C5D-4CB8-9F97-0F3CAB57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B7368-6B33-475A-B070-EF3705A9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4C63B-462C-45A8-BC21-57080310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7855D-37D2-4D4C-A112-E97D5CD1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70CFC-1643-4401-BB93-C4F6A85E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79B97-D882-479D-941E-FA4E7327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1D51A-9E9A-417C-8C52-A9A31969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19338-BE52-4B1D-9439-F5A11988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B529-464D-4651-82E8-198AD25B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BE7F7-0FAA-4B32-B690-E7CAF6F7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4AC2C-61C2-4735-B507-C3CF2B5F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672BC-1637-4ED4-8960-5DEA7D6A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B1ADE-6697-400D-846A-0FCEA6EC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47840-A65D-4D98-B9C8-BD638F78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CBE6B-473E-413C-87A2-DFA898D3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38877-B198-4C33-8BC5-116E6B52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D4319-54EB-4307-A837-BF9B99E4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E004B-E3E9-4602-AB28-A5AB270A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CE94E-BB61-472A-9D72-D552B6E7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51A-7AB9-4044-9F0B-F9736DF6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F932A-C181-4D56-9037-29327BFB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486D9-D810-45F9-84C9-7C50C069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1C78F-6BCA-4922-81AB-743B2D2D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FB8AC-0607-4B20-BBB8-336F81F9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B81B4-6C43-4AFA-BEE1-DF4B29FD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D9E3C-AAE4-4409-8C33-5F7C6BF7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0561A-9B90-4570-ABB3-BBDF664A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A308A-90B6-4BAB-BE4B-7C3F806C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57270-D388-4FC1-8616-0AF15741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3E2ED-B1CF-46D4-B165-DC490D3F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DC5-D7A9-4BAB-8062-3A575F00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4EFB1-D734-41BD-9AA5-E302ED63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9CA33-CFCB-48F9-BFF9-31D39702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80CED-4FA5-4215-B913-D19BD59C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F961F-DF65-4EF8-A7AF-99B5142A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D238C-7FAB-4F6C-B560-60F15D30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5BA62-6647-4DB5-A8A9-289D557F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3C184-B840-4814-A2FB-E0AE9963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B3197-93A6-420C-AD82-38D16F0D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A7A7F-DDE8-4649-BD9A-F5833A32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F4A33-9213-47FC-B404-A856B014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0A0-7B1E-4884-8C66-D32F6056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FAE48-2A32-4612-A2FB-3FA96728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E5DB2-F085-4551-93CA-90342DAE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5697F-F70E-435D-B6C3-A79E9517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81849-709A-4186-9A76-A92A3414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DB826-2FF6-473C-8DB0-BF32ED0E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680A6-58E7-40A9-BDAB-26B1F7A0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6710F-3CF1-44C7-BBBB-0F77421C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94FA5-9872-4430-911A-29DA217F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23D84-34E3-497D-B6E6-F326B4D1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13855-184A-49F9-B050-5005F994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4DE-93DE-436C-928F-3FF8ED3F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364A9-1967-4F2F-AE55-B9D7ACC4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24C1C-42D1-48D3-B80F-989FF0E9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3C896-7371-4B85-9D1D-33E04704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5A577-8F1B-43D8-B36B-740E2BEE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32788-2ADF-45E4-BBE8-D0ADFF15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E5A1F-AB25-4561-A7EF-FFA3802C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9314E-7EB6-4D90-8840-B58C7BA0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A6CA9-F3CD-4C7A-8BB1-A4049A08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6993F-E01C-4CA6-AF75-0A9DEA0F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DC05C-FBF9-4856-930B-BF96C311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59D7-BBEB-466E-B2F5-123560FF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FECDC-D73C-404C-8380-FB395D18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7FDCA-2382-46E4-9302-47D6E2EA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CA52D-D8D4-4804-AB11-B6B08382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1105D-0CA2-446A-9052-AD6B3736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208DC-5656-468F-8079-CB210548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D9894-D27B-4287-9485-CFA7D699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331AD-3CA3-43BC-9905-4EF7D088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9D9B-D3BA-4AD2-914B-EE480F38AF1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E7B5-722C-4CB4-B69C-C5775BED5B4C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A209-FEE2-44F2-870F-5536F7FBF10E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98A8-88F9-4D9C-ADDF-E81FE3E8B85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1C87-EF7D-4016-B42C-183FA6A45A3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A3B7-907D-4B0E-A71F-D026ED7E9D8F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F824-8656-42D5-93C3-C04DBB2588DC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B08C-33D9-40D1-A613-0112C0ADCBC4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3.jpeg"/><Relationship Id="rId7" Type="http://schemas.openxmlformats.org/officeDocument/2006/relationships/image" Target="../media/image7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3" descr="BurykinD"/>
          <p:cNvPicPr/>
          <p:nvPr/>
        </p:nvPicPr>
        <p:blipFill>
          <a:blip r:embed="rId1"/>
          <a:stretch/>
        </p:blipFill>
        <p:spPr>
          <a:xfrm>
            <a:off x="0" y="4000680"/>
            <a:ext cx="3232080" cy="3232080"/>
          </a:xfrm>
          <a:prstGeom prst="rect">
            <a:avLst/>
          </a:prstGeom>
          <a:ln w="0">
            <a:noFill/>
          </a:ln>
        </p:spPr>
      </p:pic>
      <p:sp>
        <p:nvSpPr>
          <p:cNvPr id="360" name="WordArt 11"/>
          <p:cNvSpPr txBox="1"/>
          <p:nvPr/>
        </p:nvSpPr>
        <p:spPr>
          <a:xfrm>
            <a:off x="1071720" y="1357200"/>
            <a:ext cx="6286320" cy="231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втоматизация</a:t>
            </a:r>
            <a:endParaRPr b="0" lang="en-US" sz="2000" spc="1" strike="noStrike">
              <a:ln w="1584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вук а   Р</a:t>
            </a:r>
            <a:endParaRPr b="0" lang="en-US" sz="2000" spc="1" strike="noStrike">
              <a:ln w="1584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539640" y="6597720"/>
            <a:ext cx="25923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2"/>
          <p:cNvSpPr/>
          <p:nvPr/>
        </p:nvSpPr>
        <p:spPr>
          <a:xfrm>
            <a:off x="3929040" y="5072040"/>
            <a:ext cx="471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ель: учитель-логопед МОУСОШ №2 г. Пыть-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гарлыцкая Татьяна Леонид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ятно 2 13"/>
          <p:cNvSpPr/>
          <p:nvPr/>
        </p:nvSpPr>
        <p:spPr>
          <a:xfrm>
            <a:off x="928800" y="2000160"/>
            <a:ext cx="5857920" cy="5572080"/>
          </a:xfrm>
          <a:prstGeom prst="irregularSeal2">
            <a:avLst/>
          </a:prstGeom>
          <a:solidFill>
            <a:srgbClr val="ff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carrot01"/>
          <p:cNvPicPr/>
          <p:nvPr/>
        </p:nvPicPr>
        <p:blipFill>
          <a:blip r:embed="rId2"/>
          <a:stretch/>
        </p:blipFill>
        <p:spPr>
          <a:xfrm>
            <a:off x="2357280" y="3357720"/>
            <a:ext cx="1895760" cy="1589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9231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Скажи столько раз слог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(АР)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, сколько морковок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 у зайц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3"/>
          <a:stretch/>
        </p:blipFill>
        <p:spPr>
          <a:xfrm>
            <a:off x="8910720" y="-42876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http://animashky.ru/flist/objiv/17/162.gif"/>
          <p:cNvPicPr/>
          <p:nvPr/>
        </p:nvPicPr>
        <p:blipFill>
          <a:blip r:embed="rId4"/>
          <a:stretch/>
        </p:blipFill>
        <p:spPr>
          <a:xfrm>
            <a:off x="6215040" y="571680"/>
            <a:ext cx="2643120" cy="39528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http://animashky.ru/flist/objiv/17/57.gif"/>
          <p:cNvPicPr/>
          <p:nvPr/>
        </p:nvPicPr>
        <p:blipFill>
          <a:blip r:embed="rId5"/>
          <a:stretch/>
        </p:blipFill>
        <p:spPr>
          <a:xfrm rot="615000">
            <a:off x="6053040" y="5197320"/>
            <a:ext cx="1600200" cy="1530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arrot01"/>
          <p:cNvPicPr/>
          <p:nvPr/>
        </p:nvPicPr>
        <p:blipFill>
          <a:blip r:embed="rId6"/>
          <a:stretch/>
        </p:blipFill>
        <p:spPr>
          <a:xfrm>
            <a:off x="2143080" y="4768920"/>
            <a:ext cx="2492280" cy="2089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cl236"/>
          <p:cNvPicPr/>
          <p:nvPr/>
        </p:nvPicPr>
        <p:blipFill>
          <a:blip r:embed="rId7"/>
          <a:stretch/>
        </p:blipFill>
        <p:spPr>
          <a:xfrm>
            <a:off x="-428760" y="3500280"/>
            <a:ext cx="2408400" cy="27147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carrot01"/>
          <p:cNvPicPr/>
          <p:nvPr/>
        </p:nvPicPr>
        <p:blipFill>
          <a:blip r:embed="rId8"/>
          <a:stretch/>
        </p:blipFill>
        <p:spPr>
          <a:xfrm rot="19183800">
            <a:off x="3975120" y="3881520"/>
            <a:ext cx="1703520" cy="14288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4"/>
          <p:cNvSpPr/>
          <p:nvPr/>
        </p:nvSpPr>
        <p:spPr>
          <a:xfrm>
            <a:off x="8207280" y="285840"/>
            <a:ext cx="9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2"/>
          <p:cNvSpPr/>
          <p:nvPr/>
        </p:nvSpPr>
        <p:spPr>
          <a:xfrm>
            <a:off x="250920" y="0"/>
            <a:ext cx="1229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Скажи столько раз слог РО (ОР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сколько морковок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 у за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3"/>
          <p:cNvSpPr/>
          <p:nvPr/>
        </p:nvSpPr>
        <p:spPr>
          <a:xfrm>
            <a:off x="320040" y="0"/>
            <a:ext cx="665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кажи столько раз слог РУ (УР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колько морково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у за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00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6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329600" cy="28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64653"/>
                </a:solidFill>
                <a:latin typeface="Arial"/>
              </a:rPr>
              <a:t>Спой песенку вместе со львёнком и его друзьями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6" name="Picture 5" descr="09"/>
          <p:cNvPicPr/>
          <p:nvPr/>
        </p:nvPicPr>
        <p:blipFill>
          <a:blip r:embed="rId2"/>
          <a:stretch/>
        </p:blipFill>
        <p:spPr>
          <a:xfrm>
            <a:off x="285840" y="2928960"/>
            <a:ext cx="4275000" cy="3475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204826693"/>
          <p:cNvPicPr/>
          <p:nvPr/>
        </p:nvPicPr>
        <p:blipFill>
          <a:blip r:embed="rId3"/>
          <a:stretch/>
        </p:blipFill>
        <p:spPr>
          <a:xfrm>
            <a:off x="7000920" y="2143080"/>
            <a:ext cx="2543040" cy="19558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292873046"/>
          <p:cNvPicPr/>
          <p:nvPr/>
        </p:nvPicPr>
        <p:blipFill>
          <a:blip r:embed="rId4"/>
          <a:stretch/>
        </p:blipFill>
        <p:spPr>
          <a:xfrm>
            <a:off x="3500280" y="1357200"/>
            <a:ext cx="2357640" cy="21607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101861208"/>
          <p:cNvPicPr/>
          <p:nvPr/>
        </p:nvPicPr>
        <p:blipFill>
          <a:blip r:embed="rId5"/>
          <a:stretch/>
        </p:blipFill>
        <p:spPr>
          <a:xfrm>
            <a:off x="5508720" y="692280"/>
            <a:ext cx="2454120" cy="172224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4"/>
          <p:cNvSpPr/>
          <p:nvPr/>
        </p:nvSpPr>
        <p:spPr>
          <a:xfrm>
            <a:off x="8207280" y="0"/>
            <a:ext cx="9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2627280" y="3141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-Р-Р-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9"/>
          <p:cNvSpPr/>
          <p:nvPr/>
        </p:nvSpPr>
        <p:spPr>
          <a:xfrm rot="20125200">
            <a:off x="7164720" y="2060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р-р-р-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ree"/>
          <p:cNvSpPr/>
          <p:nvPr/>
        </p:nvSpPr>
        <p:spPr>
          <a:xfrm>
            <a:off x="6012000" y="472428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7164360" y="692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-ру-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3348000" y="981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ум-х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4067280" y="1125360"/>
            <a:ext cx="100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о-х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4"/>
          <p:cNvSpPr/>
          <p:nvPr/>
        </p:nvSpPr>
        <p:spPr>
          <a:xfrm rot="20350200">
            <a:off x="6732720" y="2349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р-мур-м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8" descr=""/>
          <p:cNvPicPr/>
          <p:nvPr/>
        </p:nvPicPr>
        <p:blipFill>
          <a:blip r:embed="rId6"/>
          <a:stretch/>
        </p:blipFill>
        <p:spPr>
          <a:xfrm>
            <a:off x="5003640" y="3860640"/>
            <a:ext cx="1562400" cy="164808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8"/>
          <p:cNvSpPr/>
          <p:nvPr/>
        </p:nvSpPr>
        <p:spPr>
          <a:xfrm rot="20616600">
            <a:off x="5796000" y="429228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-АР-УР-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22222E-006 2.94798E-006 L -0.07864 -0.56833 E">
                                      <p:cBhvr>
                                        <p:cTn id="65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-0.33295 E">
                                      <p:cBhvr>
                                        <p:cTn id="75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22222E-006 2.94798E-006 L 0.01597 -0.62081 E">
                                      <p:cBhvr>
                                        <p:cTn id="85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-0.33295 E">
                                      <p:cBhvr>
                                        <p:cTn id="95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-4.04624E-007 L -1.38889E-006 -0.44231 E">
                                      <p:cBhvr>
                                        <p:cTn id="105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-0.33295 E">
                                      <p:cBhvr>
                                        <p:cTn id="115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22222E-006 2.94798E-006 L -0.02344 -0.59977 E">
                                      <p:cBhvr>
                                        <p:cTn id="125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-0.33295 E">
                                      <p:cBhvr>
                                        <p:cTn id="135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77778E-007 -1.32948E-006 L 0.00799 -0.48439 E">
                                      <p:cBhvr>
                                        <p:cTn id="145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3" descr="g2930"/>
          <p:cNvPicPr/>
          <p:nvPr/>
        </p:nvPicPr>
        <p:blipFill>
          <a:blip r:embed="rId1"/>
          <a:stretch/>
        </p:blipFill>
        <p:spPr>
          <a:xfrm>
            <a:off x="-3060720" y="-1900080"/>
            <a:ext cx="15239880" cy="11430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92" name="Picture 5" descr="краб, анимашка"/>
          <p:cNvPicPr/>
          <p:nvPr/>
        </p:nvPicPr>
        <p:blipFill>
          <a:blip r:embed="rId2"/>
          <a:stretch/>
        </p:blipFill>
        <p:spPr>
          <a:xfrm>
            <a:off x="5429160" y="3357720"/>
            <a:ext cx="2735280" cy="18396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рак, анимашка"/>
          <p:cNvPicPr/>
          <p:nvPr/>
        </p:nvPicPr>
        <p:blipFill>
          <a:blip r:embed="rId3"/>
          <a:stretch/>
        </p:blipFill>
        <p:spPr>
          <a:xfrm>
            <a:off x="1857240" y="3143160"/>
            <a:ext cx="1791000" cy="23097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черепаха, анимашка"/>
          <p:cNvPicPr/>
          <p:nvPr/>
        </p:nvPicPr>
        <p:blipFill>
          <a:blip r:embed="rId4"/>
          <a:stretch/>
        </p:blipFill>
        <p:spPr>
          <a:xfrm>
            <a:off x="8292960" y="5500800"/>
            <a:ext cx="851040" cy="860400"/>
          </a:xfrm>
          <a:prstGeom prst="rect">
            <a:avLst/>
          </a:prstGeom>
          <a:ln w="0">
            <a:noFill/>
          </a:ln>
        </p:spPr>
      </p:pic>
      <p:sp>
        <p:nvSpPr>
          <p:cNvPr id="395" name="Овал 6"/>
          <p:cNvSpPr/>
          <p:nvPr/>
        </p:nvSpPr>
        <p:spPr>
          <a:xfrm>
            <a:off x="2500200" y="2500200"/>
            <a:ext cx="857520" cy="785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9"/>
          <p:cNvSpPr/>
          <p:nvPr/>
        </p:nvSpPr>
        <p:spPr>
          <a:xfrm>
            <a:off x="3071880" y="1857240"/>
            <a:ext cx="785880" cy="785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Овал 10"/>
          <p:cNvSpPr/>
          <p:nvPr/>
        </p:nvSpPr>
        <p:spPr>
          <a:xfrm>
            <a:off x="6858000" y="2857680"/>
            <a:ext cx="785880" cy="78552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Овал 11"/>
          <p:cNvSpPr/>
          <p:nvPr/>
        </p:nvSpPr>
        <p:spPr>
          <a:xfrm>
            <a:off x="6012000" y="2637000"/>
            <a:ext cx="785520" cy="78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Овал 12"/>
          <p:cNvSpPr/>
          <p:nvPr/>
        </p:nvSpPr>
        <p:spPr>
          <a:xfrm>
            <a:off x="7215120" y="2714760"/>
            <a:ext cx="785880" cy="7855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Овал 13"/>
          <p:cNvSpPr/>
          <p:nvPr/>
        </p:nvSpPr>
        <p:spPr>
          <a:xfrm>
            <a:off x="6643800" y="2428920"/>
            <a:ext cx="785880" cy="78588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Овал 14"/>
          <p:cNvSpPr/>
          <p:nvPr/>
        </p:nvSpPr>
        <p:spPr>
          <a:xfrm>
            <a:off x="6500880" y="3000240"/>
            <a:ext cx="785880" cy="785880"/>
          </a:xfrm>
          <a:prstGeom prst="ellipse">
            <a:avLst/>
          </a:prstGeom>
          <a:solidFill>
            <a:srgbClr val="66ffcc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Овал 15"/>
          <p:cNvSpPr/>
          <p:nvPr/>
        </p:nvSpPr>
        <p:spPr>
          <a:xfrm>
            <a:off x="1857240" y="2214720"/>
            <a:ext cx="785880" cy="78552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16"/>
          <p:cNvSpPr/>
          <p:nvPr/>
        </p:nvSpPr>
        <p:spPr>
          <a:xfrm>
            <a:off x="3500280" y="2643120"/>
            <a:ext cx="857520" cy="9288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Овал 17"/>
          <p:cNvSpPr/>
          <p:nvPr/>
        </p:nvSpPr>
        <p:spPr>
          <a:xfrm>
            <a:off x="1428840" y="2714760"/>
            <a:ext cx="785880" cy="7855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Трапеция 18"/>
          <p:cNvSpPr/>
          <p:nvPr/>
        </p:nvSpPr>
        <p:spPr>
          <a:xfrm>
            <a:off x="-285840" y="6286680"/>
            <a:ext cx="9715680" cy="5713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32-конечная звезда 19"/>
          <p:cNvSpPr/>
          <p:nvPr/>
        </p:nvSpPr>
        <p:spPr>
          <a:xfrm>
            <a:off x="-1785960" y="6072120"/>
            <a:ext cx="13001760" cy="1000080"/>
          </a:xfrm>
          <a:custGeom>
            <a:avLst/>
            <a:gdLst>
              <a:gd name="textAreaLeft" fmla="*/ 2968200 w 13001760"/>
              <a:gd name="textAreaRight" fmla="*/ 10033560 w 13001760"/>
              <a:gd name="textAreaTop" fmla="*/ 228240 h 1000080"/>
              <a:gd name="textAreaBottom" fmla="*/ 7718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0"/>
          <p:cNvSpPr/>
          <p:nvPr/>
        </p:nvSpPr>
        <p:spPr>
          <a:xfrm>
            <a:off x="3492360" y="29242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1"/>
          <p:cNvSpPr/>
          <p:nvPr/>
        </p:nvSpPr>
        <p:spPr>
          <a:xfrm>
            <a:off x="644364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2"/>
          <p:cNvSpPr/>
          <p:nvPr/>
        </p:nvSpPr>
        <p:spPr>
          <a:xfrm>
            <a:off x="1857240" y="2428920"/>
            <a:ext cx="8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3"/>
          <p:cNvSpPr/>
          <p:nvPr/>
        </p:nvSpPr>
        <p:spPr>
          <a:xfrm>
            <a:off x="2556000" y="271476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4"/>
          <p:cNvSpPr/>
          <p:nvPr/>
        </p:nvSpPr>
        <p:spPr>
          <a:xfrm>
            <a:off x="3143160" y="207180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25"/>
          <p:cNvSpPr/>
          <p:nvPr/>
        </p:nvSpPr>
        <p:spPr>
          <a:xfrm>
            <a:off x="1428840" y="29289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26"/>
          <p:cNvSpPr/>
          <p:nvPr/>
        </p:nvSpPr>
        <p:spPr>
          <a:xfrm>
            <a:off x="6929280" y="3071880"/>
            <a:ext cx="8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8"/>
          <p:cNvSpPr/>
          <p:nvPr/>
        </p:nvSpPr>
        <p:spPr>
          <a:xfrm>
            <a:off x="6643800" y="2643120"/>
            <a:ext cx="8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9"/>
          <p:cNvSpPr/>
          <p:nvPr/>
        </p:nvSpPr>
        <p:spPr>
          <a:xfrm>
            <a:off x="7286760" y="2928960"/>
            <a:ext cx="8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9" descr="черепаха, анимашка"/>
          <p:cNvPicPr/>
          <p:nvPr/>
        </p:nvPicPr>
        <p:blipFill>
          <a:blip r:embed="rId7"/>
          <a:stretch/>
        </p:blipFill>
        <p:spPr>
          <a:xfrm flipH="1">
            <a:off x="214200" y="6000840"/>
            <a:ext cx="851040" cy="56196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4"/>
          <p:cNvSpPr/>
          <p:nvPr/>
        </p:nvSpPr>
        <p:spPr>
          <a:xfrm>
            <a:off x="0" y="6491160"/>
            <a:ext cx="9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1"/>
          <p:cNvSpPr/>
          <p:nvPr/>
        </p:nvSpPr>
        <p:spPr>
          <a:xfrm>
            <a:off x="6012000" y="28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C 0.00243 -0.02939 0.000869999999999999 -0.02199 0.01944 -0.02546 C 0.02274 -0.0287 0.02743 -0.03032 0.02916 -0.03564 C 0.03194 -0.04513 0.03437 -0.05463 0.03715 -0.06365 C 0.03663 -0.07708 0.0375 -0.09097 0.03559 -0.10393 C 0.03524 -0.10671 0.03229 -0.10532 0.03073 -0.10648 C 0.01857 -0.11458 0.03003 -0.10949 0.01788 -0.11412 C 0.01163 -0.1206 0.00573 -0.12314 -0.00157 -0.12685 C -0.00313 -0.12754 -0.00643 -0.12939 -0.00643 -0.12916 C -0.01302 -0.13634 -0.01979 -0.13796 -0.02726 -0.14213 C -0.02882 -0.14467 -0.03091 -0.14652 -0.03212 -0.14953 C -0.03525 -0.15671 -0.03351 -0.15949 -0.03212 -0.16736 C -0.02917 -0.18287 -0.01719 -0.18657 -0.00799 -0.19004 C -0.00452 -0.19838 -0.00035 -0.20231 0.0033 -0.21018 C 0.0085 -0.23564 0.00885 -0.23472 0.0033 -0.28148 C 0.00295 -0.28472 -0.00104 -0.28287 -0.00313 -0.28379 C -0.01927 -0.29097 0.00555 -0.28125 -0.01441 -0.28865 C -0.01997 -0.29305 -0.02466 -0.29861 -0.03056 -0.30162 C -0.0316 -0.30393 -0.03299 -0.30625 -0.03386 -0.30902 C -0.03525 -0.31412 -0.03698 -0.32407 -0.03698 -0.32384 C -0.03577 -0.35046 -0.03907 -0.35717 -0.02726 -0.3699 C -0.01719 -0.41782 -0.02413 -0.37963 -0.02413 -0.48842 E">
                                      <p:cBhvr>
                                        <p:cTn id="176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51 -0.0037 -0.00625 -0.00486 -0.00972 -0.01065 C -0.01215 -0.01482 -0.01614 -0.02361 -0.01614 -0.02361 C -0.01545 -0.03449 -0.01805 -0.04722 -0.01302 -0.05579 C -0.01007 -0.06065 -0.00173 -0.06296 0.00156 -0.06435 C 0.01736 -0.07107 0.0349 -0.06597 0.05156 -0.06667 C 0.05313 -0.06736 0.05521 -0.06713 0.05643 -0.06875 C 0.0592 -0.07245 0.06285 -0.08171 0.06285 -0.08171 C 0.06563 -0.09329 0.0691 -0.10023 0.06441 -0.11389 C 0.06337 -0.1169 0.06025 -0.1169 0.05799 -0.11829 C 0.04445 -0.12639 0.03281 -0.12755 0.01771 -0.12894 C 0.01198 -0.13009 0.0033 -0.13125 -0.00173 -0.13542 C -0.00434 -0.1375 -0.00677 -0.14051 -0.00972 -0.1419 C -0.01389 -0.14398 -0.02257 -0.14607 -0.02257 -0.14607 C -0.02882 -0.15162 -0.03594 -0.15162 -0.04201 -0.15695 C -0.04826 -0.16227 -0.04514 -0.16019 -0.05173 -0.16343 C -0.05521 -0.17315 -0.06024 -0.18125 -0.06302 -0.1912 C -0.05503 -0.23125 -0.01041 -0.2206 0.01129 -0.22153 C 0.02552 -0.22755 0.03837 -0.23681 0.05313 -0.24074 C 0.05469 -0.24282 0.05608 -0.2456 0.05799 -0.24722 C 0.06476 -0.25324 0.06198 -0.24375 0.06771 -0.25579 C 0.07031 -0.26134 0.07413 -0.27315 0.07413 -0.27315 C 0.07188 -0.31505 0.07882 -0.29861 0.05799 -0.30741 C 0.04306 -0.32083 0.02396 -0.32454 0.00643 -0.32685 C -0.00833 -0.33171 -0.02257 -0.33449 -0.03715 -0.33982 C -0.04757 -0.34861 -0.03559 -0.33958 -0.05 -0.34607 C -0.07326 -0.35648 -0.04028 -0.34537 -0.06302 -0.35255 C -0.07066 -0.3588 -0.07725 -0.36111 -0.08559 -0.36551 C -0.09288 -0.38032 -0.0908 -0.37361 -0.09357 -0.38495 C -0.06823 -0.41759 0.03229 -0.40417 0.03542 -0.40417 C 0.04115 -0.40903 0.0467 -0.40972 0.05313 -0.4125 C 0.05747 -0.42153 0.06615 -0.43148 0.05313 -0.43657 C 0.05104 -0.4375 0.04879 -0.43796 0.0467 -0.43866 C 0.04167 -0.44282 0.03507 -0.44722 0.029 -0.44722 E">
                                      <p:cBhvr>
                                        <p:cTn id="191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77 -0.00069 -0.00555 -0.00116 -0.00816 -0.00208 C -0.01146 -0.00324 -0.01788 -0.00648 -0.01788 -0.00648 C -0.02343 -0.02986 -0.00555 -0.03125 0.00643 -0.03657 C 0.0092 -0.03773 0.01146 -0.04051 0.01441 -0.04097 C 0.02934 -0.04282 0.04445 -0.04236 0.05955 -0.04306 C 0.06129 -0.04653 0.06441 -0.05139 0.06441 -0.05602 C 0.06441 -0.06667 0.06476 -0.07778 0.06285 -0.08819 C 0.06216 -0.09236 0.04479 -0.09745 0.04184 -0.09884 C 0.02101 -0.1081 0.03698 -0.10301 -0.00173 -0.10532 C -0.01215 -0.11042 -0.01996 -0.11644 -0.02916 -0.12477 C -0.03021 -0.12917 -0.03125 -0.13333 -0.03229 -0.13773 C -0.03975 -0.16875 -0.00677 -0.18194 0.00955 -0.18495 C 0.01441 -0.18588 0.01927 -0.18611 0.02413 -0.18704 C 0.02952 -0.18819 0.0349 -0.19051 0.04028 -0.19144 C 0.0467 -0.19259 0.05313 -0.19282 0.05955 -0.19352 C 0.075 -0.2088 0.08924 -0.20394 0.10157 -0.22801 C 0.10469 -0.24074 0.10851 -0.25509 0.0967 -0.26019 C 0.08959 -0.26968 0.07726 -0.27407 0.06771 -0.27731 C 0.05712 -0.28102 0.04775 -0.28889 0.03698 -0.29236 C 0.02795 -0.30046 0.0165 -0.30185 0.00643 -0.30764 C -0.00139 -0.31227 -0.01093 -0.31597 -0.01788 -0.32269 C -0.01962 -0.32431 -0.02083 -0.32708 -0.02257 -0.32894 C -0.02413 -0.33056 -0.02587 -0.33194 -0.02743 -0.33333 C -0.0276 -0.33403 -0.03073 -0.34537 -0.03073 -0.3463 C -0.03073 -0.35556 -0.01875 -0.3669 -0.01302 -0.36991 C 0.00504 -0.37917 0.02396 -0.38542 0.04184 -0.3956 C 0.05521 -0.40324 0.06962 -0.41042 0.08386 -0.41505 C 0.09306 -0.4213 0.10261 -0.42477 0.11129 -0.43218 C 0.1165 -0.44306 0.11771 -0.44861 0.10955 -0.4581 C 0.10452 -0.46366 0.10469 -0.46204 0.09827 -0.46458 C 0.09514 -0.46597 0.08872 -0.46875 0.08872 -0.46875 C 0.08316 -0.47384 0.07743 -0.47824 0.07743 -0.48819 E">
                                      <p:cBhvr>
                                        <p:cTn id="206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4.07407E-006 C -0.02951 -0.05324 -0.06198 -0.10556 -0.05521 -0.14144 C -0.04844 -0.17686 0.03542 -0.17755 0.04323 -0.21389 C 0.05104 -0.25024 0.02014 -0.32153 -0.00833 -0.35996 C -0.03681 -0.39862 -0.13576 -0.42477 -0.12778 -0.44514 C -0.11979 -0.46505 0.0151 -0.46227 0.0401 -0.48125 C 0.0651 -0.50047 0.02621 -0.54769 0.02222 -0.56158 E">
                                      <p:cBhvr>
                                        <p:cTn id="221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301 -0.01232 -0.00764 -0.01927 -0.01065 C -0.02083 -0.01204 -0.02292 -0.01297 -0.02413 -0.01505 C -0.02708 -0.02014 -0.02569 -0.02385 -0.02257 -0.02778 C -0.01632 -0.03588 -0.00642 -0.04005 0.00174 -0.04306 C 0.01129 -0.05116 0.00139 -0.04398 0.01458 -0.04931 C 0.01893 -0.05116 0.02292 -0.05417 0.02743 -0.05579 C 0.02969 -0.05648 0.03177 -0.05741 0.03403 -0.05811 C 0.04097 -0.06412 0.04375 -0.06111 0.04844 -0.07084 C 0.04636 -0.08195 0.04323 -0.08311 0.03559 -0.0882 C 0.02639 -0.09422 0.01563 -0.09491 0.0066 -0.10093 C 0.00035 -0.1051 -0.00469 -0.10672 -0.01128 -0.10973 C -0.0184 -0.11297 -0.02326 -0.11806 -0.03055 -0.12037 C -0.03107 -0.1213 -0.03663 -0.13079 -0.03542 -0.13334 C -0.03385 -0.13658 -0.02482 -0.13866 -0.02257 -0.13982 C -0.00729 -0.14746 0.00868 -0.15232 0.02431 -0.15903 C 0.02726 -0.16297 0.0316 -0.16528 0.03403 -0.16991 C 0.03681 -0.17523 0.04045 -0.18704 0.04045 -0.18704 C 0.03993 -0.19352 0.04045 -0.20023 0.03872 -0.20648 C 0.03802 -0.2088 0.03577 -0.20949 0.03403 -0.21065 C 0.02778 -0.21482 0.02118 -0.21713 0.01458 -0.21922 C 0.00538 -0.22547 -0.00434 -0.22894 -0.01441 -0.23218 C -0.02014 -0.23727 -0.02569 -0.23797 -0.03212 -0.24074 C -0.03767 -0.24584 -0.03976 -0.24954 -0.04184 -0.25811 C -0.00382 -0.30093 0.04219 -0.28704 0.09202 -0.29028 C 0.0974 -0.29236 0.1033 -0.29306 0.10816 -0.29699 C 0.11077 -0.29885 0.10972 -0.30764 0.10816 -0.30973 C 0.10174 -0.31829 0.09931 -0.31806 0.09202 -0.32037 C 0.08351 -0.32732 0.08004 -0.32616 0.07257 -0.33102 C 0.05833 -0.34051 0.07118 -0.33565 0.0566 -0.33982 C 0.0441 -0.35047 0.02899 -0.35625 0.01458 -0.36111 C 0.00434 -0.36806 -0.00382 -0.3713 -0.01441 -0.37639 C -0.01719 -0.38172 -0.02031 -0.38403 -0.01597 -0.39144 C -0.01493 -0.39306 -0.01285 -0.3926 -0.01128 -0.39352 C 0.00365 -0.40324 -0.02101 -0.39121 0.0033 -0.40209 C 0.00486 -0.40278 0.00816 -0.40417 0.00816 -0.40417 C 0.00972 -0.40556 0.01129 -0.40741 0.01302 -0.40857 C 0.01615 -0.41042 0.02257 -0.41273 0.02257 -0.41273 E">
                                      <p:cBhvr>
                                        <p:cTn id="240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99 -0.00416 -0.01267 -0.01018 -0.00799 -0.02569 C -0.0059 -0.03287 0.00833 -0.0331 0.01285 -0.03449 C 0.02292 -0.04328 0.03819 -0.04861 0.05 -0.0537 C 0.05295 -0.05764 0.05642 -0.06018 0.05642 -0.06666 C 0.05642 -0.07731 0.05712 -0.08842 0.05486 -0.09884 C 0.05451 -0.10023 0.04531 -0.10509 0.04358 -0.10532 C 0.02899 -0.10648 0.01458 -0.10671 0 -0.1074 C 0.02517 -0.13009 0.05104 -0.12523 0.08073 -0.12685 C 0.08455 -0.14259 0.0776 -0.14282 0.06771 -0.14629 C 0.04635 -0.16481 0.00399 -0.16643 -0.01927 -0.17014 C -0.02517 -0.17384 -0.03125 -0.17685 -0.03715 -0.18055 C -0.04427 -0.19027 -0.04653 -0.21597 -0.03229 -0.21713 C 0.00312 -0.2199 0.03871 -0.21875 0.07413 -0.21944 C 0.08073 -0.22523 0.08333 -0.23171 0.07899 -0.24305 C 0.07674 -0.24861 0.06354 -0.25277 0.05972 -0.25393 C 0.04948 -0.26088 0.03976 -0.26435 0.02899 -0.26875 C 0.01406 -0.27477 0.00069 -0.28541 -0.01458 -0.29027 C -0.01979 -0.29514 -0.02465 -0.29629 -0.03056 -0.29884 C -0.0316 -0.30092 -0.03299 -0.30301 -0.03385 -0.30532 C -0.03524 -0.30949 -0.03715 -0.31828 -0.03715 -0.31828 C -0.03611 -0.32338 -0.03559 -0.3287 -0.03385 -0.33333 C -0.02899 -0.34606 -0.01285 -0.34514 -0.00486 -0.34629 C 0.00434 -0.3493 0.01337 -0.35254 0.02257 -0.35486 C 0.03073 -0.36041 0.03854 -0.36643 0.0467 -0.37199 E">
                                      <p:cBhvr>
                                        <p:cTn id="255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2 -0.02639 0.00347 -0.05394 -0.00156 -0.0794 C -0.00278 -0.08565 -0.01146 -0.07917 -0.01597 -0.08171 C -0.01805 -0.0831 -0.01163 -0.0831 -0.00955 -0.0838 C -0.00521 -0.08542 -0.00226 -0.08681 0.00174 -0.09028 C 0.01094 -0.09838 0.01979 -0.10579 0.02743 -0.11597 C 0.03177 -0.13264 0.0316 -0.14051 0.02101 -0.15278 C 0.01893 -0.15486 0.01684 -0.15718 0.01458 -0.15903 C 0.01146 -0.16204 0.00486 -0.16759 0.00486 -0.16759 C -0.00017 -0.17801 -0.00486 -0.18218 -0.01285 -0.18912 C -0.01441 -0.19051 -0.01771 -0.19352 -0.01771 -0.19352 C -0.01476 -0.20509 -0.00955 -0.2037 -0.00156 -0.20671 C 0.0059 -0.21389 0.01233 -0.21528 0.02101 -0.21921 C 0.02622 -0.22153 0.03038 -0.22546 0.03559 -0.22778 C 0.03663 -0.23218 0.03768 -0.23634 0.03872 -0.24074 C 0.03924 -0.24282 0.04045 -0.24722 0.04045 -0.24722 C 0.04011 -0.25347 0.04184 -0.28357 0.03403 -0.29236 C 0.0283 -0.29907 0.02066 -0.30509 0.01458 -0.31204 C 0.01042 -0.3162 0 -0.3206 0 -0.3206 C -0.00156 -0.32176 -0.00347 -0.32292 -0.00469 -0.32477 C -0.00729 -0.3287 -0.01128 -0.3375 -0.01128 -0.3375 C -0.01076 -0.34398 -0.01146 -0.35093 -0.00955 -0.35694 C -0.00885 -0.35926 -0.00625 -0.3581 -0.00469 -0.35926 C 0.00504 -0.36458 0.01389 -0.36944 0.02431 -0.37199 C 0.03663 -0.38449 0.05052 -0.38056 0.06302 -0.39144 C 0.06458 -0.39306 0.06615 -0.39444 0.06788 -0.3956 C 0.07101 -0.39769 0.07743 -0.4 0.07743 -0.4 C 0.07899 -0.40278 0.08038 -0.40602 0.08229 -0.40857 C 0.08368 -0.41042 0.08681 -0.41042 0.08715 -0.41273 C 0.08837 -0.42384 0.08611 -0.44676 0.08073 -0.4581 C 0.07847 -0.46296 0.07205 -0.47269 0.06788 -0.47523 C 0.06476 -0.47708 0.05816 -0.4794 0.05816 -0.4794 C 0.0474 -0.48912 0.0309 -0.49468 0.01788 -0.49884 C 0.00903 -0.50694 0.01493 -0.50324 -0.00156 -0.50324 E">
                                      <p:cBhvr>
                                        <p:cTn id="274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0.00608 -0.52014 E">
                                      <p:cBhvr>
                                        <p:cTn id="293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0.00573 -0.54074 E">
                                      <p:cBhvr>
                                        <p:cTn id="31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46 -0.05 L 0.18646 -0.54074 E">
                                      <p:cBhvr>
                                        <p:cTn id="331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17188 -0.47894 E">
                                      <p:cBhvr>
                                        <p:cTn id="333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20" name="Picture 13" descr=""/>
          <p:cNvPicPr/>
          <p:nvPr/>
        </p:nvPicPr>
        <p:blipFill>
          <a:blip r:embed="rId1"/>
          <a:stretch/>
        </p:blipFill>
        <p:spPr>
          <a:xfrm>
            <a:off x="0" y="2421000"/>
            <a:ext cx="3008160" cy="3581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"/>
          <p:cNvPicPr/>
          <p:nvPr/>
        </p:nvPicPr>
        <p:blipFill>
          <a:blip r:embed="rId2"/>
          <a:stretch/>
        </p:blipFill>
        <p:spPr>
          <a:xfrm>
            <a:off x="5397480" y="3068640"/>
            <a:ext cx="3746520" cy="3789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3"/>
          <a:stretch/>
        </p:blipFill>
        <p:spPr>
          <a:xfrm>
            <a:off x="3419640" y="620640"/>
            <a:ext cx="4294080" cy="452916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7"/>
          <p:cNvSpPr/>
          <p:nvPr/>
        </p:nvSpPr>
        <p:spPr>
          <a:xfrm>
            <a:off x="1692360" y="2276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РРР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8"/>
          <p:cNvSpPr/>
          <p:nvPr/>
        </p:nvSpPr>
        <p:spPr>
          <a:xfrm rot="20457000">
            <a:off x="5162400" y="1352160"/>
            <a:ext cx="19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РРРР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1763640" y="2060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РРРР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1"/>
          <p:cNvSpPr/>
          <p:nvPr/>
        </p:nvSpPr>
        <p:spPr>
          <a:xfrm rot="21363000">
            <a:off x="5726160" y="2981160"/>
            <a:ext cx="19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РРР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2"/>
          <p:cNvSpPr/>
          <p:nvPr/>
        </p:nvSpPr>
        <p:spPr>
          <a:xfrm rot="1395600">
            <a:off x="7453080" y="3715920"/>
            <a:ext cx="16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РРР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3"/>
          <p:cNvSpPr/>
          <p:nvPr/>
        </p:nvSpPr>
        <p:spPr>
          <a:xfrm rot="968400">
            <a:off x="7221240" y="3499920"/>
            <a:ext cx="19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РРРР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4"/>
          <p:cNvSpPr/>
          <p:nvPr/>
        </p:nvSpPr>
        <p:spPr>
          <a:xfrm rot="20434800">
            <a:off x="5435640" y="1483920"/>
            <a:ext cx="19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РРР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5"/>
          <p:cNvSpPr/>
          <p:nvPr/>
        </p:nvSpPr>
        <p:spPr>
          <a:xfrm rot="20272200">
            <a:off x="5651640" y="2421000"/>
            <a:ext cx="16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РРР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6"/>
          <p:cNvSpPr/>
          <p:nvPr/>
        </p:nvSpPr>
        <p:spPr>
          <a:xfrm rot="20954400">
            <a:off x="1763640" y="1915920"/>
            <a:ext cx="16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РРР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7"/>
          <p:cNvSpPr/>
          <p:nvPr/>
        </p:nvSpPr>
        <p:spPr>
          <a:xfrm rot="1237800">
            <a:off x="7342920" y="3357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РРР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8"/>
          <p:cNvSpPr/>
          <p:nvPr/>
        </p:nvSpPr>
        <p:spPr>
          <a:xfrm rot="20457000">
            <a:off x="1476360" y="2133360"/>
            <a:ext cx="19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РРРР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9"/>
          <p:cNvSpPr/>
          <p:nvPr/>
        </p:nvSpPr>
        <p:spPr>
          <a:xfrm rot="20457000">
            <a:off x="5867280" y="2636640"/>
            <a:ext cx="19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РРРР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0"/>
          <p:cNvSpPr/>
          <p:nvPr/>
        </p:nvSpPr>
        <p:spPr>
          <a:xfrm rot="20272200">
            <a:off x="5292720" y="1268280"/>
            <a:ext cx="16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РРР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 rot="20268000">
            <a:off x="6156360" y="2349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РРР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 rot="20434800">
            <a:off x="7451640" y="3141360"/>
            <a:ext cx="19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РРР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30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6" dur="3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3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8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9" dur="3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3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3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8" dur="3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3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3" dur="3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8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6" descr="http://animashky.ru/flist/objiv/9/2.gif"/>
          <p:cNvPicPr/>
          <p:nvPr/>
        </p:nvPicPr>
        <p:blipFill>
          <a:blip r:embed="rId1"/>
          <a:stretch/>
        </p:blipFill>
        <p:spPr>
          <a:xfrm rot="526800">
            <a:off x="2340000" y="1268280"/>
            <a:ext cx="3610080" cy="1371600"/>
          </a:xfrm>
          <a:prstGeom prst="rect">
            <a:avLst/>
          </a:prstGeom>
          <a:ln w="0">
            <a:noFill/>
          </a:ln>
        </p:spPr>
      </p:pic>
      <p:pic>
        <p:nvPicPr>
          <p:cNvPr id="439" name="Куб 4" descr=""/>
          <p:cNvPicPr/>
          <p:nvPr/>
        </p:nvPicPr>
        <p:blipFill>
          <a:blip r:embed="rId2"/>
          <a:stretch/>
        </p:blipFill>
        <p:spPr>
          <a:xfrm>
            <a:off x="2846520" y="3322800"/>
            <a:ext cx="3700440" cy="3303360"/>
          </a:xfrm>
          <a:prstGeom prst="rect">
            <a:avLst/>
          </a:prstGeom>
          <a:ln w="0">
            <a:noFill/>
          </a:ln>
        </p:spPr>
      </p:pic>
      <p:pic>
        <p:nvPicPr>
          <p:cNvPr id="440" name="Трапеция 5" descr=""/>
          <p:cNvPicPr/>
          <p:nvPr/>
        </p:nvPicPr>
        <p:blipFill>
          <a:blip r:embed="rId3"/>
          <a:stretch/>
        </p:blipFill>
        <p:spPr>
          <a:xfrm>
            <a:off x="2992320" y="2419200"/>
            <a:ext cx="3073680" cy="22258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7"/>
          <p:cNvSpPr/>
          <p:nvPr/>
        </p:nvSpPr>
        <p:spPr>
          <a:xfrm>
            <a:off x="3059280" y="14842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9" descr="http://animashky.ru/flist/objiv/261/110.gif"/>
          <p:cNvPicPr/>
          <p:nvPr/>
        </p:nvPicPr>
        <p:blipFill>
          <a:blip r:embed="rId4"/>
          <a:stretch/>
        </p:blipFill>
        <p:spPr>
          <a:xfrm>
            <a:off x="0" y="836640"/>
            <a:ext cx="2039760" cy="164304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4"/>
          <p:cNvSpPr/>
          <p:nvPr/>
        </p:nvSpPr>
        <p:spPr>
          <a:xfrm>
            <a:off x="0" y="6491160"/>
            <a:ext cx="9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56000" y="1484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Здравству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2268360" y="1484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Я – Дракоша, кто 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2340000" y="14130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Давайте друж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3"/>
          <p:cNvSpPr/>
          <p:nvPr/>
        </p:nvSpPr>
        <p:spPr>
          <a:xfrm>
            <a:off x="1979640" y="1484280"/>
            <a:ext cx="691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ы мирные дроиды, с планеты Дро-ру-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4"/>
          <p:cNvSpPr/>
          <p:nvPr/>
        </p:nvSpPr>
        <p:spPr>
          <a:xfrm>
            <a:off x="1979640" y="148428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ы дрейфуем в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5"/>
          <p:cNvSpPr/>
          <p:nvPr/>
        </p:nvSpPr>
        <p:spPr>
          <a:xfrm>
            <a:off x="2195640" y="1557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сим пропуск на другой кораб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6"/>
          <p:cNvSpPr/>
          <p:nvPr/>
        </p:nvSpPr>
        <p:spPr>
          <a:xfrm>
            <a:off x="1979640" y="141300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Здравствуйте друз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1908000" y="141300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удем рады подружиться, друг – это здорово! У нас вокруг друз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2556000" y="1557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д встреч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48148E-006 C -0.0132 -0.07593 -0.02622 -0.15093 -0.0717 -0.18148 C -0.11719 -0.21181 -0.19688 -0.19908 -0.2757 -0.18565 E">
                                      <p:cBhvr>
                                        <p:cTn id="543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1.48148E-006 C 0.00052 -0.03634 0.00261 -0.07176 -0.01545 -0.10371 C -0.03333 -0.13519 -0.09236 -0.17662 -0.10764 -0.19074 E">
                                      <p:cBhvr>
                                        <p:cTn id="553" dur="2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2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4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5" dur="10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500"/>
                            </p:stCondLst>
                            <p:childTnLst>
                              <p:par>
                                <p:cTn id="586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-3.7037E-007 C 0.00174 -0.05509 0.00365 -0.10972 0.02361 -0.14051 C 0.04341 -0.17176 0.10261 -0.17893 0.11858 -0.18634 E">
                                      <p:cBhvr>
                                        <p:cTn id="587" dur="2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3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3400"/>
                            </p:stCondLst>
                            <p:childTnLst>
                              <p:par>
                                <p:cTn id="60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3923 0.01042 C -0.02118 -0.03102 -0.00312 -0.07222 0.02778 -0.08958 C 0.05886 -0.10671 0.11979 -0.09329 0.1467 -0.09468 C 0.17361 -0.09607 0.18125 -0.09676 0.18924 -0.09746 E">
                                      <p:cBhvr>
                                        <p:cTn id="603" dur="2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9" dur="1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72" dur="10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3" descr="http://animashky.ru/flist/objiv/11/17.gif"/>
          <p:cNvPicPr/>
          <p:nvPr/>
        </p:nvPicPr>
        <p:blipFill>
          <a:blip r:embed="rId1"/>
          <a:stretch/>
        </p:blipFill>
        <p:spPr>
          <a:xfrm rot="1183200">
            <a:off x="394920" y="1844640"/>
            <a:ext cx="2190600" cy="2190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9" descr="http://animashky.ru/flist/objiv/11/92.gif"/>
          <p:cNvPicPr/>
          <p:nvPr/>
        </p:nvPicPr>
        <p:blipFill>
          <a:blip r:embed="rId2"/>
          <a:stretch/>
        </p:blipFill>
        <p:spPr>
          <a:xfrm>
            <a:off x="1476360" y="4724280"/>
            <a:ext cx="5722920" cy="15336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http://animashky.ru/flist/objiv/33/55.gif"/>
          <p:cNvPicPr/>
          <p:nvPr/>
        </p:nvPicPr>
        <p:blipFill>
          <a:blip r:embed="rId3"/>
          <a:stretch/>
        </p:blipFill>
        <p:spPr>
          <a:xfrm>
            <a:off x="4788000" y="4221000"/>
            <a:ext cx="3816360" cy="194796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4"/>
          <p:cNvSpPr/>
          <p:nvPr/>
        </p:nvSpPr>
        <p:spPr>
          <a:xfrm>
            <a:off x="0" y="6491160"/>
            <a:ext cx="9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WordArt 6"/>
          <p:cNvSpPr txBox="1"/>
          <p:nvPr/>
        </p:nvSpPr>
        <p:spPr>
          <a:xfrm rot="20461200">
            <a:off x="2843280" y="836640"/>
            <a:ext cx="323856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22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-Р-рррррр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22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8" name="WordArt 7"/>
          <p:cNvSpPr txBox="1"/>
          <p:nvPr/>
        </p:nvSpPr>
        <p:spPr>
          <a:xfrm rot="20442000">
            <a:off x="5435640" y="2781000"/>
            <a:ext cx="309708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РО-ХРО,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РОРОШО!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16360" y="1268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ы грррязнул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"/>
          <p:cNvSpPr/>
          <p:nvPr/>
        </p:nvSpPr>
        <p:spPr>
          <a:xfrm>
            <a:off x="5364000" y="350028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т, ХРУ-ХРУ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1"/>
          <p:cNvSpPr/>
          <p:nvPr/>
        </p:nvSpPr>
        <p:spPr>
          <a:xfrm>
            <a:off x="4211640" y="3284640"/>
            <a:ext cx="453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азрою рылом гряд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удет всё в поряд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2"/>
          <p:cNvSpPr/>
          <p:nvPr/>
        </p:nvSpPr>
        <p:spPr>
          <a:xfrm>
            <a:off x="2268360" y="836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азве грязь пройти нельз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3995640" y="3645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т! На то я и свинь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8" dur="10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2" dur="10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4" dur="1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37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50" dur="1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2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3" descr="анимашка, анимация, собака-клоун держит в зубах шляпу"/>
          <p:cNvPicPr/>
          <p:nvPr/>
        </p:nvPicPr>
        <p:blipFill>
          <a:blip r:embed="rId1"/>
          <a:stretch/>
        </p:blipFill>
        <p:spPr>
          <a:xfrm>
            <a:off x="1571760" y="3000240"/>
            <a:ext cx="2357280" cy="337680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mbria"/>
              </a:rPr>
              <a:t>Сосчитай, сколько голов поймает  шляпой и отобьёт Шарик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66" name="Picture 11" descr="бегущая собака, анимашка"/>
          <p:cNvPicPr/>
          <p:nvPr/>
        </p:nvPicPr>
        <p:blipFill>
          <a:blip r:embed="rId2"/>
          <a:stretch/>
        </p:blipFill>
        <p:spPr>
          <a:xfrm rot="2663400">
            <a:off x="5148000" y="4797000"/>
            <a:ext cx="1604880" cy="15400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7" descr="доберман катает мяч, анимашка, анимация"/>
          <p:cNvPicPr/>
          <p:nvPr/>
        </p:nvPicPr>
        <p:blipFill>
          <a:blip r:embed="rId3"/>
          <a:stretch/>
        </p:blipFill>
        <p:spPr>
          <a:xfrm>
            <a:off x="3429000" y="571680"/>
            <a:ext cx="3405240" cy="39290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"/>
          <p:cNvPicPr/>
          <p:nvPr/>
        </p:nvPicPr>
        <p:blipFill>
          <a:blip r:embed="rId4"/>
          <a:stretch/>
        </p:blipFill>
        <p:spPr>
          <a:xfrm>
            <a:off x="8910720" y="328464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4"/>
          <p:cNvSpPr/>
          <p:nvPr/>
        </p:nvSpPr>
        <p:spPr>
          <a:xfrm>
            <a:off x="0" y="6491160"/>
            <a:ext cx="9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7380360" y="3132000"/>
            <a:ext cx="2232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 ш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 ш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 ш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 ш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 ш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6 ш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5"/>
          <a:stretch/>
        </p:blipFill>
        <p:spPr>
          <a:xfrm>
            <a:off x="9026640" y="39337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" descr=""/>
          <p:cNvPicPr/>
          <p:nvPr/>
        </p:nvPicPr>
        <p:blipFill>
          <a:blip r:embed="rId6"/>
          <a:stretch/>
        </p:blipFill>
        <p:spPr>
          <a:xfrm>
            <a:off x="9026640" y="458136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7"/>
          <a:stretch/>
        </p:blipFill>
        <p:spPr>
          <a:xfrm>
            <a:off x="9026640" y="5300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"/>
          <p:cNvPicPr/>
          <p:nvPr/>
        </p:nvPicPr>
        <p:blipFill>
          <a:blip r:embed="rId8"/>
          <a:stretch/>
        </p:blipFill>
        <p:spPr>
          <a:xfrm>
            <a:off x="9026640" y="59500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" descr=""/>
          <p:cNvPicPr/>
          <p:nvPr/>
        </p:nvPicPr>
        <p:blipFill>
          <a:blip r:embed="rId9"/>
          <a:stretch/>
        </p:blipFill>
        <p:spPr>
          <a:xfrm>
            <a:off x="9026640" y="6624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300"/>
                            </p:stCondLst>
                            <p:childTnLst>
                              <p:par>
                                <p:cTn id="7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8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400"/>
                            </p:stCondLst>
                            <p:childTnLst>
                              <p:par>
                                <p:cTn id="7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8" dur="1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400"/>
                            </p:stCondLst>
                            <p:childTnLst>
                              <p:par>
                                <p:cTn id="7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8" dur="1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400"/>
                            </p:stCondLst>
                            <p:childTnLst>
                              <p:par>
                                <p:cTn id="8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8" dur="1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500"/>
                            </p:stCondLst>
                            <p:childTnLst>
                              <p:par>
                                <p:cTn id="8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8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8" dur="1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14:24Z</dcterms:created>
  <dc:creator>nach</dc:creator>
  <dc:description/>
  <dc:language>en-US</dc:language>
  <cp:lastModifiedBy>Саня</cp:lastModifiedBy>
  <dcterms:modified xsi:type="dcterms:W3CDTF">2011-11-17T12:55:51Z</dcterms:modified>
  <cp:revision>139</cp:revision>
  <dc:subject/>
  <dc:title>Нарисуй путь рыбки,поизнося слоги: ста, сто,сту,сты</dc:title>
</cp:coreProperties>
</file>