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33.gif" ContentType="image/gif"/>
  <Override PartName="/ppt/media/image23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9.gif" ContentType="image/gif"/>
  <Override PartName="/ppt/media/image9.png" ContentType="image/png"/>
  <Override PartName="/ppt/media/image29.gif" ContentType="image/gif"/>
  <Override PartName="/ppt/media/image10.jpeg" ContentType="image/jpeg"/>
  <Override PartName="/ppt/media/image11.gif" ContentType="image/gif"/>
  <Override PartName="/ppt/media/image8.gif" ContentType="image/gif"/>
  <Override PartName="/ppt/media/image36.png" ContentType="image/png"/>
  <Override PartName="/ppt/media/image3.jpeg" ContentType="image/jpeg"/>
  <Override PartName="/ppt/media/image12.gif" ContentType="image/gif"/>
  <Override PartName="/ppt/media/image30.gif" ContentType="image/gif"/>
  <Override PartName="/ppt/media/image5.gif" ContentType="image/gif"/>
  <Override PartName="/ppt/media/image28.gif" ContentType="image/gif"/>
  <Override PartName="/ppt/media/image35.png" ContentType="image/png"/>
  <Override PartName="/ppt/media/image2.gif" ContentType="image/gif"/>
  <Override PartName="/ppt/media/image32.gif" ContentType="image/gif"/>
  <Override PartName="/ppt/media/image7.png" ContentType="image/png"/>
  <Override PartName="/ppt/media/image34.jpeg" ContentType="image/jpeg"/>
  <Override PartName="/ppt/media/image15.gif" ContentType="image/gif"/>
  <Override PartName="/ppt/media/image13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4.gif" ContentType="image/gif"/>
  <Override PartName="/ppt/media/image27.png" ContentType="image/png"/>
  <Override PartName="/ppt/media/image14.gif" ContentType="image/gif"/>
  <Override PartName="/ppt/media/image16.jpeg" ContentType="image/jpe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EDEF-2CB4-4717-8BD6-77A41C5219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F6E5-063C-4BCE-8644-7131D5992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-ш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C44-4E0E-49A8-B457-ECBACD94D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D27-9CD2-4F36-BDF1-49FD77C4D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 и краб весело танцуют И ПУСКАЮТ РАЗНОЦВЕТНЫЕ ПУЗЫРЬ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B4B-00D0-4F3A-8013-2005B5FD8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63A1-3A57-4A3E-8906-CBBB6EABD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ака-фокусник  ловит предметы в которых есть звук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голов забьёт д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A7A-3B18-468B-A87A-7FC5E162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7BD-D959-4BEA-86A9-768A975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279-D651-402E-B70F-2A6A5271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2CC-1B21-43CE-9760-87B5EE4F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655D-8A75-456E-BE40-5836DC44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2463-F85B-4B2D-B8DD-9F76289D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7CA-6C5A-4A9F-9D9E-603891BD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C75-5FA6-452C-9678-DBAD4254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2EB1-6629-4EBD-962B-C302497F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827-9BE9-4CB3-8E32-8D42182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DB2-9C61-431E-997A-71C5AFD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4C4-C6BA-48AF-96B6-533EAE57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CD0-0DDF-48B2-93FA-E684CD7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009-EC9F-4C37-937A-88019DF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4C3-06E8-41CD-BDBA-9F66D817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D336-1BF0-44D6-A9B8-1A043699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ECAC-E7FD-44D5-BBFC-9E651568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94BD-48CE-4B25-9226-DCF2639C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6C12-84CD-4439-929D-A64C986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DF87-ADBF-4AC8-BA2D-A219901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D668-517E-4629-ACD3-49C4D0A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F714-A776-4E2F-A30D-00EAE5E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FD5-A203-45C2-8331-5BE6FB7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27EF-C801-4AD8-8FE9-58F1276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021D-F7AE-4B7D-854D-27AF43F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E14C-BF43-4610-8F45-DF080FD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1578-2BE1-4992-8838-F32CAEE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DF10-65D0-4510-97FF-F2E746F8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93B9-BF26-4DDB-AE08-0B2B6342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7841-8184-44E8-8E98-E91B4E62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1282-A8B5-42C2-9C86-1AE4B0BB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FF55-039E-40C1-A330-E0BB8E8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4DE4-7AC7-41C8-A2E0-EAD59319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78A-E111-4DA7-9CFF-4047B22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E95A-5657-4A46-8321-E998578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E56A-B70B-4F5F-A16F-766DFD7E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40E2-1094-42FC-8607-1D5E23F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FF5E-1F3D-425B-B1AD-5142CB4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D02B-A2E4-4D60-8028-F5FC2D9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A810-FF21-4C8A-AFAC-DB66CAE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8101-6171-4E49-BD7D-F3BAFD5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4B27-1B00-4C2B-8BA1-07FB172B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D39D-B3B3-4641-902C-92E7A9CC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6254-64B9-4A05-9BF6-BFF98BB8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BFB-5F16-4215-A4AE-7BA7AD2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E1AF-0B79-4DC6-B3ED-FC8E44A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BDF3-3C76-48A0-A3A2-4C49997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1C8B-89BA-4CD7-A271-7D65F1D1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140F-BFD5-4757-923F-17C4326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DC29-CF38-469F-BC0F-FFD1610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7AC5-3446-476B-BB40-95A7320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B9AAF-338F-4ED0-8F65-568F62A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F787-2119-4E48-9AF1-3D9500E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61B3-48C8-47B4-AAA6-6396B75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BAC8-3F41-4855-B740-C541A9B0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A82-1008-4BB8-9E97-DF9556F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9217-1474-45DB-8229-A0F801E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D8B7-6684-46A3-9923-B21342B8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E81FC-90B6-4355-943B-AAFC041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C62F-D59E-488F-BDC5-B625C02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0B002-B45A-4514-B18B-99E8A47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5421-EEAC-45E5-B7C5-0EF0275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399E-317B-4AE0-B913-1C19B187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6B32-217D-444B-B589-6B65849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AE54-45CC-424D-87CF-524C50B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C482-7FDF-4A65-B702-364F61C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2A8-C914-4E1F-AF1B-312FF1E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120C-07CA-47F4-AB67-E362498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F951-2BE3-4178-8BFA-F287591D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18B0-8CAB-486D-A694-43CB3319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8425-490A-40B7-8D17-5BE4CF69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A7ED2-F096-4CB3-8219-1AB532C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4115-35C7-42F4-9CBE-4594C46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6D46-D581-4CA4-A6D7-A79068A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C139-47E5-451A-8FE3-8429CC5B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A56E-AEE7-48B4-9E85-D4509FD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39CD-EA6C-46F0-976B-D8028F53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B47-D969-401A-ACCF-9BA3B0D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9C60-94A4-4139-94A6-53D765E2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C8F0-F277-4841-9064-DAB858F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72F2-3B82-4C9F-A845-71A0ADB2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3586-0924-419D-B0DE-498EE4B8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CDE8-C1C1-4344-9585-016D4625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E0EAF-224F-4C79-915B-388D8B23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F841-7EF6-49D4-9562-52AA65C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055C-0992-435B-9F01-9C24819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430FA-EF1A-4C89-B62E-D70642E2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7E260-256A-47DB-B4F2-8C4A5ED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820-5E2C-426F-8B8F-891F935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7DA1-088E-4D43-B055-84D5E3E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D904-CF2C-4AD2-B8DD-54DA058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09DF7-5A77-4028-8E9C-D242BD35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B183-A92B-465C-87AA-07EC499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5C439-2D7E-4BA6-A930-7E05A37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A597-B29E-4700-9F51-5724BC28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9EAEE-455F-48A3-A2A5-54BA88CC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507-C31D-4792-9BBD-B6CEEAA1030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488-2222-4D9B-9F75-CF853FA304A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F80-4D05-40D5-A0E1-800766F39963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2458-0825-4CAB-8BA7-52131AE7D26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E1D-F589-4E4A-AA78-BEB3AB81DAF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ADE-5CEE-4CF7-9791-4387D226897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0D4-093E-4807-86AD-A5B8B9A0A97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D4A-E85F-4A7C-B023-91E787563BE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0.jpeg"/><Relationship Id="rId7" Type="http://schemas.openxmlformats.org/officeDocument/2006/relationships/image" Target="../media/image13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8"/>
          <p:cNvSpPr txBox="1"/>
          <p:nvPr/>
        </p:nvSpPr>
        <p:spPr>
          <a:xfrm>
            <a:off x="1403280" y="620640"/>
            <a:ext cx="66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томатизация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а   Ш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539640" y="6597720"/>
            <a:ext cx="2592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3" descr="крыса, анимашка"/>
          <p:cNvPicPr/>
          <p:nvPr/>
        </p:nvPicPr>
        <p:blipFill>
          <a:blip r:embed="rId1"/>
          <a:stretch/>
        </p:blipFill>
        <p:spPr>
          <a:xfrm rot="344400">
            <a:off x="809280" y="2941200"/>
            <a:ext cx="3268800" cy="3489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танцующая мышь, анимашка"/>
          <p:cNvPicPr/>
          <p:nvPr/>
        </p:nvPicPr>
        <p:blipFill>
          <a:blip r:embed="rId2"/>
          <a:stretch/>
        </p:blipFill>
        <p:spPr>
          <a:xfrm>
            <a:off x="5715000" y="364320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2"/>
          <p:cNvSpPr/>
          <p:nvPr/>
        </p:nvSpPr>
        <p:spPr>
          <a:xfrm>
            <a:off x="3286080" y="30002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-логопед МОУСОШ №2, Кагарлыцкая Татьяна Леонид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http://animashky.ru/flist/objiv/23/401.gif"/>
          <p:cNvPicPr/>
          <p:nvPr/>
        </p:nvPicPr>
        <p:blipFill>
          <a:blip r:embed="rId2"/>
          <a:stretch/>
        </p:blipFill>
        <p:spPr>
          <a:xfrm>
            <a:off x="5643720" y="1071720"/>
            <a:ext cx="1785960" cy="2381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http://animashky.ru/flist/objiv/23/417.gif"/>
          <p:cNvPicPr/>
          <p:nvPr/>
        </p:nvPicPr>
        <p:blipFill>
          <a:blip r:embed="rId3"/>
          <a:stretch/>
        </p:blipFill>
        <p:spPr>
          <a:xfrm>
            <a:off x="500040" y="4429080"/>
            <a:ext cx="6667560" cy="66672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539640" y="630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 животных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Мышата дразнят кошку. Проговори слоги дразнилки повторяя за мышатами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5" name="Picture 4" descr="bestgif"/>
          <p:cNvPicPr/>
          <p:nvPr/>
        </p:nvPicPr>
        <p:blipFill>
          <a:blip r:embed="rId2"/>
          <a:stretch/>
        </p:blipFill>
        <p:spPr>
          <a:xfrm>
            <a:off x="5713560" y="476280"/>
            <a:ext cx="3430440" cy="452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a178"/>
          <p:cNvPicPr/>
          <p:nvPr/>
        </p:nvPicPr>
        <p:blipFill>
          <a:blip r:embed="rId3"/>
          <a:stretch/>
        </p:blipFill>
        <p:spPr>
          <a:xfrm>
            <a:off x="571680" y="521496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крыса, анимашка"/>
          <p:cNvPicPr/>
          <p:nvPr/>
        </p:nvPicPr>
        <p:blipFill>
          <a:blip r:embed="rId4"/>
          <a:stretch/>
        </p:blipFill>
        <p:spPr>
          <a:xfrm>
            <a:off x="1643040" y="2286000"/>
            <a:ext cx="1276200" cy="136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танцующая мышь, анимашка"/>
          <p:cNvPicPr/>
          <p:nvPr/>
        </p:nvPicPr>
        <p:blipFill>
          <a:blip r:embed="rId5"/>
          <a:stretch/>
        </p:blipFill>
        <p:spPr>
          <a:xfrm>
            <a:off x="3643200" y="450072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1"/>
          <p:cNvSpPr/>
          <p:nvPr/>
        </p:nvSpPr>
        <p:spPr>
          <a:xfrm rot="20019000">
            <a:off x="2171520" y="1203480"/>
            <a:ext cx="28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А-ША-ША-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2"/>
          <p:cNvSpPr/>
          <p:nvPr/>
        </p:nvSpPr>
        <p:spPr>
          <a:xfrm rot="2128800">
            <a:off x="3593880" y="4062600"/>
            <a:ext cx="19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О-ШО-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 rot="20045400">
            <a:off x="273960" y="42462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И-ШИ-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4"/>
          <p:cNvSpPr/>
          <p:nvPr/>
        </p:nvSpPr>
        <p:spPr>
          <a:xfrm rot="1695000">
            <a:off x="1270440" y="506556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У-ШУ-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5"/>
          <p:cNvSpPr/>
          <p:nvPr/>
        </p:nvSpPr>
        <p:spPr>
          <a:xfrm rot="20698800">
            <a:off x="4425480" y="368568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ШО-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кошка бежит, анимашка"/>
          <p:cNvPicPr/>
          <p:nvPr/>
        </p:nvPicPr>
        <p:blipFill>
          <a:blip r:embed="rId6"/>
          <a:stretch/>
        </p:blipFill>
        <p:spPr>
          <a:xfrm flipH="1">
            <a:off x="6391440" y="3071880"/>
            <a:ext cx="2752560" cy="1917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7"/>
          <a:stretch/>
        </p:blipFill>
        <p:spPr>
          <a:xfrm>
            <a:off x="9358200" y="28584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8"/>
          <a:stretch/>
        </p:blipFill>
        <p:spPr>
          <a:xfrm>
            <a:off x="9358200" y="714240"/>
            <a:ext cx="233640" cy="23364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0"/>
          <p:cNvSpPr/>
          <p:nvPr/>
        </p:nvSpPr>
        <p:spPr>
          <a:xfrm rot="1738800">
            <a:off x="1232280" y="161280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ША-ШО-ШУ-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http://animashky.ru/flist/objiv/251/56.gif"/>
          <p:cNvPicPr/>
          <p:nvPr/>
        </p:nvPicPr>
        <p:blipFill>
          <a:blip r:embed="rId9"/>
          <a:stretch/>
        </p:blipFill>
        <p:spPr>
          <a:xfrm flipH="1">
            <a:off x="285480" y="3357720"/>
            <a:ext cx="717480" cy="103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1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9806E-006 L -0.00209 -0.5458 E">
                                      <p:cBhvr>
                                        <p:cTn id="44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7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5 -0.04209 L -0.02708 -0.43039 E">
                                      <p:cBhvr>
                                        <p:cTn id="78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52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1092E-006 C -0.00938 -0.00833 -0.01997 -0.01318 -0.0309 -0.01688 C -0.03472 -0.02151 -0.03281 -0.02035 -0.03802 -0.02267 C -0.0408 -0.02405 -0.04653 -0.02637 -0.04653 -0.02614 C -0.05226 -0.03793 -0.06476 -0.04626 -0.07465 -0.05065 C -0.08073 -0.05921 -0.07361 -0.05042 -0.08177 -0.05643 C -0.08472 -0.05851 -0.0901 -0.06383 -0.0901 -0.0636 C -0.0941 -0.0717 -0.10035 -0.07748 -0.10556 -0.08441 C -0.11233 -0.09343 -0.11875 -0.10384 -0.12674 -0.11078 C -0.13247 -0.12234 -0.12604 -0.1117 -0.13385 -0.11818 C -0.14375 -0.12627 -0.12865 -0.11864 -0.1408 -0.12396 C -0.14601 -0.12327 -0.15139 -0.12419 -0.15625 -0.12211 C -0.1566 -0.12188 -0.16528 -0.10685 -0.16615 -0.10523 C -0.16945 -0.09158 -0.17205 -0.07771 -0.17465 -0.06383 C -0.17535 -0.06013 -0.17691 -0.04556 -0.17882 -0.04325 C -0.18229 -0.03909 -0.18403 -0.03053 -0.18872 -0.03007 C -0.19583 -0.02937 -0.20278 -0.02891 -0.2099 -0.02822 C -0.21129 -0.02752 -0.2132 -0.02799 -0.21406 -0.02637 C -0.21458 -0.02521 -0.21545 -0.01365 -0.21684 -0.01133 C -0.2191 -0.00763 -0.22517 -0.00278 -0.22813 2.21092E-006 C -0.23507 0.01387 -0.24774 0.00254 -0.25781 0.0111 C -0.25972 0.01919 -0.25695 0.00809 -0.26076 0.01503 C -0.26285 0.0185 -0.26024 0.01318 -0.26215 0.01688 C -0.26302 0.01873 -0.26493 0.02151 -0.26632 0.02266 C -0.2717 0.02729 -0.25955 0.01549 -0.26354 0.02081 E">
                                      <p:cBhvr>
                                        <p:cTn id="8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455 0.05435 C -0.28594 0.05504 -0.28733 0.05666 -0.28872 0.0562 C -0.2901 0.05573 -0.29045 0.05319 -0.29167 0.05226 C -0.29427 0.05041 -0.29722 0.04972 -0.3 0.04856 C -0.30156 0.04787 -0.30278 0.04579 -0.30434 0.04486 C -0.30695 0.04324 -0.31267 0.04116 -0.31267 0.04139 C -0.37674 0.0444 -0.43993 0.04579 -0.50434 0.04671 C -0.51632 0.04856 -0.51493 0.04671 -0.52257 0.05435 C -0.52535 0.05712 -0.53108 0.06175 -0.53108 0.06198 C -0.5349 0.06938 -0.53941 0.07539 -0.54514 0.08048 C -0.5507 0.09158 -0.54931 0.08626 -0.54653 0.10869 C -0.54601 0.11262 -0.54375 0.11979 -0.54375 0.12003 C -0.54358 0.13182 -0.53681 0.22803 -0.54653 0.24745 C -0.5625 0.24676 -0.58177 0.25694 -0.59445 0.24375 C -0.59913 0.2389 -0.60295 0.23057 -0.60712 0.22502 C -0.61146 0.21924 -0.61684 0.21392 -0.62118 0.20814 C -0.62517 0.20282 -0.63247 0.19126 -0.63247 0.19149 C -0.63125 0.17854 -0.63299 0.17877 -0.62969 0.16697 C -0.63212 0.15818 -0.61754 0.15957 -0.62552 0.15957 E">
                                      <p:cBhvr>
                                        <p:cTn id="9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4097 0.13876 C -0.6474 0.14153 -0.65295 0.14153 -0.65781 0.13483 C -0.66198 0.11841 -0.66111 0.12673 -0.6592 0.10499 C -0.65903 0.10222 -0.65816 0.09042 -0.65642 0.08603 C -0.6526 0.07655 -0.64948 0.07493 -0.64514 0.0673 C -0.63785 0.05411 -0.64323 0.05781 -0.63524 0.05435 C -0.62726 0.04348 -0.63142 0.04625 -0.62396 0.04301 C -0.61701 0.03654 -0.6099 0.03053 -0.60295 0.02428 C -0.59601 0.01827 -0.59392 0.00948 -0.5875 0.0037 C -0.58004 -0.01087 -0.59115 0.00925 -0.57622 -0.00948 C -0.56858 -0.0192 -0.55608 -0.03724 -0.54653 -0.0414 C -0.54514 -0.04256 -0.54392 -0.04417 -0.54236 -0.0451 C -0.54097 -0.04602 -0.53941 -0.04626 -0.5382 -0.04718 C -0.53038 -0.05342 -0.52274 -0.06198 -0.51563 -0.06961 C -0.50226 -0.08418 -0.5191 -0.06661 -0.50851 -0.08095 C -0.50729 -0.08256 -0.50556 -0.08326 -0.50434 -0.08465 C -0.49705 -0.09297 -0.49427 -0.09806 -0.48594 -0.10523 C -0.48316 -0.10754 -0.48195 -0.1124 -0.47899 -0.11471 C -0.4776 -0.11587 -0.47604 -0.11725 -0.47465 -0.11841 C -0.47951 -0.13576 -0.45677 -0.12882 -0.44931 -0.12951 C -0.44792 -0.1309 -0.4467 -0.13252 -0.44514 -0.13344 C -0.44236 -0.13506 -0.43663 -0.13714 -0.43663 -0.13691 C -0.43177 -0.14154 -0.42622 -0.1457 -0.42257 -0.15218 C -0.42049 -0.15588 -0.41979 -0.16096 -0.41701 -0.16351 C -0.41285 -0.16721 -0.40573 -0.17646 -0.40573 -0.17623 C -0.40434 -0.18201 -0.40295 -0.18779 -0.40156 -0.19334 C -0.40104 -0.19519 -0.40017 -0.19912 -0.40017 -0.19889 C -0.40174 -0.23058 -0.39635 -0.22433 -0.4099 -0.23104 C -0.41267 -0.22965 -0.41563 -0.22849 -0.4184 -0.22711 C -0.41979 -0.22641 -0.42257 -0.22526 -0.42257 -0.22503 C -0.4316 -0.21392 -0.4375 -0.21554 -0.45087 -0.21416 C -0.45642 -0.21138 -0.46198 -0.21046 -0.46771 -0.20837 C -0.47656 -0.20514 -0.48403 -0.2012 -0.49306 -0.19912 C -0.49445 -0.19774 -0.49601 -0.19658 -0.49722 -0.19519 C -0.49965 -0.19219 -0.50434 -0.18594 -0.50434 -0.18571 C -0.50816 -0.18663 -0.49931 -0.1901 -0.50295 -0.19126 C -0.49879 -0.19704 -0.50191 -0.19126 -0.50729 -0.19126 E">
                                      <p:cBhvr>
                                        <p:cTn id="9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729 -0.19126 C -0.51597 -0.19496 -0.5184 -0.20514 -0.52535 -0.21138 C -0.53108 -0.22248 -0.52726 -0.21647 -0.53854 -0.22711 C -0.54965 -0.23728 -0.55504 -0.25208 -0.56823 -0.2581 C -0.5842 -0.2729 -0.61406 -0.27544 -0.63247 -0.27845 C -0.63854 -0.28122 -0.64375 -0.28238 -0.64896 -0.28724 C -0.65347 -0.29602 -0.65781 -0.30181 -0.66372 -0.30944 C -0.66701 -0.31383 -0.67135 -0.32193 -0.67535 -0.32516 C -0.67674 -0.32632 -0.67865 -0.32632 -0.68021 -0.32725 C -0.68195 -0.3284 -0.68351 -0.33048 -0.68507 -0.33164 C -0.70087 -0.33071 -0.72031 -0.33233 -0.73611 -0.32516 C -0.74705 -0.32609 -0.75816 -0.32609 -0.7691 -0.32725 C -0.77552 -0.32817 -0.78038 -0.33835 -0.78542 -0.34297 C -0.79097 -0.3543 -0.79913 -0.35985 -0.80538 -0.36957 C -0.82049 -0.39385 -0.84167 -0.41998 -0.86441 -0.42993 C -0.87431 -0.429 -0.8842 -0.43039 -0.8941 -0.42762 C -0.89792 -0.42646 -0.90382 -0.41883 -0.90382 -0.4186 C -0.90764 -0.41906 -0.94358 -0.41582 -0.95642 -0.42553 C -0.97066 -0.43594 -0.96163 -0.43224 -0.97136 -0.43663 C -0.97448 -0.43825 -0.97795 -0.43964 -0.98125 -0.44103 C -0.98281 -0.44195 -0.98611 -0.44334 -0.98611 -0.44311 C -0.98854 -0.44311 -1.01094 -0.44427 -1.01094 -0.43201 E">
                                      <p:cBhvr>
                                        <p:cTn id="10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ятно 2 13"/>
          <p:cNvSpPr/>
          <p:nvPr/>
        </p:nvSpPr>
        <p:spPr>
          <a:xfrm>
            <a:off x="928800" y="2000160"/>
            <a:ext cx="5857920" cy="55720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carrot01"/>
          <p:cNvPicPr/>
          <p:nvPr/>
        </p:nvPicPr>
        <p:blipFill>
          <a:blip r:embed="rId2"/>
          <a:stretch/>
        </p:blipFill>
        <p:spPr>
          <a:xfrm>
            <a:off x="2357280" y="3357720"/>
            <a:ext cx="1895760" cy="15890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257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</a:t>
            </a:r>
            <a:r>
              <a:rPr b="1" lang="ru-RU" sz="2800" spc="-1" strike="noStrike">
                <a:solidFill>
                  <a:srgbClr val="009900"/>
                </a:solidFill>
                <a:latin typeface="Cambria"/>
              </a:rPr>
              <a:t>А, сколько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8910720" y="-4287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animashky.ru/flist/objiv/17/162.gif"/>
          <p:cNvPicPr/>
          <p:nvPr/>
        </p:nvPicPr>
        <p:blipFill>
          <a:blip r:embed="rId4"/>
          <a:stretch/>
        </p:blipFill>
        <p:spPr>
          <a:xfrm>
            <a:off x="6215040" y="571680"/>
            <a:ext cx="2643120" cy="3952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animashky.ru/flist/objiv/17/57.gif"/>
          <p:cNvPicPr/>
          <p:nvPr/>
        </p:nvPicPr>
        <p:blipFill>
          <a:blip r:embed="rId5"/>
          <a:stretch/>
        </p:blipFill>
        <p:spPr>
          <a:xfrm rot="615000">
            <a:off x="6053040" y="5197320"/>
            <a:ext cx="1600200" cy="1530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arrot01"/>
          <p:cNvPicPr/>
          <p:nvPr/>
        </p:nvPicPr>
        <p:blipFill>
          <a:blip r:embed="rId6"/>
          <a:stretch/>
        </p:blipFill>
        <p:spPr>
          <a:xfrm>
            <a:off x="2143080" y="4768920"/>
            <a:ext cx="2492280" cy="2089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cl236"/>
          <p:cNvPicPr/>
          <p:nvPr/>
        </p:nvPicPr>
        <p:blipFill>
          <a:blip r:embed="rId7"/>
          <a:stretch/>
        </p:blipFill>
        <p:spPr>
          <a:xfrm>
            <a:off x="-428760" y="3500280"/>
            <a:ext cx="2408400" cy="2714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arrot01"/>
          <p:cNvPicPr/>
          <p:nvPr/>
        </p:nvPicPr>
        <p:blipFill>
          <a:blip r:embed="rId8"/>
          <a:stretch/>
        </p:blipFill>
        <p:spPr>
          <a:xfrm rot="19183800">
            <a:off x="3975120" y="3881520"/>
            <a:ext cx="170352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324000" y="260280"/>
            <a:ext cx="6257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У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, сколько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395280" y="333360"/>
            <a:ext cx="6257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кажи столько раз слог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О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, сколько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морковок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у за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http://animashky.ru/flist/objiv/9/23.gif"/>
          <p:cNvPicPr/>
          <p:nvPr/>
        </p:nvPicPr>
        <p:blipFill>
          <a:blip r:embed="rId1"/>
          <a:stretch/>
        </p:blipFill>
        <p:spPr>
          <a:xfrm>
            <a:off x="928800" y="214308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http://animashky.ru/flist/objiv/20/24.gif"/>
          <p:cNvPicPr/>
          <p:nvPr/>
        </p:nvPicPr>
        <p:blipFill>
          <a:blip r:embed="rId2"/>
          <a:stretch/>
        </p:blipFill>
        <p:spPr>
          <a:xfrm>
            <a:off x="4929120" y="714240"/>
            <a:ext cx="3978360" cy="54943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4357800" y="0"/>
            <a:ext cx="4786200" cy="12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Выноска-облако 7"/>
          <p:cNvSpPr/>
          <p:nvPr/>
        </p:nvSpPr>
        <p:spPr>
          <a:xfrm>
            <a:off x="2714760" y="1857240"/>
            <a:ext cx="157140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3143160" y="20001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Выноска-облако 9"/>
          <p:cNvSpPr/>
          <p:nvPr/>
        </p:nvSpPr>
        <p:spPr>
          <a:xfrm>
            <a:off x="500040" y="571680"/>
            <a:ext cx="1571760" cy="92844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Выноска-облако 10"/>
          <p:cNvSpPr/>
          <p:nvPr/>
        </p:nvSpPr>
        <p:spPr>
          <a:xfrm>
            <a:off x="2214720" y="0"/>
            <a:ext cx="157140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Выноска-облако 11"/>
          <p:cNvSpPr/>
          <p:nvPr/>
        </p:nvSpPr>
        <p:spPr>
          <a:xfrm>
            <a:off x="3857760" y="214200"/>
            <a:ext cx="157140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Выноска-облако 12"/>
          <p:cNvSpPr/>
          <p:nvPr/>
        </p:nvSpPr>
        <p:spPr>
          <a:xfrm>
            <a:off x="785880" y="1785960"/>
            <a:ext cx="157140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3"/>
          <p:cNvSpPr/>
          <p:nvPr/>
        </p:nvSpPr>
        <p:spPr>
          <a:xfrm>
            <a:off x="971640" y="2060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2411280" y="18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5"/>
          <p:cNvSpPr/>
          <p:nvPr/>
        </p:nvSpPr>
        <p:spPr>
          <a:xfrm>
            <a:off x="4067280" y="333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6"/>
          <p:cNvSpPr/>
          <p:nvPr/>
        </p:nvSpPr>
        <p:spPr>
          <a:xfrm>
            <a:off x="755640" y="692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Выноска-облако 12"/>
          <p:cNvSpPr/>
          <p:nvPr/>
        </p:nvSpPr>
        <p:spPr>
          <a:xfrm>
            <a:off x="-181080" y="4149720"/>
            <a:ext cx="157176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ыноска-облако 12"/>
          <p:cNvSpPr/>
          <p:nvPr/>
        </p:nvSpPr>
        <p:spPr>
          <a:xfrm>
            <a:off x="0" y="3141720"/>
            <a:ext cx="157176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Выноска-облако 12"/>
          <p:cNvSpPr/>
          <p:nvPr/>
        </p:nvSpPr>
        <p:spPr>
          <a:xfrm>
            <a:off x="0" y="5084640"/>
            <a:ext cx="1571760" cy="928800"/>
          </a:xfrm>
          <a:prstGeom prst="cloudCallout">
            <a:avLst>
              <a:gd name="adj1" fmla="val -34907"/>
              <a:gd name="adj2" fmla="val 97439"/>
            </a:avLst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5076720" y="573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ик спрятался от лисы и непускает её в дом. Он произносит слоги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179280" y="3284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0" y="4292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250920" y="5300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0" descr="g2930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2" name="Picture 5" descr="краб, анимашка"/>
          <p:cNvPicPr/>
          <p:nvPr/>
        </p:nvPicPr>
        <p:blipFill>
          <a:blip r:embed="rId2"/>
          <a:stretch/>
        </p:blipFill>
        <p:spPr>
          <a:xfrm>
            <a:off x="5429160" y="3357720"/>
            <a:ext cx="2735280" cy="1839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рак, анимашка"/>
          <p:cNvPicPr/>
          <p:nvPr/>
        </p:nvPicPr>
        <p:blipFill>
          <a:blip r:embed="rId3"/>
          <a:stretch/>
        </p:blipFill>
        <p:spPr>
          <a:xfrm>
            <a:off x="1857240" y="3143160"/>
            <a:ext cx="1791000" cy="2309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черепаха, анимашка"/>
          <p:cNvPicPr/>
          <p:nvPr/>
        </p:nvPicPr>
        <p:blipFill>
          <a:blip r:embed="rId4"/>
          <a:stretch/>
        </p:blipFill>
        <p:spPr>
          <a:xfrm>
            <a:off x="8292960" y="5500800"/>
            <a:ext cx="851040" cy="860400"/>
          </a:xfrm>
          <a:prstGeom prst="rect">
            <a:avLst/>
          </a:prstGeom>
          <a:ln w="0">
            <a:noFill/>
          </a:ln>
        </p:spPr>
      </p:pic>
      <p:sp>
        <p:nvSpPr>
          <p:cNvPr id="415" name="Овал 6"/>
          <p:cNvSpPr/>
          <p:nvPr/>
        </p:nvSpPr>
        <p:spPr>
          <a:xfrm>
            <a:off x="2500200" y="2500200"/>
            <a:ext cx="857520" cy="785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9"/>
          <p:cNvSpPr/>
          <p:nvPr/>
        </p:nvSpPr>
        <p:spPr>
          <a:xfrm>
            <a:off x="3071880" y="1857240"/>
            <a:ext cx="785880" cy="785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10"/>
          <p:cNvSpPr/>
          <p:nvPr/>
        </p:nvSpPr>
        <p:spPr>
          <a:xfrm>
            <a:off x="6858000" y="2857680"/>
            <a:ext cx="785880" cy="785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11"/>
          <p:cNvSpPr/>
          <p:nvPr/>
        </p:nvSpPr>
        <p:spPr>
          <a:xfrm>
            <a:off x="6072120" y="2643120"/>
            <a:ext cx="785880" cy="78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12"/>
          <p:cNvSpPr/>
          <p:nvPr/>
        </p:nvSpPr>
        <p:spPr>
          <a:xfrm>
            <a:off x="7215120" y="2714760"/>
            <a:ext cx="785880" cy="785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13"/>
          <p:cNvSpPr/>
          <p:nvPr/>
        </p:nvSpPr>
        <p:spPr>
          <a:xfrm>
            <a:off x="6643800" y="2428920"/>
            <a:ext cx="785880" cy="78588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14"/>
          <p:cNvSpPr/>
          <p:nvPr/>
        </p:nvSpPr>
        <p:spPr>
          <a:xfrm>
            <a:off x="6500880" y="3000240"/>
            <a:ext cx="785880" cy="785880"/>
          </a:xfrm>
          <a:prstGeom prst="ellipse">
            <a:avLst/>
          </a:prstGeom>
          <a:solidFill>
            <a:srgbClr val="66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15"/>
          <p:cNvSpPr/>
          <p:nvPr/>
        </p:nvSpPr>
        <p:spPr>
          <a:xfrm>
            <a:off x="1857240" y="2214720"/>
            <a:ext cx="785880" cy="78552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6"/>
          <p:cNvSpPr/>
          <p:nvPr/>
        </p:nvSpPr>
        <p:spPr>
          <a:xfrm>
            <a:off x="3500280" y="2643120"/>
            <a:ext cx="857520" cy="928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17"/>
          <p:cNvSpPr/>
          <p:nvPr/>
        </p:nvSpPr>
        <p:spPr>
          <a:xfrm>
            <a:off x="1428840" y="2714760"/>
            <a:ext cx="785880" cy="785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Трапеция 18"/>
          <p:cNvSpPr/>
          <p:nvPr/>
        </p:nvSpPr>
        <p:spPr>
          <a:xfrm>
            <a:off x="-285840" y="6286680"/>
            <a:ext cx="9715680" cy="571320"/>
          </a:xfrm>
          <a:custGeom>
            <a:avLst/>
            <a:gdLst>
              <a:gd name="textAreaLeft" fmla="*/ 95040 w 9715680"/>
              <a:gd name="textAreaRight" fmla="*/ 9620640 w 9715680"/>
              <a:gd name="textAreaTop" fmla="*/ 5400 h 571320"/>
              <a:gd name="textAreaBottom" fmla="*/ 571680 h 571320"/>
            </a:gdLst>
            <a:ahLst/>
            <a:rect l="textAreaLeft" t="textAreaTop" r="textAreaRight" b="textAreaBottom"/>
            <a:pathLst>
              <a:path w="9715500" h="571500">
                <a:moveTo>
                  <a:pt x="0" y="571500"/>
                </a:moveTo>
                <a:lnTo>
                  <a:pt x="142875" y="0"/>
                </a:lnTo>
                <a:lnTo>
                  <a:pt x="9572625" y="0"/>
                </a:lnTo>
                <a:lnTo>
                  <a:pt x="9715500" y="5715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32-конечная звезда 19"/>
          <p:cNvSpPr/>
          <p:nvPr/>
        </p:nvSpPr>
        <p:spPr>
          <a:xfrm>
            <a:off x="-1785960" y="6072120"/>
            <a:ext cx="13001760" cy="1000080"/>
          </a:xfrm>
          <a:custGeom>
            <a:avLst/>
            <a:gdLst>
              <a:gd name="textAreaLeft" fmla="*/ 2968200 w 13001760"/>
              <a:gd name="textAreaRight" fmla="*/ 10033560 w 1300176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3492360" y="292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1"/>
          <p:cNvSpPr/>
          <p:nvPr/>
        </p:nvSpPr>
        <p:spPr>
          <a:xfrm>
            <a:off x="644364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2"/>
          <p:cNvSpPr/>
          <p:nvPr/>
        </p:nvSpPr>
        <p:spPr>
          <a:xfrm>
            <a:off x="1857240" y="24289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2556000" y="271476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3143160" y="2071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5"/>
          <p:cNvSpPr/>
          <p:nvPr/>
        </p:nvSpPr>
        <p:spPr>
          <a:xfrm>
            <a:off x="1428840" y="2928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6"/>
          <p:cNvSpPr/>
          <p:nvPr/>
        </p:nvSpPr>
        <p:spPr>
          <a:xfrm>
            <a:off x="6929280" y="30718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7"/>
          <p:cNvSpPr/>
          <p:nvPr/>
        </p:nvSpPr>
        <p:spPr>
          <a:xfrm>
            <a:off x="607212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8"/>
          <p:cNvSpPr/>
          <p:nvPr/>
        </p:nvSpPr>
        <p:spPr>
          <a:xfrm>
            <a:off x="6643800" y="2643120"/>
            <a:ext cx="8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9"/>
          <p:cNvSpPr/>
          <p:nvPr/>
        </p:nvSpPr>
        <p:spPr>
          <a:xfrm>
            <a:off x="7286760" y="292896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черепаха, анимашка"/>
          <p:cNvPicPr/>
          <p:nvPr/>
        </p:nvPicPr>
        <p:blipFill>
          <a:blip r:embed="rId7"/>
          <a:stretch/>
        </p:blipFill>
        <p:spPr>
          <a:xfrm flipH="1">
            <a:off x="214200" y="6000840"/>
            <a:ext cx="851040" cy="5619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4"/>
          <p:cNvSpPr/>
          <p:nvPr/>
        </p:nvSpPr>
        <p:spPr>
          <a:xfrm>
            <a:off x="0" y="649116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0.00243 -0.02939 0.000869999999999999 -0.02199 0.01944 -0.02546 C 0.02274 -0.0287 0.02743 -0.03032 0.02916 -0.03564 C 0.03194 -0.04513 0.03437 -0.05463 0.03715 -0.06365 C 0.03663 -0.07708 0.0375 -0.09097 0.03559 -0.10393 C 0.03524 -0.10671 0.03229 -0.10532 0.03073 -0.10648 C 0.01857 -0.11458 0.03003 -0.10949 0.01788 -0.11412 C 0.01163 -0.1206 0.00573 -0.12314 -0.00157 -0.12685 C -0.00313 -0.12754 -0.00643 -0.12939 -0.00643 -0.12916 C -0.01302 -0.13634 -0.01979 -0.13796 -0.02726 -0.14213 C -0.02882 -0.14467 -0.03091 -0.14652 -0.03212 -0.14953 C -0.03525 -0.15671 -0.03351 -0.15949 -0.03212 -0.16736 C -0.02917 -0.18287 -0.01719 -0.18657 -0.00799 -0.19004 C -0.00452 -0.19838 -0.00035 -0.20231 0.0033 -0.21018 C 0.0085 -0.23564 0.00885 -0.23472 0.0033 -0.28148 C 0.00295 -0.28472 -0.00104 -0.28287 -0.00313 -0.28379 C -0.01927 -0.29097 0.00555 -0.28125 -0.01441 -0.28865 C -0.01997 -0.29305 -0.02466 -0.29861 -0.03056 -0.30162 C -0.0316 -0.30393 -0.03299 -0.30625 -0.03386 -0.30902 C -0.03525 -0.31412 -0.03698 -0.32407 -0.03698 -0.32384 C -0.03577 -0.35046 -0.03907 -0.35717 -0.02726 -0.3699 C -0.01719 -0.41782 -0.02413 -0.37963 -0.02413 -0.48842 E">
                                      <p:cBhvr>
                                        <p:cTn id="27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51 -0.0037 -0.00625 -0.00486 -0.00972 -0.01065 C -0.01215 -0.01482 -0.01614 -0.02361 -0.01614 -0.02361 C -0.01545 -0.03449 -0.01805 -0.04722 -0.01302 -0.05579 C -0.01007 -0.06065 -0.00173 -0.06296 0.00156 -0.06435 C 0.01736 -0.07107 0.0349 -0.06597 0.05156 -0.06667 C 0.05313 -0.06736 0.05521 -0.06713 0.05643 -0.06875 C 0.0592 -0.07245 0.06285 -0.08171 0.06285 -0.08171 C 0.06563 -0.09329 0.0691 -0.10023 0.06441 -0.11389 C 0.06337 -0.1169 0.06025 -0.1169 0.05799 -0.11829 C 0.04445 -0.12639 0.03281 -0.12755 0.01771 -0.12894 C 0.01198 -0.13009 0.0033 -0.13125 -0.00173 -0.13542 C -0.00434 -0.1375 -0.00677 -0.14051 -0.00972 -0.1419 C -0.01389 -0.14398 -0.02257 -0.14607 -0.02257 -0.14607 C -0.02882 -0.15162 -0.03594 -0.15162 -0.04201 -0.15695 C -0.04826 -0.16227 -0.04514 -0.16019 -0.05173 -0.16343 C -0.05521 -0.17315 -0.06024 -0.18125 -0.06302 -0.1912 C -0.05503 -0.23125 -0.01041 -0.2206 0.01129 -0.22153 C 0.02552 -0.22755 0.03837 -0.23681 0.05313 -0.24074 C 0.05469 -0.24282 0.05608 -0.2456 0.05799 -0.24722 C 0.06476 -0.25324 0.06198 -0.24375 0.06771 -0.25579 C 0.07031 -0.26134 0.07413 -0.27315 0.07413 -0.27315 C 0.07188 -0.31505 0.07882 -0.29861 0.05799 -0.30741 C 0.04306 -0.32083 0.02396 -0.32454 0.00643 -0.32685 C -0.00833 -0.33171 -0.02257 -0.33449 -0.03715 -0.33982 C -0.04757 -0.34861 -0.03559 -0.33958 -0.05 -0.34607 C -0.07326 -0.35648 -0.04028 -0.34537 -0.06302 -0.35255 C -0.07066 -0.3588 -0.07725 -0.36111 -0.08559 -0.36551 C -0.09288 -0.38032 -0.0908 -0.37361 -0.09357 -0.38495 C -0.06823 -0.41759 0.03229 -0.40417 0.03542 -0.40417 C 0.04115 -0.40903 0.0467 -0.40972 0.05313 -0.4125 C 0.05747 -0.42153 0.06615 -0.43148 0.05313 -0.43657 C 0.05104 -0.4375 0.04879 -0.43796 0.0467 -0.43866 C 0.04167 -0.44282 0.03507 -0.44722 0.029 -0.44722 E">
                                      <p:cBhvr>
                                        <p:cTn id="288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7 -0.00069 -0.00555 -0.00116 -0.00816 -0.00208 C -0.01146 -0.00324 -0.01788 -0.00648 -0.01788 -0.00648 C -0.02343 -0.02986 -0.00555 -0.03125 0.00643 -0.03657 C 0.0092 -0.03773 0.01146 -0.04051 0.01441 -0.04097 C 0.02934 -0.04282 0.04445 -0.04236 0.05955 -0.04306 C 0.06129 -0.04653 0.06441 -0.05139 0.06441 -0.05602 C 0.06441 -0.06667 0.06476 -0.07778 0.06285 -0.08819 C 0.06216 -0.09236 0.04479 -0.09745 0.04184 -0.09884 C 0.02101 -0.1081 0.03698 -0.10301 -0.00173 -0.10532 C -0.01215 -0.11042 -0.01996 -0.11644 -0.02916 -0.12477 C -0.03021 -0.12917 -0.03125 -0.13333 -0.03229 -0.13773 C -0.03975 -0.16875 -0.00677 -0.18194 0.00955 -0.18495 C 0.01441 -0.18588 0.01927 -0.18611 0.02413 -0.18704 C 0.02952 -0.18819 0.0349 -0.19051 0.04028 -0.19144 C 0.0467 -0.19259 0.05313 -0.19282 0.05955 -0.19352 C 0.075 -0.2088 0.08924 -0.20394 0.10157 -0.22801 C 0.10469 -0.24074 0.10851 -0.25509 0.0967 -0.26019 C 0.08959 -0.26968 0.07726 -0.27407 0.06771 -0.27731 C 0.05712 -0.28102 0.04775 -0.28889 0.03698 -0.29236 C 0.02795 -0.30046 0.0165 -0.30185 0.00643 -0.30764 C -0.00139 -0.31227 -0.01093 -0.31597 -0.01788 -0.32269 C -0.01962 -0.32431 -0.02083 -0.32708 -0.02257 -0.32894 C -0.02413 -0.33056 -0.02587 -0.33194 -0.02743 -0.33333 C -0.0276 -0.33403 -0.03073 -0.34537 -0.03073 -0.3463 C -0.03073 -0.35556 -0.01875 -0.3669 -0.01302 -0.36991 C 0.00504 -0.37917 0.02396 -0.38542 0.04184 -0.3956 C 0.05521 -0.40324 0.06962 -0.41042 0.08386 -0.41505 C 0.09306 -0.4213 0.10261 -0.42477 0.11129 -0.43218 C 0.1165 -0.44306 0.11771 -0.44861 0.10955 -0.4581 C 0.10452 -0.46366 0.10469 -0.46204 0.09827 -0.46458 C 0.09514 -0.46597 0.08872 -0.46875 0.08872 -0.46875 C 0.08316 -0.47384 0.07743 -0.47824 0.07743 -0.48819 E">
                                      <p:cBhvr>
                                        <p:cTn id="3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4.07407E-006 C -0.02951 -0.05324 -0.06198 -0.10556 -0.05521 -0.14144 C -0.04844 -0.17686 0.03542 -0.17755 0.04323 -0.21389 C 0.05104 -0.25024 0.02014 -0.32153 -0.00833 -0.35996 C -0.03681 -0.39862 -0.13576 -0.42477 -0.12778 -0.44514 C -0.11979 -0.46505 0.0151 -0.46227 0.0401 -0.48125 C 0.0651 -0.50047 0.02621 -0.54769 0.02222 -0.56158 E">
                                      <p:cBhvr>
                                        <p:cTn id="318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301 -0.01232 -0.00764 -0.01927 -0.01065 C -0.02083 -0.01204 -0.02292 -0.01297 -0.02413 -0.01505 C -0.02708 -0.02014 -0.02569 -0.02385 -0.02257 -0.02778 C -0.01632 -0.03588 -0.00642 -0.04005 0.00174 -0.04306 C 0.01129 -0.05116 0.00139 -0.04398 0.01458 -0.04931 C 0.01893 -0.05116 0.02292 -0.05417 0.02743 -0.05579 C 0.02969 -0.05648 0.03177 -0.05741 0.03403 -0.05811 C 0.04097 -0.06412 0.04375 -0.06111 0.04844 -0.07084 C 0.04636 -0.08195 0.04323 -0.08311 0.03559 -0.0882 C 0.02639 -0.09422 0.01563 -0.09491 0.0066 -0.10093 C 0.00035 -0.1051 -0.00469 -0.10672 -0.01128 -0.10973 C -0.0184 -0.11297 -0.02326 -0.11806 -0.03055 -0.12037 C -0.03107 -0.1213 -0.03663 -0.13079 -0.03542 -0.13334 C -0.03385 -0.13658 -0.02482 -0.13866 -0.02257 -0.13982 C -0.00729 -0.14746 0.00868 -0.15232 0.02431 -0.15903 C 0.02726 -0.16297 0.0316 -0.16528 0.03403 -0.16991 C 0.03681 -0.17523 0.04045 -0.18704 0.04045 -0.18704 C 0.03993 -0.19352 0.04045 -0.20023 0.03872 -0.20648 C 0.03802 -0.2088 0.03577 -0.20949 0.03403 -0.21065 C 0.02778 -0.21482 0.02118 -0.21713 0.01458 -0.21922 C 0.00538 -0.22547 -0.00434 -0.22894 -0.01441 -0.23218 C -0.02014 -0.23727 -0.02569 -0.23797 -0.03212 -0.24074 C -0.03767 -0.24584 -0.03976 -0.24954 -0.04184 -0.25811 C -0.00382 -0.30093 0.04219 -0.28704 0.09202 -0.29028 C 0.0974 -0.29236 0.1033 -0.29306 0.10816 -0.29699 C 0.11077 -0.29885 0.10972 -0.30764 0.10816 -0.30973 C 0.10174 -0.31829 0.09931 -0.31806 0.09202 -0.32037 C 0.08351 -0.32732 0.08004 -0.32616 0.07257 -0.33102 C 0.05833 -0.34051 0.07118 -0.33565 0.0566 -0.33982 C 0.0441 -0.35047 0.02899 -0.35625 0.01458 -0.36111 C 0.00434 -0.36806 -0.00382 -0.3713 -0.01441 -0.37639 C -0.01719 -0.38172 -0.02031 -0.38403 -0.01597 -0.39144 C -0.01493 -0.39306 -0.01285 -0.3926 -0.01128 -0.39352 C 0.00365 -0.40324 -0.02101 -0.39121 0.0033 -0.40209 C 0.00486 -0.40278 0.00816 -0.40417 0.00816 -0.40417 C 0.00972 -0.40556 0.01129 -0.40741 0.01302 -0.40857 C 0.01615 -0.41042 0.02257 -0.41273 0.02257 -0.41273 E">
                                      <p:cBhvr>
                                        <p:cTn id="33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9 -0.00416 -0.01267 -0.01018 -0.00799 -0.02569 C -0.0059 -0.03287 0.00833 -0.0331 0.01285 -0.03449 C 0.02292 -0.04328 0.03819 -0.04861 0.05 -0.0537 C 0.05295 -0.05764 0.05642 -0.06018 0.05642 -0.06666 C 0.05642 -0.07731 0.05712 -0.08842 0.05486 -0.09884 C 0.05451 -0.10023 0.04531 -0.10509 0.04358 -0.10532 C 0.02899 -0.10648 0.01458 -0.10671 0 -0.1074 C 0.02517 -0.13009 0.05104 -0.12523 0.08073 -0.12685 C 0.08455 -0.14259 0.0776 -0.14282 0.06771 -0.14629 C 0.04635 -0.16481 0.00399 -0.16643 -0.01927 -0.17014 C -0.02517 -0.17384 -0.03125 -0.17685 -0.03715 -0.18055 C -0.04427 -0.19027 -0.04653 -0.21597 -0.03229 -0.21713 C 0.00312 -0.2199 0.03871 -0.21875 0.07413 -0.21944 C 0.08073 -0.22523 0.08333 -0.23171 0.07899 -0.24305 C 0.07674 -0.24861 0.06354 -0.25277 0.05972 -0.25393 C 0.04948 -0.26088 0.03976 -0.26435 0.02899 -0.26875 C 0.01406 -0.27477 0.00069 -0.28541 -0.01458 -0.29027 C -0.01979 -0.29514 -0.02465 -0.29629 -0.03056 -0.29884 C -0.0316 -0.30092 -0.03299 -0.30301 -0.03385 -0.30532 C -0.03524 -0.30949 -0.03715 -0.31828 -0.03715 -0.31828 C -0.03611 -0.32338 -0.03559 -0.3287 -0.03385 -0.33333 C -0.02899 -0.34606 -0.01285 -0.34514 -0.00486 -0.34629 C 0.00434 -0.3493 0.01337 -0.35254 0.02257 -0.35486 C 0.03073 -0.36041 0.03854 -0.36643 0.0467 -0.37199 E">
                                      <p:cBhvr>
                                        <p:cTn id="352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2639 0.00347 -0.05394 -0.00156 -0.0794 C -0.00278 -0.08565 -0.01146 -0.07917 -0.01597 -0.08171 C -0.01805 -0.0831 -0.01163 -0.0831 -0.00955 -0.0838 C -0.00521 -0.08542 -0.00226 -0.08681 0.00174 -0.09028 C 0.01094 -0.09838 0.01979 -0.10579 0.02743 -0.11597 C 0.03177 -0.13264 0.0316 -0.14051 0.02101 -0.15278 C 0.01893 -0.15486 0.01684 -0.15718 0.01458 -0.15903 C 0.01146 -0.16204 0.00486 -0.16759 0.00486 -0.16759 C -0.00017 -0.17801 -0.00486 -0.18218 -0.01285 -0.18912 C -0.01441 -0.19051 -0.01771 -0.19352 -0.01771 -0.19352 C -0.01476 -0.20509 -0.00955 -0.2037 -0.00156 -0.20671 C 0.0059 -0.21389 0.01233 -0.21528 0.02101 -0.21921 C 0.02622 -0.22153 0.03038 -0.22546 0.03559 -0.22778 C 0.03663 -0.23218 0.03768 -0.23634 0.03872 -0.24074 C 0.03924 -0.24282 0.04045 -0.24722 0.04045 -0.24722 C 0.04011 -0.25347 0.04184 -0.28357 0.03403 -0.29236 C 0.0283 -0.29907 0.02066 -0.30509 0.01458 -0.31204 C 0.01042 -0.3162 0 -0.3206 0 -0.3206 C -0.00156 -0.32176 -0.00347 -0.32292 -0.00469 -0.32477 C -0.00729 -0.3287 -0.01128 -0.3375 -0.01128 -0.3375 C -0.01076 -0.34398 -0.01146 -0.35093 -0.00955 -0.35694 C -0.00885 -0.35926 -0.00625 -0.3581 -0.00469 -0.35926 C 0.00504 -0.36458 0.01389 -0.36944 0.02431 -0.37199 C 0.03663 -0.38449 0.05052 -0.38056 0.06302 -0.39144 C 0.06458 -0.39306 0.06615 -0.39444 0.06788 -0.3956 C 0.07101 -0.39769 0.07743 -0.4 0.07743 -0.4 C 0.07899 -0.40278 0.08038 -0.40602 0.08229 -0.40857 C 0.08368 -0.41042 0.08681 -0.41042 0.08715 -0.41273 C 0.08837 -0.42384 0.08611 -0.44676 0.08073 -0.4581 C 0.07847 -0.46296 0.07205 -0.47269 0.06788 -0.47523 C 0.06476 -0.47708 0.05816 -0.4794 0.05816 -0.4794 C 0.0474 -0.48912 0.0309 -0.49468 0.01788 -0.49884 C 0.00903 -0.50694 0.01493 -0.50324 -0.00156 -0.50324 E">
                                      <p:cBhvr>
                                        <p:cTn id="371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0608 -0.52014 E">
                                      <p:cBhvr>
                                        <p:cTn id="390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00573 -0.54074 E">
                                      <p:cBhvr>
                                        <p:cTn id="409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5 L 0.18646 -0.54074 E">
                                      <p:cBhvr>
                                        <p:cTn id="42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17188 -0.47894 E">
                                      <p:cBhvr>
                                        <p:cTn id="430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http://animashky.ru/flist/objiv/162/351.gif"/>
          <p:cNvPicPr/>
          <p:nvPr/>
        </p:nvPicPr>
        <p:blipFill>
          <a:blip r:embed="rId2"/>
          <a:stretch/>
        </p:blipFill>
        <p:spPr>
          <a:xfrm>
            <a:off x="321480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http://animashky.ru/flist/objiv/162/228.gif"/>
          <p:cNvPicPr/>
          <p:nvPr/>
        </p:nvPicPr>
        <p:blipFill>
          <a:blip r:embed="rId3"/>
          <a:stretch/>
        </p:blipFill>
        <p:spPr>
          <a:xfrm>
            <a:off x="7072200" y="3500280"/>
            <a:ext cx="1892520" cy="2533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http://animashky.ru/flist/objiv/20/31.gif"/>
          <p:cNvPicPr/>
          <p:nvPr/>
        </p:nvPicPr>
        <p:blipFill>
          <a:blip r:embed="rId4"/>
          <a:stretch/>
        </p:blipFill>
        <p:spPr>
          <a:xfrm>
            <a:off x="0" y="3160800"/>
            <a:ext cx="3286080" cy="369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танцующая мышь, анимашка"/>
          <p:cNvPicPr/>
          <p:nvPr/>
        </p:nvPicPr>
        <p:blipFill>
          <a:blip r:embed="rId5"/>
          <a:stretch/>
        </p:blipFill>
        <p:spPr>
          <a:xfrm>
            <a:off x="4211640" y="429264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6"/>
          <p:cNvSpPr/>
          <p:nvPr/>
        </p:nvSpPr>
        <p:spPr>
          <a:xfrm>
            <a:off x="324000" y="33336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читай животных  по образц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кошка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задумали кош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http://animashky.ru/flist/objiv/251/56.gif"/>
          <p:cNvPicPr/>
          <p:nvPr/>
        </p:nvPicPr>
        <p:blipFill>
          <a:blip r:embed="rId6"/>
          <a:stretch/>
        </p:blipFill>
        <p:spPr>
          <a:xfrm flipH="1">
            <a:off x="3779640" y="5300640"/>
            <a:ext cx="71748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фон"/>
          <p:cNvPicPr/>
          <p:nvPr/>
        </p:nvPicPr>
        <p:blipFill>
          <a:blip r:embed="rId1"/>
          <a:stretch/>
        </p:blipFill>
        <p:spPr>
          <a:xfrm>
            <a:off x="-2581200" y="-1938240"/>
            <a:ext cx="14306400" cy="107344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68360" y="333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оди пальцем п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АМ Винни-пух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произноси слоги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ша,шмо,шму,шмы,шла,шло,шлу,шл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4" descr="11"/>
          <p:cNvPicPr/>
          <p:nvPr/>
        </p:nvPicPr>
        <p:blipFill>
          <a:blip r:embed="rId2"/>
          <a:stretch/>
        </p:blipFill>
        <p:spPr>
          <a:xfrm flipH="1">
            <a:off x="7327440" y="4357800"/>
            <a:ext cx="1816200" cy="1981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мультяшки - Винни Пух "/>
          <p:cNvPicPr/>
          <p:nvPr/>
        </p:nvPicPr>
        <p:blipFill>
          <a:blip r:embed="rId3"/>
          <a:stretch/>
        </p:blipFill>
        <p:spPr>
          <a:xfrm>
            <a:off x="214200" y="2281320"/>
            <a:ext cx="3571920" cy="4284720"/>
          </a:xfrm>
          <a:prstGeom prst="rect">
            <a:avLst/>
          </a:prstGeom>
          <a:ln w="0">
            <a:noFill/>
          </a:ln>
        </p:spPr>
      </p:pic>
      <p:sp>
        <p:nvSpPr>
          <p:cNvPr id="449" name="5-конечная звезда 15"/>
          <p:cNvSpPr/>
          <p:nvPr/>
        </p:nvSpPr>
        <p:spPr>
          <a:xfrm>
            <a:off x="0" y="5429160"/>
            <a:ext cx="1000080" cy="9288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8" y="928685"/>
                </a:lnTo>
                <a:lnTo>
                  <a:pt x="500063" y="709450"/>
                </a:lnTo>
                <a:lnTo>
                  <a:pt x="191007" y="928685"/>
                </a:lnTo>
                <a:lnTo>
                  <a:pt x="309059" y="573958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4d0808"/>
              </a:gs>
            </a:gsLst>
            <a:lin ang="21540000"/>
          </a:gradFill>
          <a:ln w="12600">
            <a:solidFill>
              <a:srgbClr val="525977"/>
            </a:solidFill>
            <a:round/>
          </a:ln>
          <a:effectLst>
            <a:outerShdw dist="76320" dir="0" blurRad="0" rotWithShape="0">
              <a:srgbClr val="ffc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mph" presetID="8" repeatCount="1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729 -0.0037 C -0.06128 -0.01873 -0.07152 -0.02266 -0.07847 -0.03422 C -0.08576 -0.04579 -0.09409 -0.05666 -0.10243 -0.06753 C -0.10885 -0.07585 -0.11284 -0.08719 -0.11927 -0.09574 C -0.12135 -0.1043 -0.12812 -0.11239 -0.13194 -0.12026 C -0.13368 -0.12326 -0.13385 -0.12766 -0.13489 -0.13136 C -0.13541 -0.13321 -0.13628 -0.13691 -0.13628 -0.13668 C -0.13576 -0.16373 -0.13576 -0.19079 -0.13489 -0.21762 C -0.13489 -0.2197 -0.1335 -0.22132 -0.1335 -0.2234 C -0.1335 -0.24398 -0.13368 -0.26457 -0.13489 -0.28515 C -0.13524 -0.29186 -0.14062 -0.31059 -0.14184 -0.31706 C -0.14618 -0.34019 -0.15156 -0.36378 -0.15729 -0.38645 C -0.16128 -0.40194 -0.16163 -0.42715 -0.17031 -0.43917 C -0.17395 -0.45351 -0.18055 -0.46369 -0.18836 -0.47479 C -0.1901 -0.48103 -0.19201 -0.48496 -0.19548 -0.48982 C -0.19739 -0.49583 -0.1993 -0.50092 -0.20121 -0.5067 C -0.20659 -0.5222 -0.20121 -0.51364 -0.20694 -0.52174 C -0.20885 -0.53076 -0.21475 -0.53885 -0.22083 -0.54417 C -0.22378 -0.54972 -0.2276 -0.55203 -0.23055 -0.55735 C -0.23628 -0.5666 -0.24166 -0.574 -0.25034 -0.57793 C -0.25486 -0.58395 -0.26093 -0.58834 -0.2677 -0.59112 C -0.27986 -0.58996 -0.29444 -0.59135 -0.3052 -0.58163 C -0.30711 -0.5784 -0.30989 -0.57585 -0.31093 -0.57238 C -0.31267 -0.56892 -0.31232 -0.56429 -0.31388 -0.56105 C -0.31458 -0.5592 -0.31579 -0.55735 -0.31666 -0.5555 C -0.31927 -0.54371 -0.321 -0.53145 -0.32378 -0.51966 C -0.32343 -0.48843 -0.32916 -0.39963 -0.31267 -0.35453 C -0.30763 -0.34181 -0.29913 -0.33187 -0.2927 -0.32077 C -0.28802 -0.31313 -0.27986 -0.29764 -0.27343 -0.29463 C -0.27135 -0.28746 -0.26909 -0.28561 -0.26458 -0.28145 C -0.26041 -0.27312 -0.25607 -0.2678 -0.24913 -0.26457 C -0.24236 -0.25092 -0.2434 -0.23288 -0.23506 -0.22132 C -0.23263 -0.21161 -0.23194 -0.20374 -0.23055 -0.19334 C -0.23159 -0.18455 -0.2302 -0.1753 -0.23229 -0.16697 C -0.23298 -0.16281 -0.23923 -0.15772 -0.23923 -0.15749 C -0.25451 -0.15842 -0.26944 -0.15795 -0.28437 -0.15957 C -0.2934 -0.1605 -0.30121 -0.1709 -0.30989 -0.1746 C -0.31388 -0.18247 -0.32048 -0.19357 -0.32673 -0.19889 C -0.32986 -0.20166 -0.33107 -0.20259 -0.3335 -0.20652 C -0.33923 -0.21577 -0.34531 -0.2241 -0.35191 -0.23265 C -0.35451 -0.23589 -0.35711 -0.23843 -0.35885 -0.24213 C -0.36527 -0.25462 -0.36232 -0.25 -0.36718 -0.25717 C -0.37638 -0.29324 -0.36996 -0.26434 -0.36857 -0.34713 C -0.36909 -0.40287 -0.36909 -0.45837 -0.36996 -0.5141 C -0.36996 -0.51619 -0.37135 -0.5178 -0.3717 -0.51966 C -0.37378 -0.53422 -0.37343 -0.54602 -0.38125 -0.55735 C -0.38316 -0.56452 -0.38524 -0.56614 -0.38975 -0.5703 C -0.39392 -0.57909 -0.40173 -0.58695 -0.40798 -0.59297 C -0.41302 -0.59759 -0.4177 -0.60546 -0.42361 -0.608 C -0.42638 -0.60916 -0.42916 -0.61054 -0.43194 -0.6117 C -0.43333 -0.61239 -0.43489 -0.61286 -0.43628 -0.61355 C -0.43767 -0.61424 -0.44045 -0.6154 -0.44045 -0.61517 C -0.45729 -0.61471 -0.4743 -0.61517 -0.49114 -0.61355 C -0.49409 -0.61332 -0.49965 -0.60985 -0.49965 -0.60962 C -0.50468 -0.60291 -0.50711 -0.60407 -0.51232 -0.59852 C -0.51979 -0.59042 -0.5243 -0.5777 -0.5309 -0.56845 C -0.53333 -0.55527 -0.53593 -0.54255 -0.53784 -0.52914 C -0.53715 -0.47595 -0.54479 -0.43385 -0.5335 -0.38853 C -0.53107 -0.35985 -0.52916 -0.34135 -0.51232 -0.32285 C -0.50954 -0.31984 -0.50642 -0.31267 -0.50243 -0.31151 C -0.49583 -0.3099 -0.48923 -0.31036 -0.48263 -0.30966 C -0.47187 -0.30643 -0.46423 -0.30342 -0.4559 -0.29278 C -0.4526 -0.27937 -0.45486 -0.28469 -0.45034 -0.2759 C -0.44722 -0.25902 -0.44496 -0.2456 -0.43767 -0.2308 C -0.43611 -0.22756 -0.43576 -0.22317 -0.43489 -0.21947 C -0.43385 -0.21531 -0.42916 -0.20837 -0.42916 -0.20814 C -0.42638 -0.19704 -0.42291 -0.1901 -0.41788 -0.18015 C -0.41006 -0.1642 -0.42326 -0.18409 -0.41371 -0.17067 C -0.4118 -0.16304 -0.40833 -0.15541 -0.40243 -0.15194 C -0.39965 -0.15032 -0.39392 -0.14824 -0.39392 -0.14801 C -0.39253 -0.14708 -0.39131 -0.14546 -0.38975 -0.14454 C -0.38836 -0.14361 -0.3868 -0.14361 -0.38559 -0.14269 C -0.38333 -0.14084 -0.38246 -0.13668 -0.37986 -0.13506 C -0.37743 -0.13321 -0.3743 -0.13274 -0.3717 -0.13136 C -0.37013 -0.13066 -0.36718 -0.12951 -0.36718 -0.12928 C -0.36597 -0.12835 -0.36458 -0.12673 -0.36302 -0.12581 C -0.3618 -0.12488 -0.36024 -0.12488 -0.35885 -0.12396 C -0.35243 -0.1191 -0.34878 -0.11355 -0.34184 -0.11077 C -0.33784 -0.10707 -0.33559 -0.10337 -0.33055 -0.10129 C -0.32239 -0.09412 -0.31493 -0.08603 -0.30694 -0.07886 C -0.30451 -0.07724 -0.30225 -0.07308 -0.29982 -0.07123 C -0.29201 -0.06614 -0.28159 -0.06614 -0.27447 -0.06013 C -0.26631 -0.05319 -0.26388 -0.05273 -0.25468 -0.04879 C -0.25191 -0.04787 -0.24618 -0.04509 -0.24618 -0.04486 C -0.24305 -0.04093 -0.23628 -0.03191 -0.23628 -0.03168 C -0.23871 0.07563 -0.22916 0.03955 -0.33211 0.03747 C -0.34079 0.03354 -0.34566 0.02706 -0.35191 0.01874 C -0.35312 0.01712 -0.35329 0.01457 -0.35468 0.01318 C -0.35729 0.01018 -0.36302 0.00555 -0.36302 0.00578 C -0.37066 -0.00971 -0.36093 0.00856 -0.36996 -0.0037 C -0.37413 -0.00971 -0.37691 -0.01387 -0.38125 -0.01873 C -0.38506 -0.02266 -0.39253 -0.03006 -0.39253 -0.02983 C -0.39739 -0.04047 -0.40364 -0.04463 -0.40972 -0.05273 C -0.41527 -0.06013 -0.42118 -0.07123 -0.42777 -0.07724 C -0.43229 -0.0858 -0.43802 -0.09343 -0.44461 -0.09944 C -0.44704 -0.10407 -0.45017 -0.11054 -0.45312 -0.11447 C -0.46076 -0.12465 -0.45416 -0.11193 -0.46024 -0.12211 C -0.46562 -0.13089 -0.45989 -0.12488 -0.46718 -0.13136 C -0.47447 -0.14593 -0.46493 -0.12835 -0.4743 -0.14084 C -0.47552 -0.14246 -0.47586 -0.14477 -0.47708 -0.14639 C -0.48333 -0.15472 -0.47934 -0.1457 -0.4842 -0.15379 C -0.48975 -0.16304 -0.49496 -0.17183 -0.50243 -0.1783 C -0.50572 -0.18478 -0.50885 -0.18894 -0.51388 -0.19334 C -0.51736 -0.20027 -0.52204 -0.20583 -0.52777 -0.20837 C -0.53107 -0.21461 -0.53229 -0.21716 -0.53784 -0.21947 C -0.54236 -0.22571 -0.54583 -0.23196 -0.55034 -0.2382 C -0.55138 -0.23959 -0.55312 -0.24213 -0.55312 -0.2419 C -0.55572 -0.25231 -0.55572 -0.26133 -0.56024 -0.27012 C -0.56284 -0.28052 -0.56788 -0.28839 -0.57309 -0.29648 C -0.58159 -0.31013 -0.58993 -0.324 -0.60104 -0.33418 C -0.6059 -0.34435 -0.61631 -0.35083 -0.625 -0.35453 C -0.65798 -0.35268 -0.65659 -0.36008 -0.67152 -0.3321 C -0.67204 -0.32909 -0.67291 -0.32608 -0.67291 -0.32285 C -0.67291 -0.29417 -0.67777 -0.23173 -0.65729 -0.20444 C -0.65434 -0.19241 -0.64704 -0.18524 -0.64045 -0.17645 C -0.63923 -0.17484 -0.63888 -0.17229 -0.63767 -0.17067 C -0.63211 -0.1642 -0.62656 -0.16281 -0.62066 -0.15772 C -0.60902 -0.13344 -0.6151 -0.09759 -0.61371 -0.06938 C -0.61423 -0.05573 -0.61284 -0.04163 -0.6151 -0.02821 C -0.61579 -0.02451 -0.62569 -0.01156 -0.63055 -0.01133 C -0.65503 -0.01017 -0.67934 -0.01017 -0.70381 -0.00971 C -0.71076 -0.00717 -0.76267 0.034 -0.76979 0.034 E">
                                      <p:cBhvr>
                                        <p:cTn id="438" dur="30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4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3" descr="анимашка, анимация, собака-клоун держит в зубах шляпу"/>
          <p:cNvPicPr/>
          <p:nvPr/>
        </p:nvPicPr>
        <p:blipFill>
          <a:blip r:embed="rId1"/>
          <a:stretch/>
        </p:blipFill>
        <p:spPr>
          <a:xfrm>
            <a:off x="1571760" y="3000240"/>
            <a:ext cx="2357280" cy="33768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</a:rPr>
              <a:t>Сосчитай, сколько голов поймает  шляпой и отобьёт Шарик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52" name="Picture 11" descr="бегущая собака, анимашка"/>
          <p:cNvPicPr/>
          <p:nvPr/>
        </p:nvPicPr>
        <p:blipFill>
          <a:blip r:embed="rId2"/>
          <a:stretch/>
        </p:blipFill>
        <p:spPr>
          <a:xfrm rot="2663400">
            <a:off x="5148000" y="4797000"/>
            <a:ext cx="1604880" cy="1540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доберман катает мяч, анимашка, анимация"/>
          <p:cNvPicPr/>
          <p:nvPr/>
        </p:nvPicPr>
        <p:blipFill>
          <a:blip r:embed="rId3"/>
          <a:stretch/>
        </p:blipFill>
        <p:spPr>
          <a:xfrm>
            <a:off x="3429000" y="571680"/>
            <a:ext cx="3405240" cy="3929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4"/>
          <a:stretch/>
        </p:blipFill>
        <p:spPr>
          <a:xfrm>
            <a:off x="8910720" y="3284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7380360" y="3132000"/>
            <a:ext cx="223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ш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 ш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5"/>
          <a:stretch/>
        </p:blipFill>
        <p:spPr>
          <a:xfrm>
            <a:off x="9026640" y="39337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6"/>
          <a:stretch/>
        </p:blipFill>
        <p:spPr>
          <a:xfrm>
            <a:off x="9026640" y="4581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7"/>
          <a:stretch/>
        </p:blipFill>
        <p:spPr>
          <a:xfrm>
            <a:off x="9026640" y="5300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8"/>
          <a:stretch/>
        </p:blipFill>
        <p:spPr>
          <a:xfrm>
            <a:off x="9026640" y="59500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9"/>
          <a:stretch/>
        </p:blipFill>
        <p:spPr>
          <a:xfrm>
            <a:off x="9026640" y="6624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3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40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40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4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62" name="Picture 7" descr="черепаха, анимашка"/>
          <p:cNvPicPr/>
          <p:nvPr/>
        </p:nvPicPr>
        <p:blipFill>
          <a:blip r:embed="rId1"/>
          <a:stretch/>
        </p:blipFill>
        <p:spPr>
          <a:xfrm>
            <a:off x="900000" y="3645000"/>
            <a:ext cx="1228680" cy="12096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змея, анимашка"/>
          <p:cNvPicPr/>
          <p:nvPr/>
        </p:nvPicPr>
        <p:blipFill>
          <a:blip r:embed="rId2"/>
          <a:stretch/>
        </p:blipFill>
        <p:spPr>
          <a:xfrm rot="20941200">
            <a:off x="2771280" y="1483920"/>
            <a:ext cx="3137040" cy="171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ползущая змея, анимашка, анимация"/>
          <p:cNvPicPr/>
          <p:nvPr/>
        </p:nvPicPr>
        <p:blipFill>
          <a:blip r:embed="rId3"/>
          <a:stretch/>
        </p:blipFill>
        <p:spPr>
          <a:xfrm rot="819600">
            <a:off x="4758840" y="3715920"/>
            <a:ext cx="4384800" cy="2435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4"/>
          <a:stretch/>
        </p:blipFill>
        <p:spPr>
          <a:xfrm>
            <a:off x="0" y="638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13"/>
          <p:cNvSpPr/>
          <p:nvPr/>
        </p:nvSpPr>
        <p:spPr>
          <a:xfrm>
            <a:off x="3887640" y="0"/>
            <a:ext cx="5256360" cy="1584360"/>
          </a:xfrm>
          <a:prstGeom prst="cloudCallout">
            <a:avLst>
              <a:gd name="adj1" fmla="val -34810"/>
              <a:gd name="adj2" fmla="val 72944"/>
            </a:avLst>
          </a:prstGeom>
          <a:solidFill>
            <a:srgbClr val="ccff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788000" y="0"/>
            <a:ext cx="5761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Ш-Ш-Ш-Ш - мой об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не украдё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нова ты второй придё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5508720" y="2060640"/>
            <a:ext cx="3635280" cy="1584360"/>
          </a:xfrm>
          <a:prstGeom prst="cloudCallout">
            <a:avLst>
              <a:gd name="adj1" fmla="val 10347"/>
              <a:gd name="adj2" fmla="val 97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6012000" y="234936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-Ш-Ш- – шипит зм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бедаю лягушкой 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395280" y="6381720"/>
            <a:ext cx="86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меи на решили пообедать лягушкой. Повтори их разговор и узнаешь, кто побе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1743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744"/>
                            </p:stCondLst>
                            <p:childTnLst>
                              <p:par>
                                <p:cTn id="5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4913 -0.04259 -0.09826 -0.08519 -0.1217 -0.09236 C -0.14514 -0.09954 -0.14635 -0.07083 -0.14097 -0.04282 C -0.13559 -0.01482 -0.11337 0.02176 -0.08958 0.07523 C -0.0658 0.1287 0.00955 0.25069 0.00139 0.2787 C -0.00677 0.30671 -0.11354 0.24792 -0.13837 0.24259 C -0.16319 0.23727 -0.15538 0.24167 -0.14739 0.24606 E">
                                      <p:cBhvr>
                                        <p:cTn id="531" dur="5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C -0.02344 0.05741 -0.0467 0.11482 -0.06806 0.13843 C -0.08906 0.16204 -0.10104 0.14861 -0.12708 0.1419 C -0.15278 0.13519 -0.17517 0.10695 -0.22309 0.09746 C -0.27101 0.08797 -0.36389 0.0882 -0.41406 0.08542 C -0.46424 0.08264 -0.49913 0.10116 -0.52431 0.08033 C -0.54948 0.05949 -0.55816 -0.01944 -0.56528 -0.03935 E">
                                      <p:cBhvr>
                                        <p:cTn id="533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14:24Z</dcterms:created>
  <dc:creator>nach</dc:creator>
  <dc:description/>
  <dc:language>en-US</dc:language>
  <cp:lastModifiedBy>nach</cp:lastModifiedBy>
  <dcterms:modified xsi:type="dcterms:W3CDTF">2011-11-23T10:24:09Z</dcterms:modified>
  <cp:revision>145</cp:revision>
  <dc:subject/>
  <dc:title>Нарисуй путь рыбки,поизнося слоги: ста, сто,сту,сты</dc:title>
</cp:coreProperties>
</file>