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21.jpeg" ContentType="image/jpeg"/>
  <Override PartName="/ppt/media/image2.wmf" ContentType="image/x-wmf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B473-0E44-4C15-94CC-1B5E1341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F8BC-B4B1-4D1F-82E2-1A744CBF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E9FD-A0EF-40F4-89DC-D93DFF3B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95F7-9744-46FC-B0D1-655CB4AE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2E91-2ECA-4016-8218-B6577FD2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2D0E-5380-42B2-8DFA-11D21AD5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4A8C-453D-4253-9FCC-4F751F0A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B1E7-5BB5-4315-83A0-973A8232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F22D-7809-4769-AD0D-51E34CE3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27B2-904D-4A6C-80DB-B80D4674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CCE9-9509-4300-A718-59700A7F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2583-3A8F-4C70-9BC3-6A433231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99F5-22EB-43CA-8EB3-F2C667F4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3960-6977-4187-A3C0-9F2B18F4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891E-CB7D-4987-9E17-A05AC437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DD61-D0DA-49C5-96CD-BA2BDCCC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8958-BCDB-48FB-A2DE-672DD0E0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FEA8-7AE8-4691-B888-996CEFF4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409D-6E6A-427B-85E5-2CCBCCD9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F1A1-EE4E-446B-B4AE-15BF7D78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DBD3-1A01-413B-9DD6-F09C2AA5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A8FA-3465-4123-A72D-B69F3CFA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5683-64FD-415A-86C3-3F66FA26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F8A8-CDE5-4126-BCF3-B51E34B9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969B-2119-45F1-A8AC-C8AC75F525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85A2-B7C5-4D89-AA04-6538A417CDC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apstar.ru/ws/uploads/240_5/240_320_dengi/240_320_dengi_02.jpe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vashidengi.info/photo/60-0-2494" TargetMode="External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mx.ru/images/all_about_money/pictures/wmx_ru_000003.jpg" TargetMode="External"/><Relationship Id="rId3" Type="http://schemas.openxmlformats.org/officeDocument/2006/relationships/image" Target="../media/image27.jpeg"/><Relationship Id="rId4" Type="http://schemas.openxmlformats.org/officeDocument/2006/relationships/hyperlink" Target="http://www.vashidengi.info/photo/21-0-2477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apstar.ru/ws/uploads/240_5/240_320_dengi/240_320_dengi_05.jpe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wmx.ru/images/all_about_money/pictures/wmx_ru_000009.jpg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apstar.ru/ws/uploads/240_5/240_320_dengi/240_320_dengi_05.jpe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691920"/>
            <a:ext cx="5904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b7"/>
                </a:solidFill>
                <a:latin typeface="Arial Black"/>
              </a:rPr>
              <a:t>Что такое деньги?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932360" y="3716280"/>
            <a:ext cx="3935520" cy="2808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9640" y="549432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: Кудымова Г.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СОШ №:6 г Томмо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В разных странах сейчас используются различные денежные единицы. В России это рубль.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2736720" cy="2374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492360" y="2781360"/>
            <a:ext cx="2737080" cy="2808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867280" y="4724280"/>
            <a:ext cx="2952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Деньги Соединенных Штатов Америки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                   Доллар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" descr="Картинки 240х3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060640"/>
            <a:ext cx="2737080" cy="3313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85080" y="260280"/>
            <a:ext cx="952560" cy="838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611280" y="1989000"/>
            <a:ext cx="4546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Во многих странах Европы действует единая денежная единица – евро.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00720" y="2060640"/>
            <a:ext cx="3743280" cy="2311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900000" y="3716280"/>
            <a:ext cx="374328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Большинство людей во всех странах получают деньги в качестве заработной платы за работу. Часть денег человек тратит на насущные нужды, а часть денег может отложить на будущее. Это сбережения.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508720" y="3716280"/>
            <a:ext cx="2663640" cy="2952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Увеличить изображение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3789360"/>
            <a:ext cx="2736720" cy="28670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92360" y="260280"/>
            <a:ext cx="2232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ункции денег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71280" y="2276640"/>
            <a:ext cx="393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ра стоим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ство обращ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ство платеж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ство накопл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ровые деньг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732720" y="4365720"/>
            <a:ext cx="2087280" cy="2087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796000" y="3141720"/>
            <a:ext cx="2219400" cy="2022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003640" y="2205000"/>
            <a:ext cx="209880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Comic Sans MS"/>
              </a:rPr>
              <a:t>          </a:t>
            </a:r>
            <a:r>
              <a:rPr b="1" lang="ru-RU" sz="4400" spc="-1" strike="noStrike">
                <a:solidFill>
                  <a:srgbClr val="ffffb7"/>
                </a:solidFill>
                <a:latin typeface="Comic Sans MS"/>
              </a:rPr>
              <a:t>Проверь себя!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Arial"/>
              </a:rPr>
              <a:t>Что такое деньг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Arial"/>
              </a:rPr>
              <a:t>Какие денежные единицы ты знаеш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Arial"/>
              </a:rPr>
              <a:t>Что такое заработная плат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Arial"/>
              </a:rPr>
              <a:t>Придумай свой вопрос по этой тем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51280" y="5300640"/>
            <a:ext cx="183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Несколько тысяч лет назад люди не знали, что такое деньги. Люди просто обменивались друг с другом различными предметами.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Например: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9640" y="3645000"/>
            <a:ext cx="2533680" cy="1800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476360" y="270828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  корова      =        3    зайца         =             4      кувш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564000" y="2997360"/>
            <a:ext cx="1819080" cy="1668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492360" y="3933720"/>
            <a:ext cx="1819440" cy="1668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643280" y="3068640"/>
            <a:ext cx="1819440" cy="1668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7164360" y="3357720"/>
            <a:ext cx="549360" cy="1069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7451640" y="3716280"/>
            <a:ext cx="549360" cy="1069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7812000" y="4005360"/>
            <a:ext cx="549360" cy="1069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8172360" y="4365720"/>
            <a:ext cx="54936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 Black"/>
              </a:rPr>
              <a:t>Чтобы упростить обмен, люди придумали деньги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ими их первых денег были ракушки кау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050920" y="299736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иды денег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7056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разных странах роль денег выполняли разные товары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ко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а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ушнин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лагородные металл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ценные ракушки – каур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omic Sans MS"/>
              </a:rPr>
              <a:t>Самыми удобными оказались металлические деньги. Можно было чеканить монеты любой стоимости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Картинки 240х3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2997360"/>
            <a:ext cx="2663640" cy="3527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564000" y="1916280"/>
            <a:ext cx="2158920" cy="2736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Увеличить изображение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64000" y="3068640"/>
            <a:ext cx="252108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66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У металлических денег всё же оказался важный недостаток :они тяжелы и занимают много места. Люди придумали выход: золото передавали на хранение в банк, а вместо него брали с собой в дорогу бумажные расписки на это золото. Так впервые появились на свет бумажные деньги.</a:t>
            </a:r>
            <a:br>
              <a:rPr sz="2400"/>
            </a:b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19280" y="3141720"/>
            <a:ext cx="6048360" cy="2374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5805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В России первый выпуск бумажных денег, которые получили название «ассигнаций», произошел в 1769 году по приказу Екатерины II (поэтому неофициально они назывались «екатеринками»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 Black"/>
              </a:rPr>
              <a:t>Такой обмен, в котором участвуют </a:t>
            </a:r>
            <a:r>
              <a:rPr b="1" i="1" lang="ru-RU" sz="2400" spc="-1" strike="noStrike">
                <a:solidFill>
                  <a:srgbClr val="ffff66"/>
                </a:solidFill>
                <a:latin typeface="Arial Black"/>
              </a:rPr>
              <a:t>деньги</a:t>
            </a:r>
            <a:r>
              <a:rPr b="1" lang="ru-RU" sz="2400" spc="-1" strike="noStrike">
                <a:solidFill>
                  <a:srgbClr val="ffff66"/>
                </a:solidFill>
                <a:latin typeface="Arial Black"/>
              </a:rPr>
              <a:t>, называется </a:t>
            </a:r>
            <a:r>
              <a:rPr b="1" lang="ru-RU" sz="2400" spc="-1" strike="noStrike">
                <a:solidFill>
                  <a:srgbClr val="ff0066"/>
                </a:solidFill>
                <a:latin typeface="Arial Black"/>
              </a:rPr>
              <a:t>купля-продажа</a:t>
            </a:r>
            <a:r>
              <a:rPr b="1" lang="ru-RU" sz="2400" spc="-1" strike="noStrike">
                <a:solidFill>
                  <a:srgbClr val="ffff66"/>
                </a:solidFill>
                <a:latin typeface="Arial Black"/>
              </a:rPr>
              <a:t>. Купить или продать товар- это значит обменять его на какое-то количество денег.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2592360" cy="2305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87720" y="2637000"/>
            <a:ext cx="20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=150 ру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71640" y="4437000"/>
            <a:ext cx="2520720" cy="1944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987720" y="5291280"/>
            <a:ext cx="16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=100 ру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Деньги – особый товар, который можно обменять на любые другие товары и услуги.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" descr="Картинки 240х3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1628640"/>
            <a:ext cx="3095640" cy="1944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H="1">
            <a:off x="2410920" y="3860640"/>
            <a:ext cx="57636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378936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80000" y="3789360"/>
            <a:ext cx="720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971640" y="4653000"/>
            <a:ext cx="1439640" cy="1297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635280" y="4653000"/>
            <a:ext cx="1368360" cy="1297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6227640" y="4653000"/>
            <a:ext cx="1440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Есть еще обмен без участия денег – </a:t>
            </a:r>
            <a:r>
              <a:rPr b="1" i="1" lang="ru-RU" sz="2400" spc="-1" strike="noStrike">
                <a:solidFill>
                  <a:srgbClr val="ff3300"/>
                </a:solidFill>
                <a:latin typeface="Arial Black"/>
              </a:rPr>
              <a:t>бартер.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182520" y="1341360"/>
            <a:ext cx="877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Бартер — сложный и не очень удобный прямой обмен одних товаров на друг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79640" y="2997360"/>
            <a:ext cx="1368360" cy="1541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651640" y="3068640"/>
            <a:ext cx="1584360" cy="1512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708360" y="335772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708000" y="414972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1-23T09:26:25Z</dcterms:modified>
  <cp:revision>18</cp:revision>
  <dc:subject/>
  <dc:title>PowerPoint Presentation</dc:title>
</cp:coreProperties>
</file>