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9.jpeg" ContentType="image/jpeg"/>
  <Override PartName="/ppt/media/image11.wmf" ContentType="image/x-wmf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533F-E18C-434A-AADA-C4360BB42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1DDC-6834-4C8B-BFCD-487CADB9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D313-69C7-411B-A1AF-240DD5739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5711-8EF9-4DB9-BA52-1D50927EF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C238-893F-4011-97A8-483B74660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3450-7299-4358-BBB6-C6DDA1AB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B048-0092-47E7-AF6C-D6454250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7123-D2D8-40D1-8E46-A8309D05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AA55-CAEF-45B5-9261-1FB7E832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0D29-436D-4E3C-BCF6-2FF3A2E6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7D33-5322-42A8-A641-3E5D32FE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79C7-FB19-42F0-8856-DC01C794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B605-9844-4B25-AF98-765589FB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07FA-5197-4C9B-88A1-11AE8463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4B78-CCCD-4FE5-B92F-2B6FAE19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1313-745F-4E3B-98A3-BB1965600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F9AB-A7CD-4081-9F4E-59EC30DF0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C043-D2C4-4550-A6E0-08E866DE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7A52-386A-402D-ABB0-745F53B2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98C0-0F99-4419-BF82-38C5C641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3A32-67C3-49C9-9D4B-BB741C3E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811C-3355-4053-824D-8E7F2CC3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5A0E-B20A-4411-A703-1CEFE60E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76D0-A666-43F2-B5EF-7DFBC4F8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4F36-A016-4C29-B50E-9438383C1A4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8B8C-1A0D-4154-8249-FE1045DF7D4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68360" y="260280"/>
            <a:ext cx="8207280" cy="204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я родина - Россия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79280" y="2349360"/>
            <a:ext cx="46497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юблю тебя, моя Россия,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835280" y="3716280"/>
            <a:ext cx="50385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 ясный свет твоих очей,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42920" y="3068640"/>
            <a:ext cx="54896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 голос звонкий, как ручей.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771640" y="4437000"/>
            <a:ext cx="561024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юблю все то, что называют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00000" y="4869000"/>
            <a:ext cx="799308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дним широким словом РУСЬ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520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908000" y="0"/>
            <a:ext cx="532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68360" y="260280"/>
            <a:ext cx="7848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ш адрес-Россия</a:t>
            </a:r>
            <a:endParaRPr b="0" lang="en-US" sz="1800" spc="1" strike="noStrike">
              <a:ln w="19080">
                <a:solidFill>
                  <a:srgbClr val="000099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962000"/>
            <a:ext cx="9144000" cy="4707000"/>
          </a:xfrm>
          <a:prstGeom prst="vertic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55640" y="2565360"/>
            <a:ext cx="75391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, Россия,с нелегкой судьбою страна,</a:t>
            </a:r>
            <a:endParaRPr b="0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55640" y="3429000"/>
            <a:ext cx="73454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 меня ты, Россия, как сердце, одна,</a:t>
            </a:r>
            <a:endParaRPr b="0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26920" y="3284640"/>
            <a:ext cx="76345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я другу скажу, я скажу и врагу-</a:t>
            </a:r>
            <a:endParaRPr b="0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26920" y="4221000"/>
            <a:ext cx="626616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ез тебя,как без сердца,</a:t>
            </a:r>
            <a:endParaRPr b="0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635280" y="5877000"/>
            <a:ext cx="47530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я прожить не смогу.</a:t>
            </a:r>
            <a:endParaRPr b="0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7000"/>
                            </p:stCondLst>
                            <p:childTnLst>
                              <p:par>
                                <p:cTn id="3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148360" y="0"/>
            <a:ext cx="3995640" cy="6165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179280" y="-316080"/>
            <a:ext cx="4753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нституция - 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новной закон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сударства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9280" y="1773360"/>
            <a:ext cx="4824360" cy="40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нь принятия конститу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ссийской Федера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16000" y="2060640"/>
            <a:ext cx="338472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 декабря -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258920" y="-243000"/>
            <a:ext cx="626580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ституция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ссийской Федерации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Document"/>
          <p:cNvSpPr/>
          <p:nvPr/>
        </p:nvSpPr>
        <p:spPr>
          <a:xfrm>
            <a:off x="468360" y="2133720"/>
            <a:ext cx="2448000" cy="2447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Document"/>
          <p:cNvSpPr/>
          <p:nvPr/>
        </p:nvSpPr>
        <p:spPr>
          <a:xfrm>
            <a:off x="6300720" y="2133720"/>
            <a:ext cx="2303640" cy="245736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3492360" y="3357720"/>
            <a:ext cx="2305080" cy="2520720"/>
          </a:xfrm>
          <a:prstGeom prst="pi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4360" y="1557360"/>
            <a:ext cx="215892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станавливае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708360" y="2205000"/>
            <a:ext cx="19432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арантируе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588000" y="1197000"/>
            <a:ext cx="194472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бязывае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932360" y="1773360"/>
            <a:ext cx="37432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32360" y="3068640"/>
            <a:ext cx="3743280" cy="1368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4437000"/>
            <a:ext cx="3743280" cy="1297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55640" y="-458640"/>
            <a:ext cx="79916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осударственный флаг России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989000"/>
            <a:ext cx="442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елый 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вет вечности,чистот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4653000"/>
            <a:ext cx="4680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асный-</a:t>
            </a:r>
            <a:endParaRPr b="0" lang="en-US" sz="18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вет энергии,силы.</a:t>
            </a:r>
            <a:endParaRPr b="0" lang="en-US" sz="18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50920" y="3213000"/>
            <a:ext cx="460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ний-</a:t>
            </a:r>
            <a:endParaRPr b="1" lang="en-US" sz="1800" spc="1" strike="noStrike">
              <a:ln w="0">
                <a:noFill/>
              </a:ln>
              <a:solidFill>
                <a:srgbClr val="3333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вет веры в постоянство</a:t>
            </a:r>
            <a:endParaRPr b="1" lang="en-US" sz="1800" spc="1" strike="noStrike">
              <a:ln w="0">
                <a:noFill/>
              </a:ln>
              <a:solidFill>
                <a:srgbClr val="3333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95280" y="-458640"/>
            <a:ext cx="828036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сударственный герб Росс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4608360" cy="5300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6084720" y="1341360"/>
            <a:ext cx="2159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d6009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3333ff"/>
                </a:solidFill>
                <a:miter/>
              </a:ln>
              <a:solidFill>
                <a:srgbClr val="d6009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d6009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мвол</a:t>
            </a:r>
            <a:endParaRPr b="0" lang="en-US" sz="1800" spc="1" strike="noStrike">
              <a:ln w="9360">
                <a:solidFill>
                  <a:srgbClr val="3333ff"/>
                </a:solidFill>
                <a:miter/>
              </a:ln>
              <a:solidFill>
                <a:srgbClr val="d6009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651640" y="2708280"/>
            <a:ext cx="3095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d6009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3333ff"/>
                </a:solidFill>
                <a:miter/>
              </a:ln>
              <a:solidFill>
                <a:srgbClr val="d6009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d6009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ссийской</a:t>
            </a:r>
            <a:endParaRPr b="0" lang="en-US" sz="1800" spc="1" strike="noStrike">
              <a:ln w="9360">
                <a:solidFill>
                  <a:srgbClr val="3333ff"/>
                </a:solidFill>
                <a:miter/>
              </a:ln>
              <a:solidFill>
                <a:srgbClr val="d6009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651640" y="3933720"/>
            <a:ext cx="3241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d6009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3333ff"/>
                </a:solidFill>
                <a:miter/>
              </a:ln>
              <a:solidFill>
                <a:srgbClr val="d6009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d6009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едерации</a:t>
            </a:r>
            <a:endParaRPr b="0" lang="en-US" sz="1800" spc="1" strike="noStrike">
              <a:ln w="9360">
                <a:solidFill>
                  <a:srgbClr val="3333ff"/>
                </a:solidFill>
                <a:miter/>
              </a:ln>
              <a:solidFill>
                <a:srgbClr val="d6009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164360" y="0"/>
            <a:ext cx="1728720" cy="1989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250920" y="-316080"/>
            <a:ext cx="6697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6600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6600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6600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 е р б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6600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6600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ссийской Федерации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6600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2205000"/>
            <a:ext cx="3024000" cy="1143000"/>
          </a:xfrm>
          <a:prstGeom prst="horizontalScroll">
            <a:avLst>
              <a:gd name="adj" fmla="val 125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27280" y="3284640"/>
            <a:ext cx="3816360" cy="1439640"/>
          </a:xfrm>
          <a:prstGeom prst="horizontalScroll">
            <a:avLst>
              <a:gd name="adj" fmla="val 125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51640" y="2060640"/>
            <a:ext cx="3024000" cy="1143000"/>
          </a:xfrm>
          <a:prstGeom prst="horizontalScroll">
            <a:avLst>
              <a:gd name="adj" fmla="val 125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4941720"/>
            <a:ext cx="3024000" cy="1143000"/>
          </a:xfrm>
          <a:prstGeom prst="horizontalScroll">
            <a:avLst>
              <a:gd name="adj" fmla="val 125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80000" y="4869000"/>
            <a:ext cx="3024360" cy="1143000"/>
          </a:xfrm>
          <a:prstGeom prst="horizontalScroll">
            <a:avLst>
              <a:gd name="adj" fmla="val 125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16000" y="2492280"/>
            <a:ext cx="1871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ла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227640" y="2349360"/>
            <a:ext cx="2159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щь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4360" y="5229360"/>
            <a:ext cx="233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динство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5157720"/>
            <a:ext cx="2533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уверенит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987640" y="2924280"/>
            <a:ext cx="331308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зависим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6000"/>
                            </p:stCondLst>
                            <p:childTnLst>
                              <p:par>
                                <p:cTn id="2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971640" y="-316080"/>
            <a:ext cx="727236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сударственный гим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ссийской Федера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2133720"/>
            <a:ext cx="856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это хоровая песнь торжественного характера</a:t>
            </a:r>
            <a:endParaRPr b="0" lang="en-US" sz="28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50920" y="3213000"/>
            <a:ext cx="8497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это символ государственного единства</a:t>
            </a:r>
            <a:endParaRPr b="0" lang="en-US" sz="28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50920" y="4292640"/>
            <a:ext cx="8640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это олицетворение патриотизма,</a:t>
            </a:r>
            <a:endParaRPr b="0" lang="en-US" sz="28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2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важения к истории страны</a:t>
            </a:r>
            <a:endParaRPr b="0" lang="en-US" sz="28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8000"/>
                            </p:stCondLst>
                            <p:childTnLst>
                              <p:par>
                                <p:cTn id="26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5292720" cy="4753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250920" y="189000"/>
            <a:ext cx="8569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 о с с и я</a:t>
            </a:r>
            <a:endParaRPr b="0" lang="en-US" sz="4000" spc="1" strike="noStrike">
              <a:ln w="12600">
                <a:solidFill>
                  <a:srgbClr val="cc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867280" y="907920"/>
            <a:ext cx="266544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ff99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ольшая</a:t>
            </a:r>
            <a:endParaRPr b="0" lang="en-US" sz="1800" spc="1" strike="noStrike">
              <a:ln w="0">
                <a:noFill/>
              </a:ln>
              <a:solidFill>
                <a:srgbClr val="ff99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867280" y="2924280"/>
            <a:ext cx="2737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брая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651640" y="4076640"/>
            <a:ext cx="302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льная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435640" y="5157720"/>
            <a:ext cx="3529080" cy="7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99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асивая</a:t>
            </a:r>
            <a:endParaRPr b="0" lang="en-US" sz="1800" spc="1" strike="noStrike">
              <a:ln w="9360">
                <a:solidFill>
                  <a:srgbClr val="cc3399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000"/>
                            </p:stCondLst>
                            <p:childTnLst>
                              <p:par>
                                <p:cTn id="29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0"/>
                            </p:stCondLst>
                            <p:childTnLst>
                              <p:par>
                                <p:cTn id="29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07:36:42Z</dcterms:created>
  <dc:creator>2</dc:creator>
  <dc:description/>
  <dc:language>en-US</dc:language>
  <cp:lastModifiedBy>Admin</cp:lastModifiedBy>
  <dcterms:modified xsi:type="dcterms:W3CDTF">2010-11-22T13:21:31Z</dcterms:modified>
  <cp:revision>17</cp:revision>
  <dc:subject/>
  <dc:title>Слайд 1</dc:title>
</cp:coreProperties>
</file>