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631F-C5B5-4C3E-AEE2-D01303F0A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1142-ACA4-47E1-BBDC-9B87E6B0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C197-A27E-4505-A5A8-B1EBA7C06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9CA9-542F-437F-9BE0-D2E0EE40A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684A-6106-4E45-9FA5-BE0F6F57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2A84-9B86-46A7-9CA6-E6388C47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4379-ADFE-4965-9D63-22E1CD41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918F-DC41-49F9-9361-9F6471CA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23DA-288C-4A4B-AD87-CFDE1EED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9EF4-0F9C-4538-B9D9-EF9B863C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7372-C4D5-4E81-951D-2E2DA6B1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BFA7-A237-4E1A-990A-B47FD960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69F2-DDCC-4377-9968-527501203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00200" y="2590920"/>
            <a:ext cx="60958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66"/>
                    </a:gs>
                    <a:gs pos="50000">
                      <a:srgbClr val="800000"/>
                    </a:gs>
                    <a:gs pos="100000">
                      <a:srgbClr val="ffff66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4c0000"/>
                  </a:outerShdw>
                </a:effectLst>
                <a:latin typeface="Cambria"/>
              </a:rPr>
              <a:t>Die Hausarbeit 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ffff66"/>
                  </a:gs>
                  <a:gs pos="50000">
                    <a:srgbClr val="800000"/>
                  </a:gs>
                  <a:gs pos="100000">
                    <a:srgbClr val="ffff66"/>
                  </a:gs>
                </a:gsLst>
                <a:lin ang="8100000"/>
              </a:gradFill>
              <a:effectLst>
                <a:outerShdw dist="17819" dir="2700000" blurRad="0" rotWithShape="0">
                  <a:srgbClr val="4c0000"/>
                </a:outerShdw>
              </a:effectLst>
              <a:latin typeface="Cambria"/>
              <a:ea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66"/>
                    </a:gs>
                    <a:gs pos="50000">
                      <a:srgbClr val="800000"/>
                    </a:gs>
                    <a:gs pos="100000">
                      <a:srgbClr val="ffff66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4c0000"/>
                  </a:outerShdw>
                </a:effectLst>
                <a:latin typeface="Cambria"/>
              </a:rPr>
              <a:t>bei Richters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ffff66"/>
                  </a:gs>
                  <a:gs pos="50000">
                    <a:srgbClr val="800000"/>
                  </a:gs>
                  <a:gs pos="100000">
                    <a:srgbClr val="ffff66"/>
                  </a:gs>
                </a:gsLst>
                <a:lin ang="8100000"/>
              </a:gradFill>
              <a:effectLst>
                <a:outerShdw dist="17819" dir="2700000" blurRad="0" rotWithShape="0">
                  <a:srgbClr val="4c0000"/>
                </a:outerShdw>
              </a:effectLst>
              <a:latin typeface="Cambria"/>
              <a:ea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990360" y="1218960"/>
            <a:ext cx="6629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00"/>
                </a:solidFill>
                <a:latin typeface="Arial"/>
              </a:rPr>
              <a:t>einkaufen ge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00"/>
                </a:solidFill>
                <a:latin typeface="Arial"/>
              </a:rPr>
              <a:t>das Essen zuberei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00"/>
                </a:solidFill>
                <a:latin typeface="Arial"/>
              </a:rPr>
              <a:t>sauber mac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00"/>
                </a:solidFill>
                <a:latin typeface="Arial"/>
              </a:rPr>
              <a:t>Blumen pflanz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00"/>
                </a:solidFill>
                <a:latin typeface="Arial"/>
              </a:rPr>
              <a:t>Blumen gieß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00"/>
                </a:solidFill>
                <a:latin typeface="Arial"/>
              </a:rPr>
              <a:t>das Geschirr wasc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00"/>
                </a:solidFill>
                <a:latin typeface="Arial"/>
              </a:rPr>
              <a:t>den Müll hinaustra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00"/>
                </a:solidFill>
                <a:latin typeface="Arial"/>
              </a:rPr>
              <a:t>Beete mac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162920" y="4724280"/>
            <a:ext cx="1752480" cy="14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14532" t="11252" r="32266" b="11252"/>
          <a:stretch/>
        </p:blipFill>
        <p:spPr>
          <a:xfrm>
            <a:off x="7162920" y="1600200"/>
            <a:ext cx="1633320" cy="2057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 rot="19819800">
            <a:off x="304560" y="3047760"/>
            <a:ext cx="2198520" cy="83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81e00"/>
                  </a:outerShdw>
                </a:effectLst>
                <a:latin typeface="Candara"/>
              </a:rPr>
              <a:t>Was bedeuten </a:t>
            </a:r>
            <a:endParaRPr b="1" i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981e00"/>
                </a:outerShdw>
              </a:effectLst>
              <a:latin typeface="Candara"/>
              <a:ea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81e00"/>
                  </a:outerShdw>
                </a:effectLst>
                <a:latin typeface="Candara"/>
              </a:rPr>
              <a:t>diese Wörter?</a:t>
            </a:r>
            <a:endParaRPr b="1" i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981e00"/>
                </a:outerShdw>
              </a:effectLst>
              <a:latin typeface="Candara"/>
              <a:ea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90360" y="1218960"/>
            <a:ext cx="6629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00"/>
                </a:solidFill>
                <a:latin typeface="Arial"/>
              </a:rPr>
              <a:t>Spaß mach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00"/>
                </a:solidFill>
                <a:latin typeface="Arial"/>
              </a:rPr>
              <a:t>die Arbeit tei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00"/>
                </a:solidFill>
                <a:latin typeface="Arial"/>
              </a:rPr>
              <a:t>die Fenster putz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00"/>
                </a:solidFill>
                <a:latin typeface="Arial"/>
              </a:rPr>
              <a:t>Ordnung mac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00"/>
                </a:solidFill>
                <a:latin typeface="Arial"/>
              </a:rPr>
              <a:t>das Auto wasc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00"/>
                </a:solidFill>
                <a:latin typeface="Arial"/>
              </a:rPr>
              <a:t>Wasser bri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00"/>
                </a:solidFill>
                <a:latin typeface="Arial"/>
              </a:rPr>
              <a:t>das Reinemac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00"/>
                </a:solidFill>
                <a:latin typeface="Arial"/>
              </a:rPr>
              <a:t>das Reinemachen mac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1693800" cy="1776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781680" y="4038480"/>
            <a:ext cx="2094120" cy="1606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3581280"/>
            <a:ext cx="1636560" cy="2313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086600" y="1676520"/>
            <a:ext cx="16574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90360" y="1218960"/>
            <a:ext cx="6629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Идти за покуп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Готовить е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убир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Сажать цве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Поливать цве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Мыть посу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Выносить мус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Делать гряд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04920" y="4724280"/>
            <a:ext cx="1752480" cy="1440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rcRect l="14532" t="11252" r="32266" b="11252"/>
          <a:stretch/>
        </p:blipFill>
        <p:spPr>
          <a:xfrm>
            <a:off x="6934320" y="2819520"/>
            <a:ext cx="1633320" cy="2057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 rot="19819800">
            <a:off x="304920" y="2971440"/>
            <a:ext cx="2530440" cy="8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81e00"/>
                  </a:outerShdw>
                </a:effectLst>
                <a:latin typeface="Candara"/>
              </a:rPr>
              <a:t>Was bedeuten </a:t>
            </a:r>
            <a:endParaRPr b="1" i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981e00"/>
                </a:outerShdw>
              </a:effectLst>
              <a:latin typeface="Candara"/>
              <a:ea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81e00"/>
                  </a:outerShdw>
                </a:effectLst>
                <a:latin typeface="Candara"/>
              </a:rPr>
              <a:t>diese Wörter?</a:t>
            </a:r>
            <a:endParaRPr b="1" i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981e00"/>
                </a:outerShdw>
              </a:effectLst>
              <a:latin typeface="Candara"/>
              <a:ea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371240" y="1295280"/>
            <a:ext cx="662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Доставлять удовольствие</a:t>
            </a:r>
            <a:r>
              <a:rPr b="1" lang="de-DE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Распределять раб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Чистить ок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Наводить поряд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Мыть маши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Приносить в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убо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Делать убор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1694160" cy="1776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705720" y="4648320"/>
            <a:ext cx="2093760" cy="1606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762120" y="3733920"/>
            <a:ext cx="1636560" cy="2313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7010280" y="2362320"/>
            <a:ext cx="16574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9880" y="3124080"/>
            <a:ext cx="1524240" cy="144792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miter/>
          </a:ln>
          <a:effectLst>
            <a:outerShdw dist="17819" dir="2700000" blurRad="0" rotWithShape="0">
              <a:srgbClr val="4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80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05720" y="3276720"/>
            <a:ext cx="1981080" cy="7617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0000"/>
                </a:solidFill>
                <a:latin typeface="Arial"/>
              </a:rPr>
              <a:t>Die Mäd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1600200"/>
            <a:ext cx="1524240" cy="7621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0000"/>
                </a:solidFill>
                <a:latin typeface="Arial"/>
              </a:rPr>
              <a:t>Ra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1600200"/>
            <a:ext cx="1524240" cy="7621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0000"/>
                </a:solidFill>
                <a:latin typeface="Arial"/>
              </a:rPr>
              <a:t>Der V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3200400"/>
            <a:ext cx="1752480" cy="8380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0000"/>
                </a:solidFill>
                <a:latin typeface="Arial"/>
              </a:rPr>
              <a:t>Die Mu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5880" y="5334120"/>
            <a:ext cx="2362320" cy="7617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0000"/>
                </a:solidFill>
                <a:latin typeface="Arial"/>
              </a:rPr>
              <a:t>Die Großmu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5257800"/>
            <a:ext cx="2209680" cy="7621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0000"/>
                </a:solidFill>
                <a:latin typeface="Arial"/>
              </a:rPr>
              <a:t>Der Großv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590920" y="4267080"/>
            <a:ext cx="1295280" cy="9907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4343400"/>
            <a:ext cx="1219320" cy="9907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3581280" y="2362320"/>
            <a:ext cx="533520" cy="838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105520" y="2361960"/>
            <a:ext cx="761760" cy="9903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3733920"/>
            <a:ext cx="12952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285640" y="3733920"/>
            <a:ext cx="15238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352680" y="4952880"/>
            <a:ext cx="2286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81e00"/>
                  </a:outerShdw>
                </a:effectLst>
                <a:latin typeface="Candara"/>
              </a:rPr>
              <a:t>Erzählt über</a:t>
            </a:r>
            <a:endParaRPr b="1" i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981e00"/>
                </a:outerShdw>
              </a:effectLst>
              <a:latin typeface="Candara"/>
              <a:ea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81e00"/>
                  </a:outerShdw>
                </a:effectLst>
                <a:latin typeface="Candara"/>
              </a:rPr>
              <a:t>die Hausarbeit </a:t>
            </a:r>
            <a:endParaRPr b="1" i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981e00"/>
                </a:outerShdw>
              </a:effectLst>
              <a:latin typeface="Candara"/>
              <a:ea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81e00"/>
                  </a:outerShdw>
                </a:effectLst>
                <a:latin typeface="Candara"/>
              </a:rPr>
              <a:t>bei Richters</a:t>
            </a:r>
            <a:endParaRPr b="1" i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981e00"/>
                </a:outerShdw>
              </a:effectLst>
              <a:latin typeface="Candara"/>
              <a:ea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елова</cp:lastModifiedBy>
  <dcterms:modified xsi:type="dcterms:W3CDTF">2012-02-24T08:34:27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