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59B-AE8E-4837-88D7-91A018D2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B76-D2BA-4DE2-B195-BD0C937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9FD-12B7-4CEE-BBC6-B934207D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865-BA98-4DD9-BC6A-539D22E7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A8FD-040B-4EA4-B39A-C7F9A4F1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C4C-FDD9-4D86-BD39-7EA2654C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6C9F-4000-46C1-AFF4-F172B1CB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A37E-FBD6-42A2-A206-A0E4D62F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223B-33D9-4570-B187-E3FC82F4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FB2B-A20A-4C51-A4D4-2FCA9289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82F8-55A0-4947-90AE-1CB1B390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A4B-EDC7-4772-8B0B-4F52868B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9519-4E9B-433F-A462-CB99FA18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DC2D-AEF6-4A41-A42F-00E7488B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3124-5359-447D-9276-95D41C5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BD5C-7BCB-4686-BB6A-51D2D67F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F031-4C3C-4941-8A0E-AE198839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9F3-5F16-43C6-90D5-04BBBF9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527-A8CC-47B7-922A-EEB31EEF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DDA-BB34-4984-8945-B09AE028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FA6-794B-4430-9F02-6CAA04E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35D-6026-4E6C-8241-A71E24C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E0F-2BFD-470B-A6F5-C0D9DE6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54D-46F0-469D-8223-3F7A46E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Prin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D48-22B1-456A-87A1-BC42FEF1579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Print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Prin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9DC2-402D-4B29-9627-FF73B3B3BE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981840" cy="1299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dbbd71"/>
                </a:solidFill>
                <a:latin typeface="Brush Script Std"/>
              </a:rPr>
              <a:t>А.С. Пушкин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23560" y="4292640"/>
            <a:ext cx="326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ahoma"/>
              </a:rPr>
              <a:t>Детство</a:t>
            </a:r>
            <a:endParaRPr b="0" lang="en-US" sz="4000" spc="-1" strike="noStrike">
              <a:solidFill>
                <a:srgbClr val="ffffff"/>
              </a:solidFill>
              <a:latin typeface="Segoe Pri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ahoma"/>
              </a:rPr>
              <a:t>Лицей</a:t>
            </a:r>
            <a:endParaRPr b="0" lang="en-US" sz="4000" spc="-1" strike="noStrike">
              <a:solidFill>
                <a:srgbClr val="ffffff"/>
              </a:solidFill>
              <a:latin typeface="Segoe Pri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ahoma"/>
              </a:rPr>
              <a:t>(1799 – 1817)</a:t>
            </a:r>
            <a:endParaRPr b="0" lang="en-US" sz="40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Print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755640" y="1773360"/>
          <a:ext cx="295272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2952720" cy="4686120"/>
                  </a:xfrm>
                  <a:prstGeom prst="rect">
                    <a:avLst/>
                  </a:prstGeom>
                  <a:ln w="57240">
                    <a:solidFill>
                      <a:srgbClr val="808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Monotype Corsiva"/>
              </a:rPr>
              <a:t>Из воспоминаний И. Пущи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2232360"/>
          </a:xfrm>
          <a:prstGeom prst="rect">
            <a:avLst/>
          </a:prstGeom>
          <a:solidFill>
            <a:srgbClr val="ddbf4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Monotype Corsiva"/>
              </a:rPr>
              <a:t>«Жизнь наша лицейская сливается с политической эпохой народной жизни русской: приготовляется гроза 12 года. Эти события сильно отразились на нашем детстве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50920" y="3429000"/>
            <a:ext cx="8675640" cy="35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 помните: текла за ратью рать,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 старшими мы братьями прощались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в сень наук с досадой возвращались,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видуя тому , кто умирать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ел мимо нас…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«Воспоминания в Царском Селе»)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Смуглый отрок бродил по аллея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У озерных грустил берегов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И столетия мы лелее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Еле слышный  шелест шагов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А. Ахмат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PC110187_0"/>
          <p:cNvPicPr/>
          <p:nvPr/>
        </p:nvPicPr>
        <p:blipFill>
          <a:blip r:embed="rId1"/>
          <a:stretch/>
        </p:blipFill>
        <p:spPr>
          <a:xfrm>
            <a:off x="6516720" y="3213000"/>
            <a:ext cx="2462040" cy="321336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85" name="Text Box 7"/>
          <p:cNvSpPr/>
          <p:nvPr/>
        </p:nvSpPr>
        <p:spPr>
          <a:xfrm>
            <a:off x="250920" y="3141720"/>
            <a:ext cx="59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dbf4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В 1814 году в журнале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«Вестник Европы»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было напечатано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первое стихотворение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«К другу стихотворцу»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24000" y="33336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Я лирных звуков наслажденье</a:t>
            </a:r>
            <a:endParaRPr b="0" lang="en-US" sz="5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Младенцем чувствовать умел,</a:t>
            </a:r>
            <a:endParaRPr b="0" lang="en-US" sz="5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И лира стала мой удел.</a:t>
            </a:r>
            <a:endParaRPr b="0" lang="en-US" sz="54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PC110149_0"/>
          <p:cNvPicPr/>
          <p:nvPr/>
        </p:nvPicPr>
        <p:blipFill>
          <a:blip r:embed="rId1"/>
          <a:stretch/>
        </p:blipFill>
        <p:spPr>
          <a:xfrm>
            <a:off x="468360" y="1434960"/>
            <a:ext cx="8028000" cy="54230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88" name="Text Box 6"/>
          <p:cNvSpPr/>
          <p:nvPr/>
        </p:nvSpPr>
        <p:spPr>
          <a:xfrm>
            <a:off x="1042920" y="0"/>
            <a:ext cx="72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Январь 1815 г. </a:t>
            </a:r>
            <a:endParaRPr b="0" lang="en-US" sz="40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На переводном  лицейском экзамене</a:t>
            </a:r>
            <a:endParaRPr b="0" lang="en-US" sz="40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2520" y="5013360"/>
            <a:ext cx="2425680" cy="45972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.Р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жавин</a:t>
            </a:r>
            <a:endParaRPr b="0" lang="en-US" sz="24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931680" y="6237360"/>
            <a:ext cx="8094960" cy="459720"/>
          </a:xfrm>
          <a:prstGeom prst="rect">
            <a:avLst/>
          </a:prstGeom>
          <a:solidFill>
            <a:srgbClr val="ddb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Пушкин читает «Воспоминания в Царском селе»</a:t>
            </a:r>
            <a:endParaRPr b="0" lang="en-US" sz="24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3250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bf4f"/>
                </a:solidFill>
                <a:latin typeface="Monotype Corsiva"/>
              </a:rPr>
              <a:t>Лицей – поэтическая  родин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5406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Написано более 120 стихотвор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зданы первые главы поэмы «Руслан и Людмил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1052640"/>
            <a:ext cx="85690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те дни, в таинственных долинах,</a:t>
            </a:r>
            <a:endParaRPr b="0" lang="en-US" sz="4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есной, при кликах лебединых,</a:t>
            </a:r>
            <a:endParaRPr b="0" lang="en-US" sz="4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Близ вод, сиявших в тишине,</a:t>
            </a:r>
            <a:endParaRPr b="0" lang="en-US" sz="4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Являться муза стала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мне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Segoe Prin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Евгений Онегин»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4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95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427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Антон Дельвиг</a:t>
            </a:r>
            <a:br>
              <a:rPr sz="3100"/>
            </a:b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(Тося)</a:t>
            </a:r>
            <a:endParaRPr b="0" lang="en-US" sz="31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9" name="Picture 4" descr="PC110146_0"/>
          <p:cNvPicPr/>
          <p:nvPr/>
        </p:nvPicPr>
        <p:blipFill>
          <a:blip r:embed="rId1"/>
          <a:srcRect l="21137" t="0" r="14651" b="19153"/>
          <a:stretch/>
        </p:blipFill>
        <p:spPr>
          <a:xfrm>
            <a:off x="250920" y="189000"/>
            <a:ext cx="2141280" cy="28526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pic>
        <p:nvPicPr>
          <p:cNvPr id="200" name="Picture 5" descr="PC110176_0"/>
          <p:cNvPicPr/>
          <p:nvPr/>
        </p:nvPicPr>
        <p:blipFill>
          <a:blip r:embed="rId2"/>
          <a:stretch/>
        </p:blipFill>
        <p:spPr>
          <a:xfrm>
            <a:off x="6588000" y="189000"/>
            <a:ext cx="2408400" cy="292572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pic>
        <p:nvPicPr>
          <p:cNvPr id="201" name="Picture 6" descr="PC110117_0"/>
          <p:cNvPicPr/>
          <p:nvPr/>
        </p:nvPicPr>
        <p:blipFill>
          <a:blip r:embed="rId3"/>
          <a:stretch/>
        </p:blipFill>
        <p:spPr>
          <a:xfrm>
            <a:off x="7088040" y="4076640"/>
            <a:ext cx="1814760" cy="252108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202" name="Text Box 7"/>
          <p:cNvSpPr/>
          <p:nvPr/>
        </p:nvSpPr>
        <p:spPr>
          <a:xfrm>
            <a:off x="2462040" y="1341360"/>
            <a:ext cx="36723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Признанный 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лицейский поэт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24000" y="3068640"/>
            <a:ext cx="79930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Издатель журналов «Неопытное перо», «Лицейский мудрец» 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5280" y="4292640"/>
            <a:ext cx="626436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предсказывал громкую славу Пушкину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умер в 1831 году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6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ицейский чудак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ъект парод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астник восстания декабрис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36240"/>
            <a:ext cx="3538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А.М. Горчаков (Франт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4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пломат, государственный дея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PC110145_0"/>
          <p:cNvPicPr/>
          <p:nvPr/>
        </p:nvPicPr>
        <p:blipFill>
          <a:blip r:embed="rId1"/>
          <a:stretch/>
        </p:blipFill>
        <p:spPr>
          <a:xfrm>
            <a:off x="6215040" y="189000"/>
            <a:ext cx="2741760" cy="2879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98080" y="3232080"/>
            <a:ext cx="883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частливец с первых дней,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Хвала тебе – фортуны блеск холодный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е изменил души твоей свободной: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се тот же ты для чести и друзей.</a:t>
            </a:r>
            <a:endParaRPr b="0" lang="en-US" sz="36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«19 октября» 1925г.)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Друзья мои, прекрасен наш союз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Он, как душа, неразделим и вечен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Неколебим, свободен и беспечен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Срастался он под сенью дружных муз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…26 мая (</a:t>
            </a: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6 июня-н.ст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1799г. в Москве на Немецкой улице (</a:t>
            </a: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Бауманская, 40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во дворе коллежского регистратора Скворцова, у жильца его майора Сергея Львовича Пушкина родился сын Александр»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0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браз «дружества» в лирике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Tahoma"/>
              </a:rPr>
              <a:t>«верный круг» лицейских друзей, «неразделимый и вечный» сою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Tahoma"/>
              </a:rPr>
              <a:t>союз единомышлен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Tahoma"/>
              </a:rPr>
              <a:t>поэтическое брат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Tahoma"/>
              </a:rPr>
              <a:t>сила, спасающая от одиночества, защита от «сетей судьбы суров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C110136_0"/>
          <p:cNvPicPr/>
          <p:nvPr/>
        </p:nvPicPr>
        <p:blipFill>
          <a:blip r:embed="rId1"/>
          <a:srcRect l="1964" t="1855" r="0" b="1855"/>
          <a:stretch/>
        </p:blipFill>
        <p:spPr>
          <a:xfrm>
            <a:off x="250920" y="1844640"/>
            <a:ext cx="8532720" cy="483876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59" name="Text Box 5"/>
          <p:cNvSpPr/>
          <p:nvPr/>
        </p:nvSpPr>
        <p:spPr>
          <a:xfrm>
            <a:off x="324000" y="0"/>
            <a:ext cx="83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ушкины принадлежали к старинному дворянскому роду (с 13 века). По линии бабушки Марии Алексеевны (Ржевские)  род шел со времен Киевской Руси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0560" y="5661000"/>
            <a:ext cx="2547360" cy="947160"/>
          </a:xfrm>
          <a:prstGeom prst="rect">
            <a:avLst/>
          </a:prstGeom>
          <a:gradFill rotWithShape="0">
            <a:gsLst>
              <a:gs pos="0">
                <a:srgbClr val="ddbf4f">
                  <a:alpha val="36078"/>
                </a:srgbClr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адед   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А.Ф. Пушкин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15440" y="5661000"/>
            <a:ext cx="2910240" cy="947160"/>
          </a:xfrm>
          <a:prstGeom prst="rect">
            <a:avLst/>
          </a:prstGeom>
          <a:gradFill rotWithShape="0">
            <a:gsLst>
              <a:gs pos="0">
                <a:srgbClr val="ddbf4f">
                  <a:alpha val="28235"/>
                </a:srgbClr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абабушка  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С.Ю. Пушкина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780000" y="259920"/>
            <a:ext cx="5184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ahoma"/>
              </a:rPr>
              <a:t>Гордиться славою своих предков не только можно, но и должно; не уважать оной есть постыдное малодуши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PC110138_0"/>
          <p:cNvPicPr/>
          <p:nvPr/>
        </p:nvPicPr>
        <p:blipFill>
          <a:blip r:embed="rId1"/>
          <a:stretch/>
        </p:blipFill>
        <p:spPr>
          <a:xfrm>
            <a:off x="324000" y="333360"/>
            <a:ext cx="3068640" cy="350028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250920" y="4005360"/>
            <a:ext cx="9074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Мать </a:t>
            </a:r>
            <a:r>
              <a:rPr b="1" i="1" lang="ru-RU" sz="2800" spc="-1" strike="noStrike">
                <a:solidFill>
                  <a:srgbClr val="dbbd71"/>
                </a:solidFill>
                <a:latin typeface="Tahoma"/>
              </a:rPr>
              <a:t>Надежда Осиповн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, урожденная Ганнибал.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Tahoma"/>
              </a:rPr>
              <a:t>Ибрагим Ганнибал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, прадед по линии матери,– крестник и воспитанник Петра 1, офицер русской армии </a:t>
            </a:r>
            <a:r>
              <a:rPr b="1" i="1" lang="ru-RU" sz="2800" spc="-1" strike="noStrike">
                <a:solidFill>
                  <a:srgbClr val="dbbd71"/>
                </a:solidFill>
                <a:latin typeface="Tahoma"/>
              </a:rPr>
              <a:t>(«Арап Петра Великого»)</a:t>
            </a:r>
            <a:endParaRPr b="0" lang="en-US" sz="28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5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5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C110137_0"/>
          <p:cNvPicPr/>
          <p:nvPr/>
        </p:nvPicPr>
        <p:blipFill>
          <a:blip r:embed="rId1"/>
          <a:stretch/>
        </p:blipFill>
        <p:spPr>
          <a:xfrm>
            <a:off x="468360" y="1268280"/>
            <a:ext cx="3494160" cy="414972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66" name="Text Box 7"/>
          <p:cNvSpPr/>
          <p:nvPr/>
        </p:nvSpPr>
        <p:spPr>
          <a:xfrm>
            <a:off x="659520" y="355680"/>
            <a:ext cx="69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ец – Сергей Львович Пушкин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211640" y="1197000"/>
            <a:ext cx="49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ahoma"/>
              </a:rPr>
              <a:t>чиновник Московского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ahoma"/>
              </a:rPr>
              <a:t>комиссариата,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ahoma"/>
              </a:rPr>
              <a:t>отставной майор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был знаком и дружил с Н.М. Карамзиным, 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В.А. Жуковским,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К.Н. Батюшковым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ahoma"/>
              </a:rPr>
              <a:t>собрал в доме огромную библиотеку из французских сочинений</a:t>
            </a:r>
            <a:endParaRPr b="0" lang="en-US" sz="32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 1811 году Пушкин расстается с Москвой на 15 лет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Края Москвы, края родны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Где на заре цветуших л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Часы беспечности я тратил золотые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Не зная горестей и бед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«Воспоминания в Царском Селе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11280" y="22824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Дядя Василий Львович Пушкин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лярный поэт начала 19 век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Picture 6" descr="PC110155_0"/>
          <p:cNvPicPr/>
          <p:nvPr/>
        </p:nvPicPr>
        <p:blipFill>
          <a:blip r:embed="rId1"/>
          <a:stretch/>
        </p:blipFill>
        <p:spPr>
          <a:xfrm>
            <a:off x="2484360" y="2637000"/>
            <a:ext cx="6659640" cy="387648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pic>
        <p:nvPicPr>
          <p:cNvPr id="172" name="Picture 7" descr="PC110139_0"/>
          <p:cNvPicPr/>
          <p:nvPr/>
        </p:nvPicPr>
        <p:blipFill>
          <a:blip r:embed="rId2"/>
          <a:stretch/>
        </p:blipFill>
        <p:spPr>
          <a:xfrm>
            <a:off x="0" y="0"/>
            <a:ext cx="2411280" cy="32846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4" name="Picture 5" descr="PC110150_0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PC110147_0"/>
          <p:cNvPicPr/>
          <p:nvPr/>
        </p:nvPicPr>
        <p:blipFill>
          <a:blip r:embed="rId2"/>
          <a:stretch/>
        </p:blipFill>
        <p:spPr>
          <a:xfrm>
            <a:off x="2050920" y="0"/>
            <a:ext cx="5435640" cy="330192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76" name="Text Box 7"/>
          <p:cNvSpPr/>
          <p:nvPr/>
        </p:nvSpPr>
        <p:spPr>
          <a:xfrm>
            <a:off x="65880" y="2473200"/>
            <a:ext cx="4016520" cy="825480"/>
          </a:xfrm>
          <a:prstGeom prst="rect">
            <a:avLst/>
          </a:prstGeom>
          <a:solidFill>
            <a:srgbClr val="ccff66">
              <a:alpha val="78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В.Ф. Малиновский,</a:t>
            </a:r>
            <a:endParaRPr b="0" lang="en-US" sz="2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первый директор  Лицея</a:t>
            </a:r>
            <a:endParaRPr b="0" lang="en-US" sz="2400" spc="-1" strike="noStrike">
              <a:solidFill>
                <a:srgbClr val="ffffff"/>
              </a:solidFill>
              <a:latin typeface="Segoe Prin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035320" y="2492280"/>
            <a:ext cx="3850560" cy="825480"/>
          </a:xfrm>
          <a:prstGeom prst="rect">
            <a:avLst/>
          </a:prstGeom>
          <a:solidFill>
            <a:srgbClr val="ccff66">
              <a:alpha val="78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Е.А. Энгельгардт,</a:t>
            </a:r>
            <a:endParaRPr b="0" lang="en-US" sz="2400" spc="-1" strike="noStrike">
              <a:solidFill>
                <a:srgbClr val="ffffff"/>
              </a:solidFill>
              <a:latin typeface="Segoe Pri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второй директор  Лицея</a:t>
            </a:r>
            <a:endParaRPr b="0" lang="en-US" sz="2400" spc="-1" strike="noStrike">
              <a:solidFill>
                <a:srgbClr val="ffffff"/>
              </a:solidFill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261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Monotype Corsiva"/>
              </a:rPr>
              <a:t>Из устава Лицея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solidFill>
            <a:srgbClr val="ddbf4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Monotype Corsiva"/>
              </a:rPr>
              <a:t>«</a:t>
            </a: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Лицей имеет целью образование юношества, особенно предназначенного    к важным частям службы государственной»…</a:t>
            </a:r>
            <a:r>
              <a:rPr b="0" lang="ru-RU" sz="60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52:26Z</dcterms:created>
  <dc:creator>Маха</dc:creator>
  <dc:description/>
  <dc:language>en-US</dc:language>
  <cp:lastModifiedBy>sa</cp:lastModifiedBy>
  <dcterms:modified xsi:type="dcterms:W3CDTF">2012-02-24T17:26:01Z</dcterms:modified>
  <cp:revision>76</cp:revision>
  <dc:subject/>
  <dc:title>Слайд 1</dc:title>
</cp:coreProperties>
</file>