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BE7-8156-41FC-B66B-9E851CCD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547-A921-432C-8CC5-7BD79181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CA6-3159-469D-830B-AFA112F9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60C-01E0-42C9-8FE7-9126E8B9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AB9F-C236-430F-BA2F-19E02366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49E8-8569-4D45-9332-11938BC1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44EF-7247-4166-8BDB-8CABB2A5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0A61-F838-47B1-B494-A787DE2F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3864-ECE2-44E2-8A38-7F09C113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D261-0B0D-4DD2-832B-D55EA128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01D6-47C7-4529-A3DB-E2B047C7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EE6-410B-4111-ADB9-CC058776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9776-EE1D-4AA2-8C84-8A06DA00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36B2-CFA8-4B3D-AF80-3F2A8C8C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80C3-71E7-43AE-9FCE-E3030C14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48EB-F8E9-452A-9D17-1AEAF004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498D-758C-4924-B5C8-5E35B27E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373-D335-43F6-8210-4F5B52F7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4AF-71CC-4CC3-BB37-171F289C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C94-2594-499C-8436-986AB877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280-2548-4146-A7D6-36C4815F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79A-B19A-4C93-9670-20A7C1A4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393-36FD-4574-997C-4C2EE657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483-09C3-47E8-B414-F383B03A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B6DE-B256-4039-A65A-128536384B6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D98D-6E9E-45CE-9B1B-11321966998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2"/>
          <a:stretch/>
        </p:blipFill>
        <p:spPr>
          <a:xfrm>
            <a:off x="109440" y="2401920"/>
            <a:ext cx="91011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Отсканировано 20.01.2010 16-5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Важные отрасли экономики: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омышленнос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нергетика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таллург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ройиндустр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г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ще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икробиолог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АНСПОРТ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ельское хозяйств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вотноводств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С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виноводств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тицеводств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веровод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тениеводств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рно      л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векла      хм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 ВСЕ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Рисунок 2" descr="Отсканировано 20.01.2010 16-5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Экономико-географическая характеристика Волго-Вятского экономического района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6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Карман» Ро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420840" y="92160"/>
            <a:ext cx="8321400" cy="1041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00040" y="1428840"/>
            <a:ext cx="83059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=263,3    (2+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Новгород. Ки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рий Эл, Чувашия, Мордов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годно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цент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осед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транспор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3" descr=""/>
          <p:cNvPicPr/>
          <p:nvPr/>
        </p:nvPicPr>
        <p:blipFill>
          <a:blip r:embed="rId2"/>
          <a:stretch/>
        </p:blipFill>
        <p:spPr>
          <a:xfrm>
            <a:off x="353880" y="-15228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28760" y="928440"/>
            <a:ext cx="82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Водн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Лесные ½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Чернозём ю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Строительн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МАЛ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3" descr=""/>
          <p:cNvPicPr/>
          <p:nvPr/>
        </p:nvPicPr>
        <p:blipFill>
          <a:blip r:embed="rId2"/>
          <a:stretch/>
        </p:blipFill>
        <p:spPr>
          <a:xfrm>
            <a:off x="353880" y="-79200"/>
            <a:ext cx="8240760" cy="1152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4200" y="1214280"/>
            <a:ext cx="87156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огонационально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,4 млн, 70% город,30 чел/к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алифик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вакум, Никон, Серафи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н, Кулибин, Алексеев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рький, Мельников-Печерск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20840" y="-1522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ашиностро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Транспортное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Химическ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Металлообработка             -Синтетика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Лес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Электротехника                  -Краски                 -Заготов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Станки                                 -Пластмассы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работка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ВПК                                     -Нефтехимия        -Меб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Лесохимия          - Целлюл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395280" y="0"/>
            <a:ext cx="8240760" cy="1019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во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ыво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еталл                                            Маш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нергия                                           Оборуд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фть                                              Стек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з                                                    Ле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голь                                                Пластмасс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шины                                           Лё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лопок                                              Одеж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ле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сл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ка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324000" y="0"/>
            <a:ext cx="8240400" cy="1695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914400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ырьё                                              Технологии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кология                                         Тур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езработица                                    Малый бизнес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нверс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рев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Прямая соединительная линия 4"/>
          <p:cNvSpPr/>
          <p:nvPr/>
        </p:nvSpPr>
        <p:spPr>
          <a:xfrm>
            <a:off x="3000240" y="1785960"/>
            <a:ext cx="3214800" cy="50720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4:14:37Z</dcterms:created>
  <dc:creator>Admin</dc:creator>
  <dc:description/>
  <dc:language>en-US</dc:language>
  <cp:lastModifiedBy>user</cp:lastModifiedBy>
  <dcterms:modified xsi:type="dcterms:W3CDTF">2010-01-22T11:20:00Z</dcterms:modified>
  <cp:revision>10</cp:revision>
  <dc:subject/>
  <dc:title>Волго-Вятский р-он</dc:title>
</cp:coreProperties>
</file>