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CC69-7038-4494-B6B3-83AB66D474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AD64-C2D1-4448-A410-9262AF48AD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1CA-3567-4DBF-9E51-ACE80D40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B29-0D21-40D6-872D-A6B8F994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5B5-2A3A-4074-B0CB-4FB8455E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724-9BB8-4B7C-A767-5A3065E9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F97F-0785-48AC-A6BF-8DEA837A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DB93-2F14-49C3-A45C-4C80D387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FE02-9AAB-40C5-AEDF-2654B2E6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FF37-F254-49D3-A620-8D16F775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3818-CAE3-4EB8-9C6E-95809F07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05C5-3061-4E21-BFD9-3A3EBE78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9EF4-1771-42A7-AFCA-F5209D74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55D-EDFE-494D-96F5-66C7109E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216A-CE78-407B-BA0E-C32FC389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77D4-C6A7-41BE-A246-48F1F0EB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BC03-A1D0-4A12-8626-50F2DE78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F633-7E36-4975-BC2B-0A8D6777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27E1-40F3-4121-9664-1DD1706D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D36-DAE0-482D-AD33-8D464869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B57-BA25-4F0F-9955-A94A5B76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A89-EAF0-4F6F-9601-5BD8DBA7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D70-4ECD-4D14-B37A-08D7487A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F94-32C1-4CF9-B68A-E8AD71BC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107E-0206-4745-9953-A1981D8B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0B2-4CC7-48EA-A6A6-49B95982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827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827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827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7F0F-6494-4CC8-8822-383D3E2BCF20}" type="slidenum">
              <a:rPr b="0" lang="en-US" sz="1200" spc="-1" strike="noStrike">
                <a:solidFill>
                  <a:srgbClr val="57827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a2c3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a2c3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a2c3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58AB-5F81-46DC-877F-9DA93B9BA9CD}" type="slidenum">
              <a:rPr b="0" lang="en-US" sz="1200" spc="-1" strike="noStrike">
                <a:solidFill>
                  <a:srgbClr val="7fa2c3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ФОРМИРОВАНИЕ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ДУХОВНО–НРАВСТВЕННЫХ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НОРМ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У ДЕТЕЙ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С ОГРАНИЧЕННЫМ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ВОЗМОЖНОСТЯМИ ЗДОРОВЬЯ</a:t>
            </a:r>
            <a:endParaRPr b="1" lang="en-US" sz="32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42920" y="4292280"/>
            <a:ext cx="3170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entury Schoolbook"/>
              </a:rPr>
              <a:t>Заведующая отделением  дневного пребывания БУ ХМАО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660066"/>
                </a:solidFill>
                <a:latin typeface="Century Schoolbook"/>
              </a:rPr>
              <a:t>Югры РЦ «Лучик»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г.Ханты-Мансийск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entury Schoolbook"/>
              </a:rPr>
              <a:t>Э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львира </a:t>
            </a:r>
            <a:r>
              <a:rPr b="1" lang="en-US" sz="1800" spc="-1" strike="noStrike">
                <a:solidFill>
                  <a:srgbClr val="660066"/>
                </a:solidFill>
                <a:latin typeface="Century Schoolbook"/>
              </a:rPr>
              <a:t>В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ладимировна</a:t>
            </a:r>
            <a:r>
              <a:rPr b="1" lang="en-US" sz="1800" spc="-1" strike="noStrike">
                <a:solidFill>
                  <a:srgbClr val="660066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entury Schoolbook"/>
              </a:rPr>
              <a:t>Берчатова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94920" y="981000"/>
            <a:ext cx="504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Bookman Old Style"/>
              </a:rPr>
              <a:t>Дошкольный возраст – важнейший период становления личности, когда закладываются предпосылки гражданских качеств, формируются ответственность и способность ребенка к уважению и пониманию других людей. 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278604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Bookman Old Style"/>
              </a:rPr>
              <a:t>В дошкольном возрасте происходит активное накопление нравственного опыта, и обращения к духовной жизни начинается - так же в дошкольном возрасте – с нравственного самоопределения и становления самосознания. 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94" name="Picture 14" descr="DSC09573"/>
          <p:cNvPicPr/>
          <p:nvPr/>
        </p:nvPicPr>
        <p:blipFill>
          <a:blip r:embed="rId2"/>
          <a:stretch/>
        </p:blipFill>
        <p:spPr>
          <a:xfrm>
            <a:off x="3828960" y="3889440"/>
            <a:ext cx="4181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48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Bookman Old Style"/>
              </a:rPr>
              <a:t>Существенные особенности духовно-нравственного воспитания в дошкольных образовательных учреждениях</a:t>
            </a:r>
            <a:endParaRPr b="1" lang="en-US" sz="2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496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Bookman Old Style"/>
              </a:rPr>
              <a:t>1.Основу содержания духовно-нравственного воспитания в детских садах составляет православная культура, а ее главной содержательной линией являются православные праздники, как нечто по-настоящему доступное для ребенка этого возраста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Bookman Old Style"/>
              </a:rPr>
              <a:t>2. Система народного творчества: сказки, песни, пословицы и т.д., но особенно 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сказка.</a:t>
            </a:r>
            <a:r>
              <a:rPr b="0" lang="en-US" sz="2400" spc="-1" strike="noStrike">
                <a:solidFill>
                  <a:srgbClr val="990099"/>
                </a:solidFill>
                <a:latin typeface="Bookman Old Style"/>
              </a:rPr>
              <a:t> Фольклор особенно важен в силу его нравственной определенности, а потому соответствию возрастным особенностям дошкольника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Bookman Old Style"/>
              </a:rPr>
              <a:t>3. Природный календарь, как природный фон, на котором происходит развитие ребенка, который ему понятен, и в котором он живет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Bookman Old Style"/>
              </a:rPr>
              <a:t>Тема нравственного воспитания детей с ограниченными возможностями чрезвычайно актуальна.</a:t>
            </a:r>
            <a:endParaRPr b="1" lang="en-US" sz="2400" spc="-1" strike="noStrike">
              <a:solidFill>
                <a:srgbClr val="3a575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Bookman Old Style"/>
              </a:rPr>
              <a:t>Трудность проблемы нравственного воспитания детей с ограниченными возможностями здоровья определяется: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Bookman Old Style"/>
              </a:rPr>
              <a:t>недостаточностью исследования темы нравственного воспитания детей с ограниченными возможностями здоровья, поскольку нет специальных программ в заданном направлении (именно для детей с ограниченными возможностями здоровья);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Bookman Old Style"/>
              </a:rPr>
              <a:t>семьи детей с ОВЗ, зачастую, относятся к категориям малообеспеченных, неблагополучных. К сожалению, количество семей, злоупотребляющих алкоголем и психоактивными веществами не уменьшается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374"/>
              </a:spcBef>
              <a:buClr>
                <a:srgbClr val="99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99"/>
                </a:solidFill>
                <a:latin typeface="Bookman Old Style"/>
              </a:rPr>
              <a:t>роль нравственного воспитания детей с ограниченными возможностями здоровья велика, поскольку это способствует профилактике правонарушений;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374"/>
              </a:spcBef>
              <a:buClr>
                <a:srgbClr val="99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99"/>
                </a:solidFill>
                <a:latin typeface="Bookman Old Style"/>
              </a:rPr>
              <a:t>позволяет формировать духовный мир (ценностные ориентации) и нравственные качества такого ребенка, позволяя ему органично вписаться в общество;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374"/>
              </a:spcBef>
              <a:buClr>
                <a:srgbClr val="99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99"/>
                </a:solidFill>
                <a:latin typeface="Bookman Old Style"/>
              </a:rPr>
              <a:t>раскрывает творческий потенциал, расширяя возможности дальнейшего профессионального выбора; формирует прилежание в труде, способствует повышению профессиональной ориентации, способствует снижению числа безработных, воспитывает трудолюбие (добровольное отношение к труду и честность), формирует в сознании ребенка понятия труда, как общечеловеческой ценности; позволяет сократить количество неблагополучных семей;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374"/>
              </a:spcBef>
              <a:buClr>
                <a:srgbClr val="99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99"/>
                </a:solidFill>
                <a:latin typeface="Bookman Old Style"/>
              </a:rPr>
              <a:t>позволяет решить проблему социального инфантилизма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Bookman Old Style"/>
              </a:rPr>
              <a:t>На основе анализа философской и психолого- педагогической литературы и результатов практической деятельности можно сделать выводы:</a:t>
            </a:r>
            <a:endParaRPr b="1" lang="en-US" sz="2200" spc="-1" strike="noStrike">
              <a:solidFill>
                <a:srgbClr val="3a57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3008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Bookman Old Style"/>
              </a:rPr>
              <a:t>Огромное влияние на детей оказывают сказки, они хорошо воспринимаются и усваиваются детьми. Сказки несут в себе глубокую народную мудрость, пронизанную христианской нравственностью.</a:t>
            </a:r>
            <a:endParaRPr b="0" lang="en-US" sz="2200" spc="-1" strike="noStrike">
              <a:solidFill>
                <a:srgbClr val="26262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990099"/>
                </a:solidFill>
                <a:latin typeface="Bookman Old Style"/>
              </a:rPr>
              <a:t>Совместный с детьми анализ сказочных ситуаций и характеров героев способствует формированию умений правильного поведения в тех или иных ситуациях. Занятия, посвященные сказкам, становятся уроками духовности и патриотизма. </a:t>
            </a:r>
            <a:endParaRPr b="0" lang="en-US" sz="2200" spc="-1" strike="noStrike">
              <a:solidFill>
                <a:srgbClr val="26262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102" name="Picture 14" descr="DSC_0180"/>
          <p:cNvPicPr/>
          <p:nvPr/>
        </p:nvPicPr>
        <p:blipFill>
          <a:blip r:embed="rId2"/>
          <a:stretch/>
        </p:blipFill>
        <p:spPr>
          <a:xfrm>
            <a:off x="4356000" y="3860640"/>
            <a:ext cx="3888000" cy="259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3456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353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Для решения вышестоящей проблемы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Bookman Old Style"/>
              </a:rPr>
              <a:t>необходимо: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Bookman Old Style"/>
              </a:rPr>
              <a:t>на основе анализа философской и психолого-педагогической литературы обосновать содержание нравственного воспитания детей дошкольного возраста с ограниченными возможностями здоровья;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Bookman Old Style"/>
              </a:rPr>
              <a:t>определить социально-педагогические условия нравственного воспитания детей дошкольного возраста с ограниченными возможностями здоровья;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Bookman Old Style"/>
              </a:rPr>
              <a:t>разработать методико-технологич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990099"/>
                </a:solidFill>
                <a:latin typeface="Bookman Old Style"/>
              </a:rPr>
              <a:t>ские основы нравственного воспитания детей дошкольного возраста с ограниченными возможностями здоровья.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40384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Bookman Old Style"/>
              </a:rPr>
              <a:t>Заложенный в детстве божественный огонь будет согревать душу и сердце ребенка. Он понесет его людям. Ибо сказано в Писании: «И зажегши свечу, не ставят ее под сосудом, но на подсвечнике, и светит всем в доме» (Миф 5:15)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106" name="Picture 9" descr="DSCF2131"/>
          <p:cNvPicPr/>
          <p:nvPr/>
        </p:nvPicPr>
        <p:blipFill>
          <a:blip r:embed="rId2"/>
          <a:stretch/>
        </p:blipFill>
        <p:spPr>
          <a:xfrm>
            <a:off x="5003640" y="1700280"/>
            <a:ext cx="3238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08:01:26Z</dcterms:created>
  <dc:creator/>
  <dc:description/>
  <cp:keywords/>
  <dc:language>en-US</dc:language>
  <cp:lastModifiedBy/>
  <dcterms:modified xsi:type="dcterms:W3CDTF">2012-02-24T10:01:25Z</dcterms:modified>
  <cp:revision>10</cp:revision>
  <dc:subject/>
  <dc:title>ФОРМИРОВАНИЕ ДУХОВНО–НРАВСТВЕННЫХ НОРМ У ДЕТЕЙ С ОГРАНИЧЕННЫМИ ВОЗМОЖНОСТЯМИ ЗДОРОВЬЯ</dc:title>
</cp:coreProperties>
</file>