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B350-8A55-4C4C-A02F-EFE92C4C25A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9D59-D5A0-482B-BC09-D6147FF9640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66CD-28D1-49BF-A510-6B1B50B0CE3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B77D-89D2-469B-8D6B-2ED0E3ECDD7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D680-C337-4256-8C16-386705EAAB9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7B41-FAE9-46DF-A75A-11096589EFE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21AA-142B-4C3D-A080-737FE467DAE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F189-3663-4579-9537-9682D777B66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4206-C596-428D-A599-8B749FF0A43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E2F9-B028-4F60-94C0-0CB302019AC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AB4C-1F45-427F-A4B9-8191F547524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873C-0676-443E-91F7-6013EF95213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F47F-AF18-4E3F-B6F6-DB12738B399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3776-431B-4020-9AEA-A780922521E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60D4-FE63-46C7-BE63-6DFECDF723F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557D-ED56-4002-BDCF-8A8CB28D840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1C79-1B8F-492B-B191-9025DFCF3CB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BECD-8CD3-474C-AB0C-9AE5A6C34CA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1BFF-C39D-4B1E-9194-A11795142BF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7469-A1BF-42AB-9199-6B934A4A4F5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99C2-33BE-40E3-AC0D-BF7C96D3353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3BC6-4265-4B05-ADF2-7C72FDE2194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03B5-CDC9-4133-940B-02362433E66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1C58-42AC-4723-908F-94A697E8F04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4069-FC24-4221-8151-A96D52C0CEB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8C20-B232-49FF-A918-C03AB48ED42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5ADF-A616-4172-B39F-C10BBAA91E5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81770-FDEB-4EA4-BD97-7727E2AC3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1BF47-A1B1-409A-89C0-30222F11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A0F7B-6863-4608-A957-5A12928C6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07EBD-5AD2-43A3-B135-17DAFE7B7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B608-C967-4438-B9D3-326F704BC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A425-7BAD-43CA-ACE5-3EA26570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4F6F-9A36-4CCC-9D0E-5F2D7494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9C03-6D83-4E3A-8119-DB812734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69C2-1096-4A35-B0A1-84787514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B802-E876-4C2A-B61C-91530E0E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F184-465B-4991-8DD6-B42C23F8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47BE7-DB4F-45C3-BDD2-E0C3142C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D42B-EB5F-408B-8FA6-197490E3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7F6C-F84A-4EF8-8CD6-579F379D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779AB-DF68-44CE-8A4E-2D269C56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3F6A-42AF-45B1-A0AE-2A6B7553B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E8AC-79FB-4B37-9E45-EC673BBE4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48A03-7964-4198-8C8D-98164307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06BFA-C428-4CF8-817B-662E4D3D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542E6-3EF0-4936-88B0-E64728B3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E9C20-BB8E-4038-BC2A-F10E7970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00C7E-8FDF-49B5-9097-6FD82D56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21336-DED7-4290-A8B0-411F8E72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BF504-BAEA-47E1-B59E-66F1FC72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D26D-56EA-4694-9E5E-3819DECE96F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587D-B6F7-43AC-80B6-C6CD05BC196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120" y="1196640"/>
            <a:ext cx="586764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ние толерантности у подростков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47640" y="764640"/>
            <a:ext cx="734544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03280" y="260280"/>
            <a:ext cx="756144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Функции толерант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Культуросохраняюща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еспечивает сохранение и преувеличение культурного опыта группы, этноса, обще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47640" y="764640"/>
            <a:ext cx="734544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03280" y="260280"/>
            <a:ext cx="756144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Функции толерант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Креативна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еспечивает возможность творческого преобразования окружающей действитель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ет условия для безопасного проявления дивергентности, творческой актив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ет условия для творческого самоутвержд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47640" y="764640"/>
            <a:ext cx="734544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03280" y="260280"/>
            <a:ext cx="756144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одходы к воспитанию толерант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чностно-ориентированны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знание права каждой личности на свободу, самоопределение, индивидуальность и самовыраж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знание и выполнение своих обязанностей перед собой и други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ора при взаимодействии на мотивацию, ценности, опыт, "Я-концепцию" партнер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дивидуальный подх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47640" y="764640"/>
            <a:ext cx="734544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7280" y="260280"/>
            <a:ext cx="777744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одходы  к  воспитанию толерантност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ятельностны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ора на активность, сознательность и самостоятельн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иентация не на вербальное воздействие, а на деятельность самого ребен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еспечение субъективной свободы в выборе деятельности и ее компон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роение воспитания через специально организуемую деятельность и общение де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47640" y="764640"/>
            <a:ext cx="734544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7280" y="260280"/>
            <a:ext cx="777744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ринципы  воспитания толерантности 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нцип целенаправлен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т индивидуальных и половозрастных особенност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нцип культуросообраз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нцип связи толерантности с жизнь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нцип уважительного отношения к лич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нцип опоры на положительное в ребен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47640" y="764640"/>
            <a:ext cx="734544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7280" y="260280"/>
            <a:ext cx="777744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ринципы  воспитания толерантности 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нцип социальной обусловленности процесса воспитания толерант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нцип завуалированности педагогических воздействий  и опоры на активность ребен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нцип единства знания и повед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нцип создания толерантной среды в образовательном учрежден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нцип диалогичности и сотрудниче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нцип воспитывающей рефлекс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520" y="764640"/>
            <a:ext cx="721656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76160" y="907560"/>
            <a:ext cx="70102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вляясь нравственным качеством, толерантность не возникает на пустом месте и     не  является врожденным, как и практически любое нравственное качество. Толерантность подвергается развитию, стимулированию (прежде всего самостимулированию) и коррекции, а целью ее формирования является позитивное взаимодействие со всеми субъектами обит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520" y="764640"/>
            <a:ext cx="721656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76520" y="692280"/>
            <a:ext cx="692784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ние толерантности следует начинать еще в раннем детстве, когда закладывается первооснова человеческого общения и основные нравственные категории (доброта, чуткость, отзывчивость, честность и т.д.) Однако мы часто наблюдаем несформированность толерантности у школьников. Извечные житейские неурядицы, поразительно стремительный темп жизни, социальные проблемы и природные катаклизмы, воспитательная инерция родителей по отношению к детям, агрессия, царящая с экранов телевизоров, - далеко еще не все причины несформированности толерантности у ребенка. Вряд ли кто-нибудь из нас сможет устранить все эти причины, но вот не дать им «затмить» развивающееся чуткое отношение и активную преобразующую позицию ребенка к миру, мы обязаны.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520" y="764640"/>
            <a:ext cx="721656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47280" y="692280"/>
            <a:ext cx="72010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 работе по данной теме исхожу из следующих положени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Возраст участников воспитательной работы 10-16 лет (подростковый период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ный возрастной этап характеризуется интериоризацей (познанием себя) и социализацией (активным вхождением в общество), поэтому в содержание воспитательной системы включены проблемы, затрагивающие вопросы понимания и принятия себя, а так же осмысления себя в «культурном ландшафте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520" y="764640"/>
            <a:ext cx="721656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7280" y="-387720"/>
            <a:ext cx="7777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Важным моментом подросткового возраста является общение со сверстниками, в котором на первый план выходит такая характеристика как «коммуникативная привлекательность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ная характеристика отражается в понятии «коммуникативная компетентность» (высоко развитые умения и навыки общения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едовательно, в содержании воспитательной работы весомое место занимают проблемы коммуник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520" y="260280"/>
            <a:ext cx="721656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современном этапе развития любое государство претерпевает крупномасштабные изменения, как в области политики, экономики, права, так и в сфере духовной жизни общества, и в сфере образования. Подобная ситуация стимулирует общество на поиск новых отношений, окрашенных в цвета  сотрудничества и диалога, акцентирует внимание на  ценностях, формирующих гуманное сознание членов общества, взаимопонимание, личная ответственность, свобода, абсолютная ценность жизни и ортодоксальные библейские заветы: не убий, не укради, возлюби ближнего, как самого себя. Все это свидетельствует  о том, что общество осознает необходимость обеспечения толерантного мироустройства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менно толерантность должна стать сегодня тем сильнейшим регулятором жизни людей, который направляет государственное устройство, социальные структуры и индивидуальные стратегии поведения и существования по пути гуманизации и социально-культурного равновес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92000" y="4436640"/>
            <a:ext cx="7272360" cy="17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520" y="764640"/>
            <a:ext cx="721656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76000" y="404640"/>
            <a:ext cx="7343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Подростки увлекаемы и часто меняют интересы, пытаются осмыслить многие объекты, готовы к размышлению на разные темы (хотя часто им не хватает социального опыта). Это нашло отражение в многообразии тем, изучаемых проблем и в разнообразии форм воспитательной работ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520" y="764640"/>
            <a:ext cx="721656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76000" y="404640"/>
            <a:ext cx="7343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Подросток, особенно старший, сознательно стремится к общению с людьми, имеющими большой социальный опыт, поэтому к проведению многих форм воспитательной работы должны привлекаться  интересные люд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76520" y="764640"/>
            <a:ext cx="721656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76000" y="404640"/>
            <a:ext cx="7343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Подросток стремится отгородить себя от семьи, не всегда доволен сложившейся в семье системой взаимоотношений. Для преодоления этой проблемы необходимо участие семьи в организации и в проведении многих предлагаемых  формах воспитательной рабо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520" y="764640"/>
            <a:ext cx="721656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260280"/>
            <a:ext cx="7777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С целью целенаправленного формирования толерантности  организую воспитательную  деятельность по следующим направлениям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познание и принятие себя ( толерантность к себе ) 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познание, принятие себя как субъекта семейной культуры, изучение семейной самобытности, обучение основам толерантного общения в семье        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 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определение и принятие культуры малой родины, своего этноса, осмысление себя полноправным участником этой культу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формирование толерантности к своему народу (только уважающий свою культуру будет уважать культуру другого)         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 понимание мультикультурного пространства России и формирование толерантности к представителям народов и народностей России 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постижение идей культуры мира и определение стратегии толерантного взаимодействия в мировом культурном пространстве.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520" y="764640"/>
            <a:ext cx="721656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47640" y="476280"/>
            <a:ext cx="734544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 работе реализую следующие формы воспитательной деятельност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ормационно-познавательные  час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сед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искусс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гровые тренинг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ммуникативные тренинг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аздник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ТД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гровые и конкурсные программ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икторины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ставк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знавательные игр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520" y="764640"/>
            <a:ext cx="721656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47640" y="549000"/>
            <a:ext cx="73454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 работе реализую следующие методы воспита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мер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ощре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здание социальных проб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беждение (самоубеждение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нушение (самовнушение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гровые метод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бова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тод саморегулирова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тод воспитывающих ситуац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тод соревнова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тод анализа деятельности и общения ребен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руч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520" y="764640"/>
            <a:ext cx="721656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47640" y="549000"/>
            <a:ext cx="73454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езультаты рабо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У учащихся класса сформировано понятие 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66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знании – способности видеть в другом именно другого, как носителя других ценностей, другого мышления, других форм повед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66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нятии – положительном отношении к отличия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66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имании – умении видеть другого изнутри, способности взглянуть на его мир с двух точек зрения: своей собственной и е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47640" y="764640"/>
            <a:ext cx="734544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лерантность - нравственное качество, определяющее активную нравственную позицию и психологическую готовность к построению конструктивного взаимодействия личности с другими людьми, отличающимися от нее социальной, культурной, конфессиональной принадлежностью, интересами, потребностями, мировоззрением. Нравственная позиция в данном контексте приобретает понимание  выработанных в сознании индивида ценностных ориентаций, личностно-значимых образцов бесконфликтного или компромиссного поведения. Психологическая готовность понимается как доминантная направленность сознания на выполнение данных образцо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7640" y="764640"/>
            <a:ext cx="734544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1332000" y="1773360"/>
            <a:ext cx="669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ь воспитания толерантности – воспитание в подрастающем поколении потребности и готовности к конструктивному взаимодействию  с людьми и группами людей независимо от их национальной, социальной, религиозной  принадлежности, взглядов, мировоззрения, стилей мышления  и пове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47640" y="764640"/>
            <a:ext cx="734544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520" y="476280"/>
            <a:ext cx="721656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Функции толерант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90000"/>
              </a:lnSpc>
              <a:spcBef>
                <a:spcPts val="799"/>
              </a:spcBef>
              <a:buClr>
                <a:srgbClr val="ff66ff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рообеспечивающа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ределяет  многомерность среды и разнообразных взгляд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еспечивает гармоничное мирное сосуществование представителей, отличающихся друг от друга по различным признака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жит общественным гарантом неприкосновенности и ненасилия по отношению к различного рода меньшинствам и легализует их положение с помощью зак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47640" y="764640"/>
            <a:ext cx="734544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76520" y="476280"/>
            <a:ext cx="721656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Функции толерант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Регулирующа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воляет сдержать неприязнь в сочетании с     отложенной позитивной реакцией, либо заменить ее на позитивну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оставляет конструктивный выход из конфликтных ситуац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иентирует отношения на соблюдение равноправия, уважения, своб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47640" y="764640"/>
            <a:ext cx="734544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03280" y="260280"/>
            <a:ext cx="756144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Функции толерант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Психологическа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жит основой  для нормализации психологической атмосферы в группе, обществе (атмосфера доверия, уважения, признания, поддержки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ует и развивает этническое самосозна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еспечивает этническую и социальную самоидентификаци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держивает и развивает самооценку личности, групп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ижает порог чувствительности к неблагоприятным факторам, фрустрационным ситуация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47640" y="764640"/>
            <a:ext cx="734544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03280" y="260280"/>
            <a:ext cx="756144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Функции толерант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Воспитательна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еспечивает передачу опыта позитивного социального взаимодействия и опыта человечества в цело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вляется совершенным образцом организации жизнедеятельности в социум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еспечивает успешную социализаци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вает нравственное понимание, сопереживание, умение лояльно оценивать поступки друг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47640" y="764640"/>
            <a:ext cx="734544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03280" y="260280"/>
            <a:ext cx="756144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Функции толерант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Коммуникативна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вает готовность к общению, сотрудничеству и понимани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воляет установить конструктивное общение с представителями различных групп, иного мировоззр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14:41:30Z</dcterms:created>
  <dc:creator>ASUS A3 Home PC</dc:creator>
  <dc:description/>
  <dc:language>en-US</dc:language>
  <cp:lastModifiedBy>aser</cp:lastModifiedBy>
  <dcterms:modified xsi:type="dcterms:W3CDTF">2011-09-20T19:51:56Z</dcterms:modified>
  <cp:revision>28</cp:revision>
  <dc:subject/>
  <dc:title>Подготовка к егэ.</dc:title>
</cp:coreProperties>
</file>