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3FE-63BA-4980-8AFF-425145B0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605-6BB8-4679-AFE7-5B4CDEED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81A-FC3C-4966-A123-B7406439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B3B-5972-4C81-B0AF-805D89B7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C16-B9EB-4C44-B2BD-F10D6E6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085-D102-47BC-9620-BC76E165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D9C-CEB7-4D7E-A299-DF786F7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29A-6637-496A-B847-6ECBAB8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FEF-B513-4D0F-8E5B-E73B6E3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EDC-0744-4038-9F3E-BFB844C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E46-4D18-4806-84EE-E3E6C86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970-44FB-451F-964B-A8BAC0B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4EB0-09FE-4F99-9C89-E226A0A6B9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760" y="476280"/>
            <a:ext cx="6022800" cy="790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«Призвание учителя есть призвание высокое и благородное»</a:t>
            </a:r>
            <a:br>
              <a:rPr sz="5400"/>
            </a:br>
            <a:br>
              <a:rPr sz="5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.Н.Тол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823356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4"/>
          <p:cNvSpPr/>
          <p:nvPr/>
        </p:nvSpPr>
        <p:spPr>
          <a:xfrm>
            <a:off x="642960" y="357120"/>
            <a:ext cx="5786280" cy="8501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Новоузенск Саратовской област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амятник Первой учительнице установлен в 2001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 (155x312, 15Kb)"/>
          <p:cNvPicPr/>
          <p:nvPr/>
        </p:nvPicPr>
        <p:blipFill>
          <a:blip r:embed="rId1"/>
          <a:stretch/>
        </p:blipFill>
        <p:spPr>
          <a:xfrm>
            <a:off x="1643040" y="2214720"/>
            <a:ext cx="3571920" cy="65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8"/>
          <p:cNvSpPr/>
          <p:nvPr/>
        </p:nvSpPr>
        <p:spPr>
          <a:xfrm>
            <a:off x="428760" y="357120"/>
            <a:ext cx="6215040" cy="8501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Челябинс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амятник Первой учитель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 (375x500, 58Kb)"/>
          <p:cNvPicPr/>
          <p:nvPr/>
        </p:nvPicPr>
        <p:blipFill>
          <a:blip r:embed="rId1"/>
          <a:stretch/>
        </p:blipFill>
        <p:spPr>
          <a:xfrm>
            <a:off x="928800" y="2143080"/>
            <a:ext cx="5000400" cy="65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8"/>
          <p:cNvSpPr/>
          <p:nvPr/>
        </p:nvSpPr>
        <p:spPr>
          <a:xfrm>
            <a:off x="357120" y="285840"/>
            <a:ext cx="6143760" cy="857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г. Дмитров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осковской области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амятник «Учительница гимназии»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становлен к 850-летию Дмитр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 (411x600, 121Kb)"/>
          <p:cNvPicPr/>
          <p:nvPr/>
        </p:nvPicPr>
        <p:blipFill>
          <a:blip r:embed="rId1"/>
          <a:stretch/>
        </p:blipFill>
        <p:spPr>
          <a:xfrm>
            <a:off x="1143000" y="2293920"/>
            <a:ext cx="424332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4"/>
          <p:cNvSpPr/>
          <p:nvPr/>
        </p:nvSpPr>
        <p:spPr>
          <a:xfrm>
            <a:off x="285840" y="214200"/>
            <a:ext cx="6072120" cy="871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арвихинская школ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амятник Первой учитель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SDC10629.JPG"/>
          <p:cNvPicPr/>
          <p:nvPr/>
        </p:nvPicPr>
        <p:blipFill>
          <a:blip r:embed="rId1"/>
          <a:stretch/>
        </p:blipFill>
        <p:spPr>
          <a:xfrm>
            <a:off x="714240" y="2000160"/>
            <a:ext cx="50482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44640"/>
            <a:ext cx="6172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2720" y="285480"/>
            <a:ext cx="6172200" cy="809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орогие наши учителя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пасибо вам за то, что вы учите нас самостоятельности мышления, пробуждаете вкус к познанию, даете импульс к поиску нестандартных решений, зажигаете в нас  искру интеллектуального творчества и формируете желание труд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ждый из вас достоин памятника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 Днем Учителя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44640"/>
            <a:ext cx="6172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2720" y="571680"/>
            <a:ext cx="6172200" cy="759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Не каждая школа может похвастаться собственным памятником Первой учительнице в школьном дв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Нам, ученикам Барвихинской школы, повезло- у нас такой памятник есть. Появился он еще на территории старой школы, которая располагалась около д. Жуковка. Старейший учитель нашей школы Л.С. Захарова рассказала нам, что этот памятник был установлен в 1954 году, учащиеся школы всегда  следили за его состоянием, красили, приводили в порядок, содержали в чист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Конечно же, это памятник не конкретному учителю, но каждый, окончивший Барвихинскую школу, считает, что это памятник именно его первой учительни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Члены клуба юных исследовател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5Б клас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117000"/>
            <a:ext cx="6172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SDC10621.JPG"/>
          <p:cNvPicPr/>
          <p:nvPr/>
        </p:nvPicPr>
        <p:blipFill>
          <a:blip r:embed="rId1"/>
          <a:stretch/>
        </p:blipFill>
        <p:spPr>
          <a:xfrm>
            <a:off x="2143080" y="4714920"/>
            <a:ext cx="4214880" cy="36669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7" descr="SDC10628.JPG"/>
          <p:cNvPicPr/>
          <p:nvPr/>
        </p:nvPicPr>
        <p:blipFill>
          <a:blip r:embed="rId2"/>
          <a:stretch/>
        </p:blipFill>
        <p:spPr>
          <a:xfrm>
            <a:off x="714240" y="1357200"/>
            <a:ext cx="40370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4"/>
          <p:cNvSpPr/>
          <p:nvPr/>
        </p:nvSpPr>
        <p:spPr>
          <a:xfrm>
            <a:off x="285840" y="214200"/>
            <a:ext cx="6215040" cy="864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ород Торопец, Тверская обла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1974 году возле школы №1 установили памятник Учите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pam_uc46.jpg"/>
          <p:cNvPicPr/>
          <p:nvPr/>
        </p:nvPicPr>
        <p:blipFill>
          <a:blip r:embed="rId1"/>
          <a:stretch/>
        </p:blipFill>
        <p:spPr>
          <a:xfrm>
            <a:off x="1071720" y="2133720"/>
            <a:ext cx="4500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85840" y="142920"/>
            <a:ext cx="6215040" cy="871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остовская область,г. Белая Калитва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амятник Первой учительнице. Точно такой же памятник установлен в поселке Матвеев Курган Ростов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Perv_uchit.jpg"/>
          <p:cNvPicPr/>
          <p:nvPr/>
        </p:nvPicPr>
        <p:blipFill>
          <a:blip r:embed="rId1"/>
          <a:stretch/>
        </p:blipFill>
        <p:spPr>
          <a:xfrm>
            <a:off x="1285920" y="2071800"/>
            <a:ext cx="4000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357120" y="214200"/>
            <a:ext cx="6000840" cy="864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аратов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амятник «Первая Учительница».Это – фрагмент памятника Александру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, установленного в 1911 г. В советское время сохранился лишь этот фрагмен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saratov-pamyatnik-pervoy-uchitelnitse.jpg"/>
          <p:cNvPicPr/>
          <p:nvPr/>
        </p:nvPicPr>
        <p:blipFill>
          <a:blip r:embed="rId1"/>
          <a:stretch/>
        </p:blipFill>
        <p:spPr>
          <a:xfrm>
            <a:off x="888840" y="2300400"/>
            <a:ext cx="508032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214200" y="285840"/>
            <a:ext cx="6429600" cy="864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1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льяновск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2007 г. в Аллее учительской славы открыт памятник Учителю. Молодая учительница на фоне гранитной доски, на которой  высечены слова В.А. Сухомлинского «Сердце отдаю детя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210.jpg"/>
          <p:cNvPicPr/>
          <p:nvPr/>
        </p:nvPicPr>
        <p:blipFill>
          <a:blip r:embed="rId1"/>
          <a:stretch/>
        </p:blipFill>
        <p:spPr>
          <a:xfrm>
            <a:off x="428760" y="4071960"/>
            <a:ext cx="6107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4"/>
          <p:cNvSpPr/>
          <p:nvPr/>
        </p:nvSpPr>
        <p:spPr>
          <a:xfrm>
            <a:off x="142920" y="285840"/>
            <a:ext cx="6572160" cy="864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6172200" cy="27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селок Матвеев Курган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амятник Первой учитель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SDC11919.JPG"/>
          <p:cNvPicPr/>
          <p:nvPr/>
        </p:nvPicPr>
        <p:blipFill>
          <a:blip r:embed="rId1"/>
          <a:stretch/>
        </p:blipFill>
        <p:spPr>
          <a:xfrm>
            <a:off x="285840" y="3571920"/>
            <a:ext cx="5984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7:12:56Z</dcterms:created>
  <dc:creator>Customer</dc:creator>
  <dc:description/>
  <dc:language>en-US</dc:language>
  <cp:lastModifiedBy>Customer</cp:lastModifiedBy>
  <dcterms:modified xsi:type="dcterms:W3CDTF">2012-02-24T13:53:53Z</dcterms:modified>
  <cp:revision>8</cp:revision>
  <dc:subject/>
  <dc:title>Слайд 1</dc:title>
</cp:coreProperties>
</file>