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media/image8.png" ContentType="image/png"/>
  <Override PartName="/ppt/media/image5.gif" ContentType="image/gif"/>
  <Override PartName="/ppt/media/image10.gif" ContentType="image/gif"/>
  <Override PartName="/ppt/media/image6.gif" ContentType="image/gif"/>
  <Override PartName="/ppt/media/image9.wmf" ContentType="image/x-wmf"/>
  <Override PartName="/ppt/media/image7.jpeg" ContentType="image/jpeg"/>
  <Override PartName="/ppt/media/PROJCTOR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DEA9-4BF7-45D6-8BDF-EE3019F7AB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ния с ошибками для самых внимательных. Пригласите к экрану ученика – пусть укажет верное расположение точки. Затем сделайте клик мыш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CDC9-3D58-4CC9-94E3-F5403C291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BC5A-454E-4505-9DFB-7C21DE80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0E13-05A0-403E-9239-DD5F11D92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A1F1-B459-4707-BE60-8D73C5339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3E74-A4C2-49BE-AEE8-64DEA3F50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4F9B-E385-422E-A472-98FD7568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F0E7-B7D5-44B3-8507-B1B57684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188A-6E6F-46C5-965A-6AEFB1C1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DA7B-59AA-446E-AA72-7497963B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22903-3657-49FA-8822-F4E59EF0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D5D6-BC1C-45DC-8F3F-20442A37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49D1-EF0E-4B40-B024-617375E6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9B3F3-E8CB-4DE0-9DD1-53A4321D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2196-1DA6-4558-B03F-5EFB4CE4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2300-2589-48AE-B846-E546D052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0938-BB44-4C96-919B-3006B9921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496D-3A95-48E6-A869-37D73D471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7B74-63DC-4D70-8AFB-6BC7C53D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78C1-B59F-479E-9477-7A30C10D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C507-F8D8-4592-BE33-E9D084D4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7F2A-5143-4DF0-A8D0-C815B6C81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90D5-C232-4A87-BBEA-3DB03DF0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DD6B-1396-40FD-ABCF-EA9D2EA5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0589-4CEC-47F8-85AC-1BC5D7BD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E20F-31C4-472D-B23F-76801D2B1298}" type="slidenum">
              <a:rPr b="0" lang="ru-RU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2B27-E759-4CE7-B9D6-B4C7CC32807B}" type="slidenum">
              <a:rPr b="0" lang="ru-RU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slide" Target="slide9.xml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slide" Target="slide9.xml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slide" Target="slide9.xml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ординатная плоск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Рисуем на уроках математики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11280" y="5157720"/>
            <a:ext cx="619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Федулова Елена Александровна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Учитель МОУ СОШ пос. Знамя Октября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Решите уравне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запишите корни уравнений вместо недостающих координат соответствующих точек.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 постройте по точкам соответствующий рисунок. Достройте его симметрично оси 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57480" y="1980720"/>
            <a:ext cx="569088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1,4х=2х                      (х;-4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9-2(х+4)=2х+13         (х;-4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-4(2+3у)+11=-5у+17 (у;-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5у-12=-3у+12             (-2;у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0,2(3х+2)=2,6х-7,6     (-3;х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1,2(2у-4)+0,6=3у-3,6  (у;4)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16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m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-4=12 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m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+20        (-1;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m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5(7-2a)+13=9a+48     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6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4(3-7c)+10=-10c-140  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-1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6n-72=4n-50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              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)                              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                                    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                                        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995640" y="1989000"/>
            <a:ext cx="762120" cy="368280"/>
          </a:xfrm>
          <a:prstGeom prst="rect">
            <a:avLst/>
          </a:prstGeom>
          <a:solidFill>
            <a:srgbClr val="bab9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(0;-4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4603680" y="2060640"/>
            <a:ext cx="4426200" cy="456876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sp>
        <p:nvSpPr>
          <p:cNvPr id="354" name=""/>
          <p:cNvSpPr/>
          <p:nvPr/>
        </p:nvSpPr>
        <p:spPr>
          <a:xfrm>
            <a:off x="5105520" y="5373720"/>
            <a:ext cx="4038480" cy="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6804000" y="2349360"/>
            <a:ext cx="0" cy="419112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995640" y="2276640"/>
            <a:ext cx="906480" cy="368280"/>
          </a:xfrm>
          <a:prstGeom prst="rect">
            <a:avLst/>
          </a:prstGeom>
          <a:solidFill>
            <a:srgbClr val="bab9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(-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;-4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995640" y="2565360"/>
            <a:ext cx="1081080" cy="368280"/>
          </a:xfrm>
          <a:prstGeom prst="rect">
            <a:avLst/>
          </a:prstGeom>
          <a:solidFill>
            <a:srgbClr val="bab9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-2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;-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067280" y="2852640"/>
            <a:ext cx="761760" cy="368280"/>
          </a:xfrm>
          <a:prstGeom prst="rect">
            <a:avLst/>
          </a:prstGeom>
          <a:solidFill>
            <a:srgbClr val="bab9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-2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067280" y="3141720"/>
            <a:ext cx="761760" cy="368280"/>
          </a:xfrm>
          <a:prstGeom prst="rect">
            <a:avLst/>
          </a:prstGeom>
          <a:solidFill>
            <a:srgbClr val="bab9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-3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;4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067280" y="3429000"/>
            <a:ext cx="761760" cy="368280"/>
          </a:xfrm>
          <a:prstGeom prst="rect">
            <a:avLst/>
          </a:prstGeom>
          <a:solidFill>
            <a:srgbClr val="bab9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-1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;4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067280" y="3789360"/>
            <a:ext cx="761760" cy="368280"/>
          </a:xfrm>
          <a:prstGeom prst="rect">
            <a:avLst/>
          </a:prstGeom>
          <a:solidFill>
            <a:srgbClr val="bab9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-1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5640" y="4076640"/>
            <a:ext cx="762120" cy="368280"/>
          </a:xfrm>
          <a:prstGeom prst="rect">
            <a:avLst/>
          </a:prstGeom>
          <a:solidFill>
            <a:srgbClr val="bab9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(0;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067280" y="4365720"/>
            <a:ext cx="761760" cy="368280"/>
          </a:xfrm>
          <a:prstGeom prst="rect">
            <a:avLst/>
          </a:prstGeom>
          <a:solidFill>
            <a:srgbClr val="bab9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-1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780000" y="4653000"/>
            <a:ext cx="1008000" cy="368280"/>
          </a:xfrm>
          <a:prstGeom prst="rect">
            <a:avLst/>
          </a:prstGeom>
          <a:solidFill>
            <a:srgbClr val="bab9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(0;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11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04000" y="6524640"/>
            <a:ext cx="76320" cy="763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156360" y="6524640"/>
            <a:ext cx="76320" cy="763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372360" y="6237360"/>
            <a:ext cx="75960" cy="759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372360" y="4437000"/>
            <a:ext cx="75960" cy="763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156360" y="4149720"/>
            <a:ext cx="76320" cy="763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588000" y="4149720"/>
            <a:ext cx="76320" cy="763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588000" y="3573360"/>
            <a:ext cx="76320" cy="763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04000" y="3573360"/>
            <a:ext cx="76320" cy="763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588000" y="2637000"/>
            <a:ext cx="76320" cy="759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732720" y="2060640"/>
            <a:ext cx="75960" cy="759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020000" y="2637000"/>
            <a:ext cx="75960" cy="759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020000" y="3573360"/>
            <a:ext cx="75960" cy="763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020000" y="4149720"/>
            <a:ext cx="75960" cy="763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380360" y="4149720"/>
            <a:ext cx="75960" cy="763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236000" y="4437000"/>
            <a:ext cx="75960" cy="763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236000" y="6237360"/>
            <a:ext cx="75960" cy="759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524720" y="6524640"/>
            <a:ext cx="76320" cy="763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84720" y="1989000"/>
            <a:ext cx="1595520" cy="4608720"/>
          </a:xfrm>
          <a:custGeom>
            <a:avLst/>
            <a:gdLst/>
            <a:ahLst/>
            <a:rect l="l" t="t" r="r" b="b"/>
            <a:pathLst>
              <a:path w="1005" h="2903">
                <a:moveTo>
                  <a:pt x="507" y="2865"/>
                </a:moveTo>
                <a:cubicBezTo>
                  <a:pt x="356" y="2873"/>
                  <a:pt x="106" y="2903"/>
                  <a:pt x="53" y="2865"/>
                </a:cubicBezTo>
                <a:cubicBezTo>
                  <a:pt x="0" y="2827"/>
                  <a:pt x="166" y="2865"/>
                  <a:pt x="189" y="2638"/>
                </a:cubicBezTo>
                <a:cubicBezTo>
                  <a:pt x="212" y="2411"/>
                  <a:pt x="212" y="1716"/>
                  <a:pt x="189" y="1504"/>
                </a:cubicBezTo>
                <a:cubicBezTo>
                  <a:pt x="166" y="1292"/>
                  <a:pt x="30" y="1391"/>
                  <a:pt x="53" y="1368"/>
                </a:cubicBezTo>
                <a:cubicBezTo>
                  <a:pt x="76" y="1345"/>
                  <a:pt x="280" y="1436"/>
                  <a:pt x="325" y="1368"/>
                </a:cubicBezTo>
                <a:cubicBezTo>
                  <a:pt x="370" y="1300"/>
                  <a:pt x="295" y="1028"/>
                  <a:pt x="325" y="960"/>
                </a:cubicBezTo>
                <a:cubicBezTo>
                  <a:pt x="355" y="892"/>
                  <a:pt x="507" y="1051"/>
                  <a:pt x="507" y="960"/>
                </a:cubicBezTo>
                <a:cubicBezTo>
                  <a:pt x="507" y="869"/>
                  <a:pt x="333" y="574"/>
                  <a:pt x="325" y="415"/>
                </a:cubicBezTo>
                <a:cubicBezTo>
                  <a:pt x="317" y="256"/>
                  <a:pt x="416" y="14"/>
                  <a:pt x="461" y="7"/>
                </a:cubicBezTo>
                <a:cubicBezTo>
                  <a:pt x="506" y="0"/>
                  <a:pt x="597" y="204"/>
                  <a:pt x="597" y="370"/>
                </a:cubicBezTo>
                <a:cubicBezTo>
                  <a:pt x="597" y="536"/>
                  <a:pt x="446" y="907"/>
                  <a:pt x="461" y="1005"/>
                </a:cubicBezTo>
                <a:cubicBezTo>
                  <a:pt x="476" y="1103"/>
                  <a:pt x="658" y="892"/>
                  <a:pt x="688" y="960"/>
                </a:cubicBezTo>
                <a:cubicBezTo>
                  <a:pt x="718" y="1028"/>
                  <a:pt x="613" y="1345"/>
                  <a:pt x="643" y="1413"/>
                </a:cubicBezTo>
                <a:cubicBezTo>
                  <a:pt x="673" y="1481"/>
                  <a:pt x="846" y="1345"/>
                  <a:pt x="869" y="1368"/>
                </a:cubicBezTo>
                <a:cubicBezTo>
                  <a:pt x="892" y="1391"/>
                  <a:pt x="802" y="1330"/>
                  <a:pt x="779" y="1549"/>
                </a:cubicBezTo>
                <a:cubicBezTo>
                  <a:pt x="756" y="1768"/>
                  <a:pt x="703" y="2471"/>
                  <a:pt x="733" y="2683"/>
                </a:cubicBezTo>
                <a:cubicBezTo>
                  <a:pt x="763" y="2895"/>
                  <a:pt x="1005" y="2796"/>
                  <a:pt x="960" y="2819"/>
                </a:cubicBezTo>
                <a:cubicBezTo>
                  <a:pt x="915" y="2842"/>
                  <a:pt x="658" y="2857"/>
                  <a:pt x="507" y="2865"/>
                </a:cubicBezTo>
                <a:close/>
              </a:path>
            </a:pathLst>
          </a:custGeom>
          <a:solidFill>
            <a:srgbClr val="f4f3d9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516720" y="1628640"/>
            <a:ext cx="66528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00"/>
                            </p:stCondLst>
                            <p:childTnLst>
                              <p:par>
                                <p:cTn id="8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6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000"/>
                            </p:stCondLst>
                            <p:childTnLst>
                              <p:par>
                                <p:cTn id="8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0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1500"/>
                            </p:stCondLst>
                            <p:childTnLst>
                              <p:par>
                                <p:cTn id="8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4" dur="5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2000"/>
                            </p:stCondLst>
                            <p:childTnLst>
                              <p:par>
                                <p:cTn id="8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2500"/>
                            </p:stCondLst>
                            <p:childTnLst>
                              <p:par>
                                <p:cTn id="8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2" dur="500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6" dur="500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3500"/>
                            </p:stCondLst>
                            <p:childTnLst>
                              <p:par>
                                <p:cTn id="8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0" dur="500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4000"/>
                            </p:stCondLst>
                            <p:childTnLst>
                              <p:par>
                                <p:cTn id="8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4" dur="500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4500"/>
                            </p:stCondLst>
                            <p:childTnLst>
                              <p:par>
                                <p:cTn id="8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5000"/>
                            </p:stCondLst>
                            <p:childTnLst>
                              <p:par>
                                <p:cTn id="8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500"/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5500"/>
                            </p:stCondLst>
                            <p:childTnLst>
                              <p:par>
                                <p:cTn id="8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6" dur="500"/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6000"/>
                            </p:stCondLst>
                            <p:childTnLst>
                              <p:par>
                                <p:cTn id="8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0" dur="500"/>
                                        <p:tgtEl>
                                          <p:spTgt spid="3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1000"/>
                            </p:stCondLst>
                            <p:childTnLst>
                              <p:par>
                                <p:cTn id="9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1500"/>
                            </p:stCondLst>
                            <p:childTnLst>
                              <p:par>
                                <p:cTn id="9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2500"/>
                            </p:stCondLst>
                            <p:childTnLst>
                              <p:par>
                                <p:cTn id="9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3000"/>
                            </p:stCondLst>
                            <p:childTnLst>
                              <p:par>
                                <p:cTn id="9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3500"/>
                            </p:stCondLst>
                            <p:childTnLst>
                              <p:par>
                                <p:cTn id="9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4000"/>
                            </p:stCondLst>
                            <p:childTnLst>
                              <p:par>
                                <p:cTn id="9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4500"/>
                            </p:stCondLst>
                            <p:childTnLst>
                              <p:par>
                                <p:cTn id="9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5000"/>
                            </p:stCondLst>
                            <p:childTnLst>
                              <p:par>
                                <p:cTn id="9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5500"/>
                            </p:stCondLst>
                            <p:childTnLst>
                              <p:par>
                                <p:cTn id="9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500"/>
                            </p:stCondLst>
                            <p:childTnLst>
                              <p:par>
                                <p:cTn id="9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1000"/>
                            </p:stCondLst>
                            <p:childTnLst>
                              <p:par>
                                <p:cTn id="9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1500"/>
                            </p:stCondLst>
                            <p:childTnLst>
                              <p:par>
                                <p:cTn id="9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0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09142"/>
                                      </p:to>
                                    </p:animClr>
                                    <p:set>
                                      <p:cBhvr>
                                        <p:cTn id="1011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Решите уравнения и запишите корни уравнений вместо недостающих координат соответствующих точек. Нанесите точки на координатную плоскость. Последнюю точку замкните на первой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-2х+16=5х-19   (х;1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8х-25=3х+20    (х;0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6-х=3(3х-8)      (5;х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5(х+1,2)=7х+4   (1;х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4(х-3)-16=5(х-5) (х;3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3х-17=8х+18      (х;0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11-5х=12-6х       (-3;х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4х+(11,8-х)=3,8-5х    (1;х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">
            <a:hlinkClick r:id="rId1" action="ppaction://hlinksldjump"/>
          </p:cNvPr>
          <p:cNvSpPr/>
          <p:nvPr/>
        </p:nvSpPr>
        <p:spPr>
          <a:xfrm>
            <a:off x="4114800" y="6324480"/>
            <a:ext cx="304920" cy="2811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23423" h="21600">
                <a:moveTo>
                  <a:pt x="0" y="0"/>
                </a:moveTo>
                <a:lnTo>
                  <a:pt x="23423" y="0"/>
                </a:lnTo>
                <a:lnTo>
                  <a:pt x="23423" y="21600"/>
                </a:lnTo>
                <a:lnTo>
                  <a:pt x="0" y="21600"/>
                </a:lnTo>
                <a:close/>
              </a:path>
              <a:path fill="lightenLess" w="23423" h="21600">
                <a:moveTo>
                  <a:pt x="0" y="0"/>
                </a:moveTo>
                <a:lnTo>
                  <a:pt x="23423" y="0"/>
                </a:lnTo>
                <a:lnTo>
                  <a:pt x="22023" y="1400"/>
                </a:lnTo>
                <a:lnTo>
                  <a:pt x="1400" y="1400"/>
                </a:lnTo>
                <a:close/>
              </a:path>
              <a:path fill="darken" w="23423" h="21600">
                <a:moveTo>
                  <a:pt x="23423" y="0"/>
                </a:moveTo>
                <a:lnTo>
                  <a:pt x="23423" y="21600"/>
                </a:lnTo>
                <a:lnTo>
                  <a:pt x="22023" y="20200"/>
                </a:lnTo>
                <a:lnTo>
                  <a:pt x="22023" y="1400"/>
                </a:lnTo>
                <a:close/>
              </a:path>
              <a:path fill="darkenLess" w="23423" h="21600">
                <a:moveTo>
                  <a:pt x="23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23" y="20200"/>
                </a:lnTo>
                <a:close/>
              </a:path>
              <a:path fill="lighten" w="23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23" h="21600">
                <a:moveTo>
                  <a:pt x="4705" y="10800"/>
                </a:moveTo>
                <a:lnTo>
                  <a:pt x="18718" y="3794"/>
                </a:lnTo>
                <a:lnTo>
                  <a:pt x="18718" y="17806"/>
                </a:lnTo>
                <a:close/>
              </a:path>
            </a:pathLst>
          </a:custGeom>
          <a:solidFill>
            <a:srgbClr val="f4f3d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132000" y="2852640"/>
            <a:ext cx="71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32000" y="2852640"/>
            <a:ext cx="792360" cy="307080"/>
          </a:xfrm>
          <a:prstGeom prst="rect">
            <a:avLst/>
          </a:prstGeom>
          <a:solidFill>
            <a:srgbClr val="bab9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Arial"/>
              </a:rPr>
              <a:t>(5; 1)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132000" y="3213000"/>
            <a:ext cx="792360" cy="307080"/>
          </a:xfrm>
          <a:prstGeom prst="rect">
            <a:avLst/>
          </a:prstGeom>
          <a:solidFill>
            <a:srgbClr val="bab9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Arial"/>
              </a:rPr>
              <a:t>(9; 0)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203640" y="3573360"/>
            <a:ext cx="792000" cy="307080"/>
          </a:xfrm>
          <a:prstGeom prst="rect">
            <a:avLst/>
          </a:prstGeom>
          <a:solidFill>
            <a:srgbClr val="bab9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Arial"/>
              </a:rPr>
              <a:t>(5; 3)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276720" y="3933720"/>
            <a:ext cx="792000" cy="307080"/>
          </a:xfrm>
          <a:prstGeom prst="rect">
            <a:avLst/>
          </a:prstGeom>
          <a:solidFill>
            <a:srgbClr val="bab9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Arial"/>
              </a:rPr>
              <a:t>(1; 1)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348000" y="4221000"/>
            <a:ext cx="792360" cy="307080"/>
          </a:xfrm>
          <a:prstGeom prst="rect">
            <a:avLst/>
          </a:prstGeom>
          <a:solidFill>
            <a:srgbClr val="bab9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Arial"/>
              </a:rPr>
              <a:t>(-3; 3)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276720" y="4581360"/>
            <a:ext cx="792000" cy="307080"/>
          </a:xfrm>
          <a:prstGeom prst="rect">
            <a:avLst/>
          </a:prstGeom>
          <a:solidFill>
            <a:srgbClr val="bab9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Arial"/>
              </a:rPr>
              <a:t>(-7; 0)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348000" y="4941720"/>
            <a:ext cx="792360" cy="307080"/>
          </a:xfrm>
          <a:prstGeom prst="rect">
            <a:avLst/>
          </a:prstGeom>
          <a:solidFill>
            <a:srgbClr val="bab9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Arial"/>
              </a:rPr>
              <a:t>(-3; 1)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708360" y="5229360"/>
            <a:ext cx="792360" cy="307080"/>
          </a:xfrm>
          <a:prstGeom prst="rect">
            <a:avLst/>
          </a:prstGeom>
          <a:solidFill>
            <a:srgbClr val="bab9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Arial"/>
              </a:rPr>
              <a:t>(1; -1)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500"/>
                            </p:stCondLst>
                            <p:childTnLst>
                              <p:par>
                                <p:cTn id="10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6" name=""/>
          <p:cNvGraphicFramePr/>
          <p:nvPr/>
        </p:nvGraphicFramePr>
        <p:xfrm>
          <a:off x="0" y="0"/>
          <a:ext cx="9144000" cy="68547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4760"/>
                  </a:xfrm>
                  <a:prstGeom prst="rect">
                    <a:avLst/>
                  </a:prstGeom>
                  <a:ln w="28440">
                    <a:solidFill>
                      <a:srgbClr val="33333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98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57240">
            <a:solidFill>
              <a:srgbClr val="e091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4572000" y="0"/>
            <a:ext cx="0" cy="6858000"/>
          </a:xfrm>
          <a:prstGeom prst="line">
            <a:avLst/>
          </a:prstGeom>
          <a:ln w="57240">
            <a:solidFill>
              <a:srgbClr val="e091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382320" y="990720"/>
            <a:ext cx="8487000" cy="3507480"/>
            <a:chOff x="382320" y="990720"/>
            <a:chExt cx="8487000" cy="3507480"/>
          </a:xfrm>
        </p:grpSpPr>
        <p:sp>
          <p:nvSpPr>
            <p:cNvPr id="401" name=""/>
            <p:cNvSpPr/>
            <p:nvPr/>
          </p:nvSpPr>
          <p:spPr>
            <a:xfrm>
              <a:off x="4726080" y="3352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09142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039920" y="33526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09142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20960" y="33526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09142"/>
                  </a:solidFill>
                  <a:latin typeface="Times New Roman"/>
                </a:rPr>
                <a:t>-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73840" y="33526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09142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021720" y="3352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09142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116600" y="1600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09142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211120" y="33526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09142"/>
                  </a:solidFill>
                  <a:latin typeface="Times New Roman"/>
                </a:rPr>
                <a:t>-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92560" y="40384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09142"/>
                  </a:solidFill>
                  <a:latin typeface="Times New Roman"/>
                </a:rPr>
                <a:t>-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631200" y="3352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09142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0" name="PlaceHolder 1"/>
            <p:cNvSpPr>
              <a:spLocks noGrp="1"/>
            </p:cNvSpPr>
            <p:nvPr>
              <p:ph type="title"/>
            </p:nvPr>
          </p:nvSpPr>
          <p:spPr>
            <a:xfrm>
              <a:off x="4533840" y="990720"/>
              <a:ext cx="609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ctr">
              <a:noAutofit/>
            </a:bodyPr>
            <a:p>
              <a:pPr indent="0">
                <a:spcBef>
                  <a:spcPts val="1500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09142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383680" y="34290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09142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2320" y="335268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09142"/>
                  </a:solidFill>
                  <a:latin typeface="Times New Roman"/>
                </a:rPr>
                <a:t>-1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601640" y="33526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09142"/>
                  </a:solidFill>
                  <a:latin typeface="Times New Roman"/>
                </a:rPr>
                <a:t>-9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088400" y="3352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09142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3962520" y="3962520"/>
            <a:ext cx="75960" cy="75960"/>
          </a:xfrm>
          <a:prstGeom prst="ellipse">
            <a:avLst/>
          </a:prstGeom>
          <a:solidFill>
            <a:srgbClr val="333333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048120" y="2743200"/>
            <a:ext cx="7596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 flipV="1">
            <a:off x="3123720" y="2819160"/>
            <a:ext cx="838440" cy="1143000"/>
          </a:xfrm>
          <a:prstGeom prst="line">
            <a:avLst/>
          </a:prstGeom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828800" y="2133720"/>
            <a:ext cx="76320" cy="75960"/>
          </a:xfrm>
          <a:prstGeom prst="ellipse">
            <a:avLst/>
          </a:prstGeom>
          <a:solidFill>
            <a:srgbClr val="333333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1904760" y="2209680"/>
            <a:ext cx="1143000" cy="533520"/>
          </a:xfrm>
          <a:prstGeom prst="line">
            <a:avLst/>
          </a:prstGeom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133720" y="2133720"/>
            <a:ext cx="75960" cy="75960"/>
          </a:xfrm>
          <a:prstGeom prst="ellipse">
            <a:avLst/>
          </a:prstGeom>
          <a:solidFill>
            <a:srgbClr val="333333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905120" y="2133720"/>
            <a:ext cx="304560" cy="0"/>
          </a:xfrm>
          <a:prstGeom prst="line">
            <a:avLst/>
          </a:prstGeom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600" y="114300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95280" y="1268280"/>
            <a:ext cx="1828800" cy="914400"/>
          </a:xfrm>
          <a:prstGeom prst="line">
            <a:avLst/>
          </a:prstGeom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438280" y="182880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4920" y="1219320"/>
            <a:ext cx="2133360" cy="609480"/>
          </a:xfrm>
          <a:prstGeom prst="line">
            <a:avLst/>
          </a:prstGeom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048120" y="1523880"/>
            <a:ext cx="7596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2514600" y="1599840"/>
            <a:ext cx="533520" cy="228600"/>
          </a:xfrm>
          <a:prstGeom prst="line">
            <a:avLst/>
          </a:prstGeom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52680" y="152388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1523880"/>
            <a:ext cx="304920" cy="0"/>
          </a:xfrm>
          <a:prstGeom prst="line">
            <a:avLst/>
          </a:prstGeom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495680" y="243828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429000" y="1523880"/>
            <a:ext cx="1143000" cy="990720"/>
          </a:xfrm>
          <a:prstGeom prst="line">
            <a:avLst/>
          </a:prstGeom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91320" y="1752480"/>
            <a:ext cx="7596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4572000" y="1828440"/>
            <a:ext cx="1295280" cy="609480"/>
          </a:xfrm>
          <a:prstGeom prst="line">
            <a:avLst/>
          </a:prstGeom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19920" y="1752480"/>
            <a:ext cx="7596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67280" y="1828800"/>
            <a:ext cx="152640" cy="0"/>
          </a:xfrm>
          <a:prstGeom prst="line">
            <a:avLst/>
          </a:prstGeom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181480" y="266688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5181480" y="1828800"/>
            <a:ext cx="914400" cy="914400"/>
          </a:xfrm>
          <a:prstGeom prst="line">
            <a:avLst/>
          </a:prstGeom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400800" y="335268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181480" y="2743200"/>
            <a:ext cx="1219320" cy="609480"/>
          </a:xfrm>
          <a:prstGeom prst="line">
            <a:avLst/>
          </a:prstGeom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705720" y="3352680"/>
            <a:ext cx="7596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315200" y="274320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6781680" y="2819160"/>
            <a:ext cx="533520" cy="533160"/>
          </a:xfrm>
          <a:prstGeom prst="line">
            <a:avLst/>
          </a:prstGeom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477120" y="3352680"/>
            <a:ext cx="304560" cy="0"/>
          </a:xfrm>
          <a:prstGeom prst="line">
            <a:avLst/>
          </a:prstGeom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315200" y="2362320"/>
            <a:ext cx="76320" cy="75960"/>
          </a:xfrm>
          <a:prstGeom prst="ellipse">
            <a:avLst/>
          </a:prstGeom>
          <a:solidFill>
            <a:srgbClr val="333333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7391520" y="2362320"/>
            <a:ext cx="0" cy="380880"/>
          </a:xfrm>
          <a:prstGeom prst="line">
            <a:avLst/>
          </a:prstGeom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534520" y="1523880"/>
            <a:ext cx="7596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7391520" y="1599840"/>
            <a:ext cx="1143000" cy="762120"/>
          </a:xfrm>
          <a:prstGeom prst="line">
            <a:avLst/>
          </a:prstGeom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924680" y="274320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7924680" y="1600200"/>
            <a:ext cx="609840" cy="1219320"/>
          </a:xfrm>
          <a:prstGeom prst="line">
            <a:avLst/>
          </a:prstGeom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839080" y="342900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924680" y="2743200"/>
            <a:ext cx="914400" cy="609480"/>
          </a:xfrm>
          <a:prstGeom prst="line">
            <a:avLst/>
          </a:prstGeom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229600" y="335268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8229240" y="3352680"/>
            <a:ext cx="609480" cy="0"/>
          </a:xfrm>
          <a:prstGeom prst="line">
            <a:avLst/>
          </a:prstGeom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924680" y="3048120"/>
            <a:ext cx="76320" cy="75960"/>
          </a:xfrm>
          <a:prstGeom prst="ellipse">
            <a:avLst/>
          </a:prstGeom>
          <a:solidFill>
            <a:srgbClr val="333333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 flipV="1">
            <a:off x="8000640" y="3123720"/>
            <a:ext cx="228600" cy="228600"/>
          </a:xfrm>
          <a:prstGeom prst="line">
            <a:avLst/>
          </a:prstGeom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705720" y="4267080"/>
            <a:ext cx="7596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6781320" y="3048120"/>
            <a:ext cx="1143000" cy="1218960"/>
          </a:xfrm>
          <a:prstGeom prst="line">
            <a:avLst/>
          </a:prstGeom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791320" y="4267080"/>
            <a:ext cx="7596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5867280" y="4343400"/>
            <a:ext cx="914400" cy="0"/>
          </a:xfrm>
          <a:prstGeom prst="line">
            <a:avLst/>
          </a:prstGeom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886200" y="335268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3886200" y="3429000"/>
            <a:ext cx="1905120" cy="838080"/>
          </a:xfrm>
          <a:prstGeom prst="line">
            <a:avLst/>
          </a:prstGeom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62520" y="3429000"/>
            <a:ext cx="0" cy="533520"/>
          </a:xfrm>
          <a:prstGeom prst="line">
            <a:avLst/>
          </a:prstGeom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19520" y="1905120"/>
            <a:ext cx="228600" cy="75960"/>
          </a:xfrm>
          <a:prstGeom prst="ellipse">
            <a:avLst/>
          </a:prstGeom>
          <a:solidFill>
            <a:srgbClr val="333333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91120" y="2286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5" name="">
            <a:hlinkClick r:id="rId3" action="ppaction://hlinksldjump"/>
          </p:cNvPr>
          <p:cNvSpPr/>
          <p:nvPr/>
        </p:nvSpPr>
        <p:spPr>
          <a:xfrm>
            <a:off x="7772400" y="632448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7493"/>
                </a:moveTo>
                <a:lnTo>
                  <a:pt x="18084" y="7493"/>
                </a:lnTo>
                <a:lnTo>
                  <a:pt x="18084" y="12828"/>
                </a:lnTo>
                <a:cubicBezTo>
                  <a:pt x="18084" y="13751"/>
                  <a:pt x="18885" y="14482"/>
                  <a:pt x="19921" y="14482"/>
                </a:cubicBezTo>
                <a:lnTo>
                  <a:pt x="21583" y="14482"/>
                </a:lnTo>
                <a:cubicBezTo>
                  <a:pt x="22619" y="14482"/>
                  <a:pt x="23420" y="13751"/>
                  <a:pt x="23420" y="12828"/>
                </a:cubicBezTo>
                <a:lnTo>
                  <a:pt x="23420" y="7493"/>
                </a:lnTo>
                <a:lnTo>
                  <a:pt x="21583" y="7493"/>
                </a:lnTo>
                <a:lnTo>
                  <a:pt x="25091" y="3985"/>
                </a:lnTo>
                <a:lnTo>
                  <a:pt x="28764" y="7493"/>
                </a:lnTo>
                <a:lnTo>
                  <a:pt x="26927" y="7493"/>
                </a:lnTo>
                <a:lnTo>
                  <a:pt x="26927" y="12828"/>
                </a:lnTo>
                <a:cubicBezTo>
                  <a:pt x="26927" y="15596"/>
                  <a:pt x="24351" y="18155"/>
                  <a:pt x="21583" y="18155"/>
                </a:cubicBezTo>
                <a:lnTo>
                  <a:pt x="19921" y="18155"/>
                </a:lnTo>
                <a:cubicBezTo>
                  <a:pt x="17153" y="18155"/>
                  <a:pt x="14577" y="15596"/>
                  <a:pt x="14577" y="12828"/>
                </a:cubicBezTo>
                <a:close/>
              </a:path>
            </a:pathLst>
          </a:custGeom>
          <a:solidFill>
            <a:srgbClr val="f4f3d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4" name="PROJCTOR.WAV"/>
      </p:stSnd>
    </p:sndAc>
  </p:transition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500"/>
                            </p:stCondLst>
                            <p:childTnLst>
                              <p:par>
                                <p:cTn id="10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500"/>
                            </p:stCondLst>
                            <p:childTnLst>
                              <p:par>
                                <p:cTn id="10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4500"/>
                            </p:stCondLst>
                            <p:childTnLst>
                              <p:par>
                                <p:cTn id="1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5500"/>
                            </p:stCondLst>
                            <p:childTnLst>
                              <p:par>
                                <p:cTn id="1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6500"/>
                            </p:stCondLst>
                            <p:childTnLst>
                              <p:par>
                                <p:cTn id="1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7000"/>
                            </p:stCondLst>
                            <p:childTnLst>
                              <p:par>
                                <p:cTn id="1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7500"/>
                            </p:stCondLst>
                            <p:childTnLst>
                              <p:par>
                                <p:cTn id="1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8500"/>
                            </p:stCondLst>
                            <p:childTnLst>
                              <p:par>
                                <p:cTn id="1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9000"/>
                            </p:stCondLst>
                            <p:childTnLst>
                              <p:par>
                                <p:cTn id="1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9500"/>
                            </p:stCondLst>
                            <p:childTnLst>
                              <p:par>
                                <p:cTn id="1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1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21500"/>
                            </p:stCondLst>
                            <p:childTnLst>
                              <p:par>
                                <p:cTn id="1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1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23000"/>
                            </p:stCondLst>
                            <p:childTnLst>
                              <p:par>
                                <p:cTn id="1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23500"/>
                            </p:stCondLst>
                            <p:childTnLst>
                              <p:par>
                                <p:cTn id="1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24000"/>
                            </p:stCondLst>
                            <p:childTnLst>
                              <p:par>
                                <p:cTn id="1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6" name=""/>
          <p:cNvGraphicFramePr/>
          <p:nvPr/>
        </p:nvGraphicFramePr>
        <p:xfrm>
          <a:off x="0" y="3240"/>
          <a:ext cx="9144000" cy="68547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9144000" cy="6854760"/>
                  </a:xfrm>
                  <a:prstGeom prst="rect">
                    <a:avLst/>
                  </a:prstGeom>
                  <a:ln w="28440">
                    <a:solidFill>
                      <a:srgbClr val="33333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68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57240">
            <a:solidFill>
              <a:srgbClr val="e091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4572000" y="0"/>
            <a:ext cx="0" cy="6858000"/>
          </a:xfrm>
          <a:prstGeom prst="line">
            <a:avLst/>
          </a:prstGeom>
          <a:ln w="57240">
            <a:solidFill>
              <a:srgbClr val="e091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382320" y="990720"/>
            <a:ext cx="8487000" cy="3507480"/>
            <a:chOff x="382320" y="990720"/>
            <a:chExt cx="8487000" cy="3507480"/>
          </a:xfrm>
        </p:grpSpPr>
        <p:sp>
          <p:nvSpPr>
            <p:cNvPr id="471" name=""/>
            <p:cNvSpPr/>
            <p:nvPr/>
          </p:nvSpPr>
          <p:spPr>
            <a:xfrm>
              <a:off x="4726080" y="3352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09142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039920" y="33526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09142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820960" y="33526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09142"/>
                  </a:solidFill>
                  <a:latin typeface="Times New Roman"/>
                </a:rPr>
                <a:t>-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773840" y="33526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09142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021720" y="3352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09142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116600" y="1600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09142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211120" y="33526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09142"/>
                  </a:solidFill>
                  <a:latin typeface="Times New Roman"/>
                </a:rPr>
                <a:t>-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92560" y="40384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09142"/>
                  </a:solidFill>
                  <a:latin typeface="Times New Roman"/>
                </a:rPr>
                <a:t>-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631200" y="3352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09142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0" name="PlaceHolder 1"/>
            <p:cNvSpPr>
              <a:spLocks noGrp="1"/>
            </p:cNvSpPr>
            <p:nvPr>
              <p:ph type="title"/>
            </p:nvPr>
          </p:nvSpPr>
          <p:spPr>
            <a:xfrm>
              <a:off x="4533840" y="990720"/>
              <a:ext cx="609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ctr">
              <a:noAutofit/>
            </a:bodyPr>
            <a:p>
              <a:pPr indent="0">
                <a:spcBef>
                  <a:spcPts val="1500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09142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383680" y="34290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09142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82320" y="335268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09142"/>
                  </a:solidFill>
                  <a:latin typeface="Times New Roman"/>
                </a:rPr>
                <a:t>-1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601640" y="33526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09142"/>
                  </a:solidFill>
                  <a:latin typeface="Times New Roman"/>
                </a:rPr>
                <a:t>-9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088400" y="3352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09142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2133720" y="1219320"/>
            <a:ext cx="75960" cy="759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438280" y="914400"/>
            <a:ext cx="76320" cy="763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048120" y="1143000"/>
            <a:ext cx="75960" cy="763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352680" y="838080"/>
            <a:ext cx="76320" cy="763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62520" y="533520"/>
            <a:ext cx="75960" cy="759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572000" y="533520"/>
            <a:ext cx="76320" cy="759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876920" y="838080"/>
            <a:ext cx="75960" cy="763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095880" y="1447920"/>
            <a:ext cx="76320" cy="759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315200" y="2057400"/>
            <a:ext cx="76320" cy="763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620120" y="2362320"/>
            <a:ext cx="75960" cy="759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010280" y="2438280"/>
            <a:ext cx="76320" cy="763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400800" y="2666880"/>
            <a:ext cx="76320" cy="763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400800" y="3390840"/>
            <a:ext cx="76320" cy="763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095880" y="4267080"/>
            <a:ext cx="76320" cy="763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715000" y="4876920"/>
            <a:ext cx="76320" cy="759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181480" y="5486400"/>
            <a:ext cx="76320" cy="763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495680" y="5791320"/>
            <a:ext cx="76320" cy="759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495680" y="6400800"/>
            <a:ext cx="76320" cy="763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267080" y="6781680"/>
            <a:ext cx="76320" cy="763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886200" y="6477120"/>
            <a:ext cx="76320" cy="759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657600" y="6095880"/>
            <a:ext cx="76320" cy="763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971800" y="5867280"/>
            <a:ext cx="76320" cy="763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352680" y="5486400"/>
            <a:ext cx="76320" cy="763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657600" y="4876920"/>
            <a:ext cx="76320" cy="759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276720" y="4267080"/>
            <a:ext cx="75960" cy="763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66880" y="3962520"/>
            <a:ext cx="76320" cy="759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133720" y="4267080"/>
            <a:ext cx="75960" cy="763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752480" y="4876920"/>
            <a:ext cx="76320" cy="759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057400" y="5486400"/>
            <a:ext cx="76320" cy="763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666880" y="5867280"/>
            <a:ext cx="76320" cy="763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191120" y="5486400"/>
            <a:ext cx="75960" cy="763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800600" y="4572000"/>
            <a:ext cx="76320" cy="763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876920" y="3657600"/>
            <a:ext cx="75960" cy="763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533840" y="3429000"/>
            <a:ext cx="76320" cy="763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267080" y="2666880"/>
            <a:ext cx="76320" cy="763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666880" y="1523880"/>
            <a:ext cx="76320" cy="763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1752480" y="533520"/>
            <a:ext cx="5867640" cy="6324480"/>
            <a:chOff x="1752480" y="533520"/>
            <a:chExt cx="5867640" cy="6324480"/>
          </a:xfrm>
        </p:grpSpPr>
        <p:sp>
          <p:nvSpPr>
            <p:cNvPr id="522" name=""/>
            <p:cNvSpPr/>
            <p:nvPr/>
          </p:nvSpPr>
          <p:spPr>
            <a:xfrm flipV="1">
              <a:off x="2133720" y="914040"/>
              <a:ext cx="380880" cy="30492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438280" y="914400"/>
              <a:ext cx="609840" cy="22860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3124080" y="837720"/>
              <a:ext cx="304920" cy="30492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3429000" y="533520"/>
              <a:ext cx="533520" cy="30456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962520" y="533520"/>
              <a:ext cx="609480" cy="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572000" y="533520"/>
              <a:ext cx="304920" cy="30456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952880" y="914400"/>
              <a:ext cx="1143000" cy="53352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095880" y="1447920"/>
              <a:ext cx="1295640" cy="60948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391520" y="2057400"/>
              <a:ext cx="228600" cy="30492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7010280" y="2438280"/>
              <a:ext cx="609840" cy="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6400440" y="2514600"/>
              <a:ext cx="609480" cy="22860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400800" y="2743200"/>
              <a:ext cx="76320" cy="68580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6095520" y="3429000"/>
              <a:ext cx="381240" cy="91440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>
              <a:off x="5715000" y="4343400"/>
              <a:ext cx="380880" cy="60948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5181480" y="4952880"/>
              <a:ext cx="609840" cy="60984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4571640" y="5562720"/>
              <a:ext cx="609480" cy="83808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4343040" y="6400800"/>
              <a:ext cx="228600" cy="45720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flipV="1">
              <a:off x="3886200" y="6477120"/>
              <a:ext cx="457200" cy="38088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 flipV="1">
              <a:off x="3657240" y="6095520"/>
              <a:ext cx="228600" cy="38124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 flipV="1">
              <a:off x="2971440" y="5866920"/>
              <a:ext cx="685800" cy="22860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2666520" y="5867280"/>
              <a:ext cx="304920" cy="7632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 flipV="1">
              <a:off x="2057040" y="5486400"/>
              <a:ext cx="609480" cy="45720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 flipV="1">
              <a:off x="1828440" y="5029200"/>
              <a:ext cx="228600" cy="45720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1752480" y="4267080"/>
              <a:ext cx="457200" cy="60984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2209680" y="3962520"/>
              <a:ext cx="533520" cy="30456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743200" y="3962520"/>
              <a:ext cx="533520" cy="30456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276720" y="4267080"/>
              <a:ext cx="457200" cy="60984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3352320" y="4876920"/>
              <a:ext cx="381240" cy="68580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3048120" y="5562720"/>
              <a:ext cx="304560" cy="30456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3048120" y="5562720"/>
              <a:ext cx="1218960" cy="30456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267080" y="5562720"/>
              <a:ext cx="304920" cy="30456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4572000" y="4572000"/>
              <a:ext cx="304920" cy="129528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4876920" y="3657600"/>
              <a:ext cx="0" cy="91440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 flipV="1">
              <a:off x="4267080" y="2666880"/>
              <a:ext cx="609840" cy="99072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 flipV="1">
              <a:off x="2666520" y="1523520"/>
              <a:ext cx="1600200" cy="114300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 flipV="1">
              <a:off x="2133360" y="1219320"/>
              <a:ext cx="533160" cy="30456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3962520" y="1219320"/>
            <a:ext cx="228600" cy="152280"/>
          </a:xfrm>
          <a:prstGeom prst="ellipse">
            <a:avLst/>
          </a:prstGeom>
          <a:solidFill>
            <a:srgbClr val="3333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828800" y="3962520"/>
            <a:ext cx="1828800" cy="1981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0" name="">
            <a:hlinkClick r:id="rId3" action="ppaction://hlinksldjump"/>
          </p:cNvPr>
          <p:cNvSpPr/>
          <p:nvPr/>
        </p:nvSpPr>
        <p:spPr>
          <a:xfrm>
            <a:off x="7772400" y="632448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7493"/>
                </a:moveTo>
                <a:lnTo>
                  <a:pt x="18084" y="7493"/>
                </a:lnTo>
                <a:lnTo>
                  <a:pt x="18084" y="12828"/>
                </a:lnTo>
                <a:cubicBezTo>
                  <a:pt x="18084" y="13751"/>
                  <a:pt x="18885" y="14482"/>
                  <a:pt x="19921" y="14482"/>
                </a:cubicBezTo>
                <a:lnTo>
                  <a:pt x="21583" y="14482"/>
                </a:lnTo>
                <a:cubicBezTo>
                  <a:pt x="22619" y="14482"/>
                  <a:pt x="23420" y="13751"/>
                  <a:pt x="23420" y="12828"/>
                </a:cubicBezTo>
                <a:lnTo>
                  <a:pt x="23420" y="7493"/>
                </a:lnTo>
                <a:lnTo>
                  <a:pt x="21583" y="7493"/>
                </a:lnTo>
                <a:lnTo>
                  <a:pt x="25091" y="3985"/>
                </a:lnTo>
                <a:lnTo>
                  <a:pt x="28764" y="7493"/>
                </a:lnTo>
                <a:lnTo>
                  <a:pt x="26927" y="7493"/>
                </a:lnTo>
                <a:lnTo>
                  <a:pt x="26927" y="12828"/>
                </a:lnTo>
                <a:cubicBezTo>
                  <a:pt x="26927" y="15596"/>
                  <a:pt x="24351" y="18155"/>
                  <a:pt x="21583" y="18155"/>
                </a:cubicBezTo>
                <a:lnTo>
                  <a:pt x="19921" y="18155"/>
                </a:lnTo>
                <a:cubicBezTo>
                  <a:pt x="17153" y="18155"/>
                  <a:pt x="14577" y="15596"/>
                  <a:pt x="14577" y="12828"/>
                </a:cubicBezTo>
                <a:close/>
              </a:path>
            </a:pathLst>
          </a:custGeom>
          <a:solidFill>
            <a:srgbClr val="f4f3d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4" name="PROJCTOR.WAV"/>
      </p:stSnd>
    </p:sndAc>
  </p:transition>
  <p:timing>
    <p:tnLst>
      <p:par>
        <p:cTn id="1274" dur="indefinite" restart="never" nodeType="tmRoot">
          <p:childTnLst>
            <p:seq>
              <p:cTn id="1275" dur="indefinite" nodeType="mainSeq">
                <p:childTnLst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6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500"/>
                            </p:stCondLst>
                            <p:childTnLst>
                              <p:par>
                                <p:cTn id="1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4500"/>
                            </p:stCondLst>
                            <p:childTnLst>
                              <p:par>
                                <p:cTn id="1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5500"/>
                            </p:stCondLst>
                            <p:childTnLst>
                              <p:par>
                                <p:cTn id="1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6500"/>
                            </p:stCondLst>
                            <p:childTnLst>
                              <p:par>
                                <p:cTn id="1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7000"/>
                            </p:stCondLst>
                            <p:childTnLst>
                              <p:par>
                                <p:cTn id="1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7500"/>
                            </p:stCondLst>
                            <p:childTnLst>
                              <p:par>
                                <p:cTn id="1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8500"/>
                            </p:stCondLst>
                            <p:childTnLst>
                              <p:par>
                                <p:cTn id="13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8" fill="hold">
                            <p:stCondLst>
                              <p:cond delay="9000"/>
                            </p:stCondLst>
                            <p:childTnLst>
                              <p:par>
                                <p:cTn id="1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9500"/>
                            </p:stCondLst>
                            <p:childTnLst>
                              <p:par>
                                <p:cTn id="1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fill="hold">
                            <p:stCondLst>
                              <p:cond delay="14500"/>
                            </p:stCondLst>
                            <p:childTnLst>
                              <p:par>
                                <p:cTn id="13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15500"/>
                            </p:stCondLst>
                            <p:childTnLst>
                              <p:par>
                                <p:cTn id="13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fill="hold">
                            <p:stCondLst>
                              <p:cond delay="17000"/>
                            </p:stCondLst>
                            <p:childTnLst>
                              <p:par>
                                <p:cTn id="13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17500"/>
                            </p:stCondLst>
                            <p:childTnLst>
                              <p:par>
                                <p:cTn id="14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1" name=""/>
          <p:cNvGraphicFramePr/>
          <p:nvPr/>
        </p:nvGraphicFramePr>
        <p:xfrm>
          <a:off x="0" y="3240"/>
          <a:ext cx="9144000" cy="68547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9144000" cy="6854760"/>
                  </a:xfrm>
                  <a:prstGeom prst="rect">
                    <a:avLst/>
                  </a:prstGeom>
                  <a:ln w="28440">
                    <a:solidFill>
                      <a:srgbClr val="33333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63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57240">
            <a:solidFill>
              <a:srgbClr val="e091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4284720" y="0"/>
            <a:ext cx="0" cy="6858000"/>
          </a:xfrm>
          <a:prstGeom prst="line">
            <a:avLst/>
          </a:prstGeom>
          <a:ln w="57240">
            <a:solidFill>
              <a:srgbClr val="e091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1440" y="907920"/>
            <a:ext cx="8486280" cy="3507480"/>
            <a:chOff x="1440" y="907920"/>
            <a:chExt cx="8486280" cy="3507480"/>
          </a:xfrm>
        </p:grpSpPr>
        <p:sp>
          <p:nvSpPr>
            <p:cNvPr id="566" name=""/>
            <p:cNvSpPr/>
            <p:nvPr/>
          </p:nvSpPr>
          <p:spPr>
            <a:xfrm>
              <a:off x="4344480" y="3269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09142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658320" y="32698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09142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439360" y="32698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09142"/>
                  </a:solidFill>
                  <a:latin typeface="Times New Roman"/>
                </a:rPr>
                <a:t>-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392600" y="32698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09142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640120" y="3269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09142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735000" y="1517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09142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829520" y="32698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09142"/>
                  </a:solidFill>
                  <a:latin typeface="Times New Roman"/>
                </a:rPr>
                <a:t>-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10960" y="39556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09142"/>
                  </a:solidFill>
                  <a:latin typeface="Times New Roman"/>
                </a:rPr>
                <a:t>-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249600" y="3269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09142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5" name="PlaceHolder 1"/>
            <p:cNvSpPr>
              <a:spLocks noGrp="1"/>
            </p:cNvSpPr>
            <p:nvPr>
              <p:ph type="title"/>
            </p:nvPr>
          </p:nvSpPr>
          <p:spPr>
            <a:xfrm>
              <a:off x="4152240" y="90792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ctr">
              <a:noAutofit/>
            </a:bodyPr>
            <a:p>
              <a:pPr indent="0">
                <a:spcBef>
                  <a:spcPts val="1500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09142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002080" y="33462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09142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0" y="326988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09142"/>
                  </a:solidFill>
                  <a:latin typeface="Times New Roman"/>
                </a:rPr>
                <a:t>-1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220040" y="32698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09142"/>
                  </a:solidFill>
                  <a:latin typeface="Times New Roman"/>
                </a:rPr>
                <a:t>-9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706800" y="3269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09142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5796000" y="2997360"/>
            <a:ext cx="71280" cy="712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948360" y="3357720"/>
            <a:ext cx="71640" cy="712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96000" y="2997360"/>
            <a:ext cx="1152360" cy="3603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6000" y="2492280"/>
            <a:ext cx="71280" cy="716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500720" y="3068640"/>
            <a:ext cx="71280" cy="712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348000" y="2421000"/>
            <a:ext cx="71640" cy="712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95640" y="3357720"/>
            <a:ext cx="71280" cy="712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48000" y="3141720"/>
            <a:ext cx="71640" cy="712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00720" y="3645000"/>
            <a:ext cx="71280" cy="712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796000" y="2492280"/>
            <a:ext cx="1152360" cy="8654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4572000" y="2491920"/>
            <a:ext cx="1224000" cy="5763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348000" y="2421000"/>
            <a:ext cx="1152720" cy="6476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268360" y="2492280"/>
            <a:ext cx="1079640" cy="8654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268360" y="3141720"/>
            <a:ext cx="1079640" cy="2160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348000" y="3141720"/>
            <a:ext cx="1224000" cy="5745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4572000" y="2997000"/>
            <a:ext cx="1295280" cy="7189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195640" y="2276640"/>
            <a:ext cx="4752720" cy="1584000"/>
          </a:xfrm>
          <a:custGeom>
            <a:avLst/>
            <a:gdLst/>
            <a:ahLst/>
            <a:rect l="l" t="t" r="r" b="b"/>
            <a:pathLst>
              <a:path w="2994" h="809">
                <a:moveTo>
                  <a:pt x="2268" y="393"/>
                </a:moveTo>
                <a:cubicBezTo>
                  <a:pt x="2517" y="355"/>
                  <a:pt x="2994" y="635"/>
                  <a:pt x="2994" y="575"/>
                </a:cubicBezTo>
                <a:cubicBezTo>
                  <a:pt x="2994" y="515"/>
                  <a:pt x="2525" y="60"/>
                  <a:pt x="2268" y="30"/>
                </a:cubicBezTo>
                <a:cubicBezTo>
                  <a:pt x="2011" y="0"/>
                  <a:pt x="1701" y="393"/>
                  <a:pt x="1452" y="393"/>
                </a:cubicBezTo>
                <a:cubicBezTo>
                  <a:pt x="1203" y="393"/>
                  <a:pt x="1013" y="0"/>
                  <a:pt x="771" y="30"/>
                </a:cubicBezTo>
                <a:cubicBezTo>
                  <a:pt x="529" y="60"/>
                  <a:pt x="0" y="507"/>
                  <a:pt x="0" y="575"/>
                </a:cubicBezTo>
                <a:cubicBezTo>
                  <a:pt x="0" y="643"/>
                  <a:pt x="522" y="401"/>
                  <a:pt x="771" y="439"/>
                </a:cubicBezTo>
                <a:cubicBezTo>
                  <a:pt x="1020" y="477"/>
                  <a:pt x="1248" y="809"/>
                  <a:pt x="1497" y="801"/>
                </a:cubicBezTo>
                <a:cubicBezTo>
                  <a:pt x="1746" y="793"/>
                  <a:pt x="2019" y="431"/>
                  <a:pt x="2268" y="393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7" name="">
            <a:hlinkClick r:id="rId3" action="ppaction://hlinksldjump"/>
          </p:cNvPr>
          <p:cNvSpPr/>
          <p:nvPr/>
        </p:nvSpPr>
        <p:spPr>
          <a:xfrm>
            <a:off x="7772400" y="632448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7493"/>
                </a:moveTo>
                <a:lnTo>
                  <a:pt x="18084" y="7493"/>
                </a:lnTo>
                <a:lnTo>
                  <a:pt x="18084" y="12828"/>
                </a:lnTo>
                <a:cubicBezTo>
                  <a:pt x="18084" y="13751"/>
                  <a:pt x="18885" y="14482"/>
                  <a:pt x="19921" y="14482"/>
                </a:cubicBezTo>
                <a:lnTo>
                  <a:pt x="21583" y="14482"/>
                </a:lnTo>
                <a:cubicBezTo>
                  <a:pt x="22619" y="14482"/>
                  <a:pt x="23420" y="13751"/>
                  <a:pt x="23420" y="12828"/>
                </a:cubicBezTo>
                <a:lnTo>
                  <a:pt x="23420" y="7493"/>
                </a:lnTo>
                <a:lnTo>
                  <a:pt x="21583" y="7493"/>
                </a:lnTo>
                <a:lnTo>
                  <a:pt x="25091" y="3985"/>
                </a:lnTo>
                <a:lnTo>
                  <a:pt x="28764" y="7493"/>
                </a:lnTo>
                <a:lnTo>
                  <a:pt x="26927" y="7493"/>
                </a:lnTo>
                <a:lnTo>
                  <a:pt x="26927" y="12828"/>
                </a:lnTo>
                <a:cubicBezTo>
                  <a:pt x="26927" y="15596"/>
                  <a:pt x="24351" y="18155"/>
                  <a:pt x="21583" y="18155"/>
                </a:cubicBezTo>
                <a:lnTo>
                  <a:pt x="19921" y="18155"/>
                </a:lnTo>
                <a:cubicBezTo>
                  <a:pt x="17153" y="18155"/>
                  <a:pt x="14577" y="15596"/>
                  <a:pt x="14577" y="12828"/>
                </a:cubicBezTo>
                <a:close/>
              </a:path>
            </a:pathLst>
          </a:custGeom>
          <a:solidFill>
            <a:srgbClr val="f4f3d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419" dur="indefinite" restart="never" nodeType="tmRoot">
          <p:childTnLst>
            <p:seq>
              <p:cTn id="1420" dur="indefinite" nodeType="mainSeq">
                <p:childTnLst>
                  <p:par>
                    <p:cTn id="1421" fill="hold">
                      <p:stCondLst>
                        <p:cond delay="0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fill="hold">
                            <p:stCondLst>
                              <p:cond delay="500"/>
                            </p:stCondLst>
                            <p:childTnLst>
                              <p:par>
                                <p:cTn id="143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7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500"/>
                            </p:stCondLst>
                            <p:childTnLst>
                              <p:par>
                                <p:cTn id="150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0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511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 flipH="1" rot="207000">
            <a:off x="1501560" y="1455840"/>
            <a:ext cx="784080" cy="13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 rot="99000">
            <a:off x="8153280" y="4038480"/>
            <a:ext cx="725760" cy="12826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830760" y="-239760"/>
            <a:ext cx="54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7000" y="3429000"/>
            <a:ext cx="8470800" cy="1584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556160" y="0"/>
            <a:ext cx="15840" cy="685800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080200" y="2273400"/>
            <a:ext cx="80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57720" y="3429000"/>
            <a:ext cx="0" cy="0"/>
          </a:xfrm>
          <a:prstGeom prst="line">
            <a:avLst/>
          </a:prstGeom>
          <a:ln w="936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44960" y="3279600"/>
            <a:ext cx="0" cy="179640"/>
          </a:xfrm>
          <a:prstGeom prst="line">
            <a:avLst/>
          </a:prstGeom>
          <a:ln w="936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4440" y="2697120"/>
            <a:ext cx="8686800" cy="0"/>
          </a:xfrm>
          <a:prstGeom prst="line">
            <a:avLst/>
          </a:prstGeom>
          <a:ln w="936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1981080"/>
            <a:ext cx="8640720" cy="0"/>
          </a:xfrm>
          <a:prstGeom prst="line">
            <a:avLst/>
          </a:prstGeom>
          <a:ln w="936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1249200"/>
            <a:ext cx="8702640" cy="0"/>
          </a:xfrm>
          <a:prstGeom prst="line">
            <a:avLst/>
          </a:prstGeom>
          <a:ln w="936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4440" y="533520"/>
            <a:ext cx="8670960" cy="0"/>
          </a:xfrm>
          <a:prstGeom prst="line">
            <a:avLst/>
          </a:prstGeom>
          <a:ln w="936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130640"/>
            <a:ext cx="8640720" cy="0"/>
          </a:xfrm>
          <a:prstGeom prst="line">
            <a:avLst/>
          </a:prstGeom>
          <a:ln w="936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861080"/>
            <a:ext cx="8899560" cy="0"/>
          </a:xfrm>
          <a:prstGeom prst="line">
            <a:avLst/>
          </a:prstGeom>
          <a:ln w="936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5578560"/>
            <a:ext cx="8626320" cy="14040"/>
          </a:xfrm>
          <a:prstGeom prst="line">
            <a:avLst/>
          </a:prstGeom>
          <a:ln w="936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6294600"/>
            <a:ext cx="8518680" cy="14040"/>
          </a:xfrm>
          <a:prstGeom prst="line">
            <a:avLst/>
          </a:prstGeom>
          <a:ln w="936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73640" y="198360"/>
            <a:ext cx="0" cy="6461280"/>
          </a:xfrm>
          <a:prstGeom prst="line">
            <a:avLst/>
          </a:prstGeom>
          <a:ln w="936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989680" y="212760"/>
            <a:ext cx="0" cy="6400800"/>
          </a:xfrm>
          <a:prstGeom prst="line">
            <a:avLst/>
          </a:prstGeom>
          <a:ln w="936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198360"/>
            <a:ext cx="29880" cy="6431040"/>
          </a:xfrm>
          <a:prstGeom prst="line">
            <a:avLst/>
          </a:prstGeom>
          <a:ln w="936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437600" y="212760"/>
            <a:ext cx="0" cy="6446880"/>
          </a:xfrm>
          <a:prstGeom prst="line">
            <a:avLst/>
          </a:prstGeom>
          <a:ln w="936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137440" y="212760"/>
            <a:ext cx="15840" cy="6432480"/>
          </a:xfrm>
          <a:prstGeom prst="line">
            <a:avLst/>
          </a:prstGeom>
          <a:ln w="936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93000" y="212760"/>
            <a:ext cx="30240" cy="6432480"/>
          </a:xfrm>
          <a:prstGeom prst="line">
            <a:avLst/>
          </a:prstGeom>
          <a:ln w="936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40120" y="0"/>
            <a:ext cx="0" cy="6645240"/>
          </a:xfrm>
          <a:prstGeom prst="line">
            <a:avLst/>
          </a:prstGeom>
          <a:ln w="936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08240" y="182520"/>
            <a:ext cx="15840" cy="6446880"/>
          </a:xfrm>
          <a:prstGeom prst="line">
            <a:avLst/>
          </a:prstGeom>
          <a:ln w="936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92200" y="0"/>
            <a:ext cx="0" cy="6675480"/>
          </a:xfrm>
          <a:prstGeom prst="line">
            <a:avLst/>
          </a:prstGeom>
          <a:ln w="936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646280" y="182520"/>
            <a:ext cx="14400" cy="6431040"/>
          </a:xfrm>
          <a:prstGeom prst="line">
            <a:avLst/>
          </a:prstGeom>
          <a:ln w="936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44640" y="0"/>
            <a:ext cx="15840" cy="6645240"/>
          </a:xfrm>
          <a:prstGeom prst="line">
            <a:avLst/>
          </a:prstGeom>
          <a:ln w="936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3000" y="0"/>
            <a:ext cx="1440" cy="6659640"/>
          </a:xfrm>
          <a:prstGeom prst="line">
            <a:avLst/>
          </a:prstGeom>
          <a:ln w="936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1235160"/>
            <a:ext cx="24264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24640" y="5546880"/>
            <a:ext cx="2552400" cy="1312920"/>
          </a:xfrm>
          <a:prstGeom prst="rect">
            <a:avLst/>
          </a:prstGeom>
          <a:gradFill rotWithShape="0">
            <a:gsLst>
              <a:gs pos="0">
                <a:srgbClr val="bab9a0"/>
              </a:gs>
              <a:gs pos="50000">
                <a:srgbClr val="00ffff"/>
              </a:gs>
              <a:gs pos="100000">
                <a:srgbClr val="bab9a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33"/>
                </a:solidFill>
                <a:latin typeface="Times New Roman"/>
                <a:ea typeface="Arial"/>
              </a:rPr>
              <a:t>(</a:t>
            </a:r>
            <a:r>
              <a:rPr b="1" lang="ru-RU" sz="8000" spc="-1" strike="noStrike">
                <a:solidFill>
                  <a:srgbClr val="333333"/>
                </a:solidFill>
                <a:latin typeface="Times New Roman"/>
                <a:ea typeface="Arial"/>
              </a:rPr>
              <a:t>1;</a:t>
            </a:r>
            <a:r>
              <a:rPr b="1" lang="en-US" sz="8000" spc="-1" strike="noStrike">
                <a:solidFill>
                  <a:srgbClr val="333333"/>
                </a:solidFill>
                <a:latin typeface="Times New Roman"/>
                <a:ea typeface="Arial"/>
              </a:rPr>
              <a:t>-</a:t>
            </a:r>
            <a:r>
              <a:rPr b="1" lang="ru-RU" sz="8000" spc="-1" strike="noStrike">
                <a:solidFill>
                  <a:srgbClr val="333333"/>
                </a:solidFill>
                <a:latin typeface="Times New Roman"/>
                <a:ea typeface="Arial"/>
              </a:rPr>
              <a:t>3</a:t>
            </a:r>
            <a:r>
              <a:rPr b="1" lang="en-US" sz="8000" spc="-1" strike="noStrike">
                <a:solidFill>
                  <a:srgbClr val="333333"/>
                </a:solidFill>
                <a:latin typeface="Times New Roman"/>
                <a:ea typeface="Arial"/>
              </a:rPr>
              <a:t>)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20794200">
            <a:off x="320760" y="1310760"/>
            <a:ext cx="3024000" cy="1312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bab9a0"/>
              </a:gs>
              <a:gs pos="100000">
                <a:srgbClr val="00ff00"/>
              </a:gs>
            </a:gsLst>
            <a:lin ang="89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33"/>
                </a:solidFill>
                <a:latin typeface="Times New Roman"/>
                <a:ea typeface="Arial"/>
              </a:rPr>
              <a:t>(-3;-2)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43680" y="1127160"/>
            <a:ext cx="228600" cy="244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66040" y="2556000"/>
            <a:ext cx="279360" cy="276120"/>
          </a:xfrm>
          <a:prstGeom prst="ellipse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135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593040" y="334800"/>
            <a:ext cx="2214360" cy="13129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50000">
                <a:srgbClr val="bab9a0"/>
              </a:gs>
              <a:gs pos="100000">
                <a:srgbClr val="ff66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33"/>
                </a:solidFill>
                <a:latin typeface="Times New Roman"/>
                <a:ea typeface="Arial"/>
              </a:rPr>
              <a:t>(1;3)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 flipH="1">
            <a:off x="2742840" y="1676520"/>
            <a:ext cx="1506600" cy="1387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-277920" y="3371760"/>
            <a:ext cx="961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33"/>
                </a:solidFill>
                <a:latin typeface="Times New Roman"/>
                <a:ea typeface="Arial"/>
              </a:rPr>
              <a:t>    </a:t>
            </a:r>
            <a:r>
              <a:rPr b="1" lang="ru-RU" sz="5400" spc="-1" strike="noStrike">
                <a:solidFill>
                  <a:srgbClr val="333333"/>
                </a:solidFill>
                <a:latin typeface="Times New Roman"/>
                <a:ea typeface="Arial"/>
              </a:rPr>
              <a:t>-5</a:t>
            </a:r>
            <a:r>
              <a:rPr b="1" lang="ru-RU" sz="3200" spc="-1" strike="noStrike">
                <a:solidFill>
                  <a:srgbClr val="333333"/>
                </a:solidFill>
                <a:latin typeface="Times New Roman"/>
                <a:ea typeface="Arial"/>
              </a:rPr>
              <a:t>  </a:t>
            </a:r>
            <a:r>
              <a:rPr b="1" lang="ru-RU" sz="5400" spc="-1" strike="noStrike">
                <a:solidFill>
                  <a:srgbClr val="333333"/>
                </a:solidFill>
                <a:latin typeface="Times New Roman"/>
                <a:ea typeface="Arial"/>
              </a:rPr>
              <a:t>-4 -3 -2 -1      1  2  3  4  5  6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  <a:ea typeface="Arial"/>
              </a:rPr>
              <a:t>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91080" y="0"/>
            <a:ext cx="696960" cy="9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33"/>
                </a:solidFill>
                <a:latin typeface="Times New Roman"/>
                <a:ea typeface="Arial"/>
              </a:rPr>
              <a:t>4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33"/>
                </a:solidFill>
                <a:latin typeface="Times New Roman"/>
                <a:ea typeface="Arial"/>
              </a:rPr>
              <a:t>3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33"/>
                </a:solidFill>
                <a:latin typeface="Times New Roman"/>
                <a:ea typeface="Arial"/>
              </a:rPr>
              <a:t>2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33"/>
                </a:solidFill>
                <a:latin typeface="Times New Roman"/>
                <a:ea typeface="Arial"/>
              </a:rPr>
              <a:t>1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33"/>
                </a:solidFill>
                <a:latin typeface="Times New Roman"/>
                <a:ea typeface="Arial"/>
              </a:rPr>
              <a:t>-1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33"/>
                </a:solidFill>
                <a:latin typeface="Times New Roman"/>
                <a:ea typeface="Arial"/>
              </a:rPr>
              <a:t>-2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33"/>
                </a:solidFill>
                <a:latin typeface="Times New Roman"/>
                <a:ea typeface="Arial"/>
              </a:rPr>
              <a:t>-3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33"/>
                </a:solidFill>
                <a:latin typeface="Times New Roman"/>
                <a:ea typeface="Arial"/>
              </a:rPr>
              <a:t>-4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2940120" y="5450040"/>
            <a:ext cx="336600" cy="3268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2133720" y="2398680"/>
            <a:ext cx="469800" cy="44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58382E-006 C 0.06754 0.01896 0.13507 0.03815 0.18073 0.07006 C 0.22639 0.10196 0.25122 0.13225 0.27379 0.19144 C 0.29636 0.25063 0.30886 0.38705 0.3158 0.4252 E">
                                      <p:cBhvr>
                                        <p:cTn id="70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36994E-006 L 0.9658 -0.00439 E">
                                      <p:cBhvr>
                                        <p:cTn id="73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60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500"/>
                            </p:stCondLst>
                            <p:childTnLst>
                              <p:par>
                                <p:cTn id="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753 0.00209 C -0.15677 0.02775 -0.29496 0.05619 -0.38437 0.0659 C -0.47291 0.07839 -0.52448 0.06359 -0.55139 0.06359 E">
                                      <p:cBhvr>
                                        <p:cTn id="102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27746E-006 C -0.00226 -0.02266 -0.00434 -0.04532 -0.01771 -0.06312 C -0.03108 -0.08093 -0.07031 -0.10058 -0.08073 -0.10752 E">
                                      <p:cBhvr>
                                        <p:cTn id="105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139 0.06365 L -1.02448 0.40601 E">
                                      <p:cBhvr>
                                        <p:cTn id="108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7000"/>
                            </p:stCondLst>
                            <p:childTnLst>
                              <p:par>
                                <p:cTn id="1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96296E-006 C 0.08108 -0.00347 0.16233 -0.00671 0.2401 0.00671 C 0.31788 0.02014 0.37205 0.03866 0.46667 0.08009 C 0.56129 0.12153 0.75139 0.22639 0.80833 0.25556 E">
                                      <p:cBhvr>
                                        <p:cTn id="166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572000" y="0"/>
            <a:ext cx="696960" cy="9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33"/>
                </a:solidFill>
                <a:latin typeface="Times New Roman"/>
                <a:ea typeface="Arial"/>
              </a:rPr>
              <a:t>4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33"/>
                </a:solidFill>
                <a:latin typeface="Times New Roman"/>
                <a:ea typeface="Arial"/>
              </a:rPr>
              <a:t>3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33"/>
                </a:solidFill>
                <a:latin typeface="Times New Roman"/>
                <a:ea typeface="Arial"/>
              </a:rPr>
              <a:t>2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33"/>
                </a:solidFill>
                <a:latin typeface="Times New Roman"/>
                <a:ea typeface="Arial"/>
              </a:rPr>
              <a:t>1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33"/>
                </a:solidFill>
                <a:latin typeface="Times New Roman"/>
                <a:ea typeface="Arial"/>
              </a:rPr>
              <a:t>-1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33"/>
                </a:solidFill>
                <a:latin typeface="Times New Roman"/>
                <a:ea typeface="Arial"/>
              </a:rPr>
              <a:t>-2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33"/>
                </a:solidFill>
                <a:latin typeface="Times New Roman"/>
                <a:ea typeface="Arial"/>
              </a:rPr>
              <a:t>-3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33"/>
                </a:solidFill>
                <a:latin typeface="Times New Roman"/>
                <a:ea typeface="Arial"/>
              </a:rPr>
              <a:t>-4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30760" y="-239760"/>
            <a:ext cx="54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7000" y="3429000"/>
            <a:ext cx="8470800" cy="1584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556160" y="0"/>
            <a:ext cx="15840" cy="685800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080200" y="2273400"/>
            <a:ext cx="80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57720" y="3429000"/>
            <a:ext cx="0" cy="0"/>
          </a:xfrm>
          <a:prstGeom prst="line">
            <a:avLst/>
          </a:prstGeom>
          <a:ln w="936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44960" y="3279600"/>
            <a:ext cx="0" cy="179640"/>
          </a:xfrm>
          <a:prstGeom prst="line">
            <a:avLst/>
          </a:prstGeom>
          <a:ln w="936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4440" y="2697120"/>
            <a:ext cx="8686800" cy="0"/>
          </a:xfrm>
          <a:prstGeom prst="line">
            <a:avLst/>
          </a:prstGeom>
          <a:ln w="936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1981080"/>
            <a:ext cx="8640720" cy="0"/>
          </a:xfrm>
          <a:prstGeom prst="line">
            <a:avLst/>
          </a:prstGeom>
          <a:ln w="936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1249200"/>
            <a:ext cx="8702640" cy="0"/>
          </a:xfrm>
          <a:prstGeom prst="line">
            <a:avLst/>
          </a:prstGeom>
          <a:ln w="936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44440" y="533520"/>
            <a:ext cx="8670960" cy="0"/>
          </a:xfrm>
          <a:prstGeom prst="line">
            <a:avLst/>
          </a:prstGeom>
          <a:ln w="936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4130640"/>
            <a:ext cx="8640720" cy="0"/>
          </a:xfrm>
          <a:prstGeom prst="line">
            <a:avLst/>
          </a:prstGeom>
          <a:ln w="936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4861080"/>
            <a:ext cx="8899560" cy="0"/>
          </a:xfrm>
          <a:prstGeom prst="line">
            <a:avLst/>
          </a:prstGeom>
          <a:ln w="936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5578560"/>
            <a:ext cx="8626320" cy="14040"/>
          </a:xfrm>
          <a:prstGeom prst="line">
            <a:avLst/>
          </a:prstGeom>
          <a:ln w="936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6294600"/>
            <a:ext cx="8518680" cy="14040"/>
          </a:xfrm>
          <a:prstGeom prst="line">
            <a:avLst/>
          </a:prstGeom>
          <a:ln w="936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73640" y="198360"/>
            <a:ext cx="0" cy="6461280"/>
          </a:xfrm>
          <a:prstGeom prst="line">
            <a:avLst/>
          </a:prstGeom>
          <a:ln w="936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89680" y="212760"/>
            <a:ext cx="0" cy="6400800"/>
          </a:xfrm>
          <a:prstGeom prst="line">
            <a:avLst/>
          </a:prstGeom>
          <a:ln w="936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98360"/>
            <a:ext cx="29880" cy="6431040"/>
          </a:xfrm>
          <a:prstGeom prst="line">
            <a:avLst/>
          </a:prstGeom>
          <a:ln w="936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37600" y="212760"/>
            <a:ext cx="0" cy="6446880"/>
          </a:xfrm>
          <a:prstGeom prst="line">
            <a:avLst/>
          </a:prstGeom>
          <a:ln w="936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137440" y="212760"/>
            <a:ext cx="15840" cy="6432480"/>
          </a:xfrm>
          <a:prstGeom prst="line">
            <a:avLst/>
          </a:prstGeom>
          <a:ln w="936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793000" y="212760"/>
            <a:ext cx="30240" cy="6432480"/>
          </a:xfrm>
          <a:prstGeom prst="line">
            <a:avLst/>
          </a:prstGeom>
          <a:ln w="936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40120" y="0"/>
            <a:ext cx="0" cy="6645240"/>
          </a:xfrm>
          <a:prstGeom prst="line">
            <a:avLst/>
          </a:prstGeom>
          <a:ln w="936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08240" y="182520"/>
            <a:ext cx="15840" cy="6446880"/>
          </a:xfrm>
          <a:prstGeom prst="line">
            <a:avLst/>
          </a:prstGeom>
          <a:ln w="936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92200" y="0"/>
            <a:ext cx="0" cy="6675480"/>
          </a:xfrm>
          <a:prstGeom prst="line">
            <a:avLst/>
          </a:prstGeom>
          <a:ln w="936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646280" y="182520"/>
            <a:ext cx="14400" cy="6431040"/>
          </a:xfrm>
          <a:prstGeom prst="line">
            <a:avLst/>
          </a:prstGeom>
          <a:ln w="936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44640" y="0"/>
            <a:ext cx="15840" cy="6645240"/>
          </a:xfrm>
          <a:prstGeom prst="line">
            <a:avLst/>
          </a:prstGeom>
          <a:ln w="936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43000" y="0"/>
            <a:ext cx="1440" cy="6659640"/>
          </a:xfrm>
          <a:prstGeom prst="line">
            <a:avLst/>
          </a:prstGeom>
          <a:ln w="936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65800" y="1235160"/>
            <a:ext cx="24264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-277920" y="3371760"/>
            <a:ext cx="961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33"/>
                </a:solidFill>
                <a:latin typeface="Times New Roman"/>
                <a:ea typeface="Arial"/>
              </a:rPr>
              <a:t>    </a:t>
            </a:r>
            <a:r>
              <a:rPr b="1" lang="ru-RU" sz="5400" spc="-1" strike="noStrike">
                <a:solidFill>
                  <a:srgbClr val="333333"/>
                </a:solidFill>
                <a:latin typeface="Times New Roman"/>
                <a:ea typeface="Arial"/>
              </a:rPr>
              <a:t>-5</a:t>
            </a:r>
            <a:r>
              <a:rPr b="1" lang="ru-RU" sz="3200" spc="-1" strike="noStrike">
                <a:solidFill>
                  <a:srgbClr val="333333"/>
                </a:solidFill>
                <a:latin typeface="Times New Roman"/>
                <a:ea typeface="Arial"/>
              </a:rPr>
              <a:t>  </a:t>
            </a:r>
            <a:r>
              <a:rPr b="1" lang="ru-RU" sz="5400" spc="-1" strike="noStrike">
                <a:solidFill>
                  <a:srgbClr val="333333"/>
                </a:solidFill>
                <a:latin typeface="Times New Roman"/>
                <a:ea typeface="Arial"/>
              </a:rPr>
              <a:t>-4 -3 -2 -1      1  2  3  4  5  6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  <a:ea typeface="Arial"/>
              </a:rPr>
              <a:t>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940120" y="5450040"/>
            <a:ext cx="336600" cy="3268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095560" y="4597560"/>
            <a:ext cx="469800" cy="449280"/>
          </a:xfrm>
          <a:prstGeom prst="rect">
            <a:avLst/>
          </a:prstGeom>
          <a:ln w="0">
            <a:noFill/>
          </a:ln>
        </p:spPr>
      </p:pic>
      <p:sp>
        <p:nvSpPr>
          <p:cNvPr id="184" name="">
            <a:hlinkClick r:id="" action="ppaction://hlinkshowjump?jump=endshow"/>
          </p:cNvPr>
          <p:cNvSpPr/>
          <p:nvPr/>
        </p:nvSpPr>
        <p:spPr>
          <a:xfrm>
            <a:off x="8432640" y="6184800"/>
            <a:ext cx="406440" cy="432000"/>
          </a:xfrm>
          <a:custGeom>
            <a:avLst/>
            <a:gdLst>
              <a:gd name="textAreaLeft" fmla="*/ 26280 w 406440"/>
              <a:gd name="textAreaRight" fmla="*/ 380160 w 406440"/>
              <a:gd name="textAreaTop" fmla="*/ 26280 h 432000"/>
              <a:gd name="textAreaBottom" fmla="*/ 405720 h 432000"/>
            </a:gdLst>
            <a:ahLst/>
            <a:rect l="textAreaLeft" t="textAreaTop" r="textAreaRight" b="textAreaBottom"/>
            <a:pathLst>
              <a:path w="21600" h="22957">
                <a:moveTo>
                  <a:pt x="0" y="0"/>
                </a:moveTo>
                <a:lnTo>
                  <a:pt x="21600" y="0"/>
                </a:lnTo>
                <a:lnTo>
                  <a:pt x="21600" y="22957"/>
                </a:lnTo>
                <a:lnTo>
                  <a:pt x="0" y="22957"/>
                </a:lnTo>
                <a:close/>
              </a:path>
              <a:path fill="lightenLess" w="21600" h="229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57">
                <a:moveTo>
                  <a:pt x="21600" y="0"/>
                </a:moveTo>
                <a:lnTo>
                  <a:pt x="21600" y="22957"/>
                </a:lnTo>
                <a:lnTo>
                  <a:pt x="20200" y="21557"/>
                </a:lnTo>
                <a:lnTo>
                  <a:pt x="20200" y="1400"/>
                </a:lnTo>
                <a:close/>
              </a:path>
              <a:path fill="darkenLess" w="21600" h="22957">
                <a:moveTo>
                  <a:pt x="21600" y="22957"/>
                </a:moveTo>
                <a:lnTo>
                  <a:pt x="0" y="22957"/>
                </a:lnTo>
                <a:lnTo>
                  <a:pt x="1400" y="21557"/>
                </a:lnTo>
                <a:lnTo>
                  <a:pt x="20200" y="21557"/>
                </a:lnTo>
                <a:close/>
              </a:path>
              <a:path fill="lighten" w="21600" h="22957">
                <a:moveTo>
                  <a:pt x="0" y="229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57"/>
                </a:lnTo>
                <a:close/>
              </a:path>
              <a:path fill="darken" w="21600" h="22957">
                <a:moveTo>
                  <a:pt x="3794" y="4472"/>
                </a:moveTo>
                <a:lnTo>
                  <a:pt x="17806" y="11479"/>
                </a:lnTo>
                <a:lnTo>
                  <a:pt x="3794" y="18485"/>
                </a:lnTo>
                <a:close/>
              </a:path>
            </a:pathLst>
          </a:custGeom>
          <a:gradFill rotWithShape="0">
            <a:gsLst>
              <a:gs pos="0">
                <a:srgbClr val="bab9a0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28600" y="304920"/>
            <a:ext cx="1447560" cy="1446840"/>
            <a:chOff x="228600" y="304920"/>
            <a:chExt cx="1447560" cy="1446840"/>
          </a:xfrm>
        </p:grpSpPr>
        <p:grpSp>
          <p:nvGrpSpPr>
            <p:cNvPr id="186" name=""/>
            <p:cNvGrpSpPr/>
            <p:nvPr/>
          </p:nvGrpSpPr>
          <p:grpSpPr>
            <a:xfrm>
              <a:off x="600480" y="1523880"/>
              <a:ext cx="562320" cy="227880"/>
              <a:chOff x="600480" y="1523880"/>
              <a:chExt cx="562320" cy="227880"/>
            </a:xfrm>
          </p:grpSpPr>
          <p:sp>
            <p:nvSpPr>
              <p:cNvPr id="187" name=""/>
              <p:cNvSpPr/>
              <p:nvPr/>
            </p:nvSpPr>
            <p:spPr>
              <a:xfrm>
                <a:off x="600480" y="1569240"/>
                <a:ext cx="562320" cy="182520"/>
              </a:xfrm>
              <a:prstGeom prst="ellipse">
                <a:avLst/>
              </a:prstGeom>
              <a:gradFill rotWithShape="0">
                <a:gsLst>
                  <a:gs pos="0">
                    <a:srgbClr val="bab9a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77160" y="1546200"/>
                <a:ext cx="434520" cy="137160"/>
              </a:xfrm>
              <a:prstGeom prst="ellipse">
                <a:avLst/>
              </a:prstGeom>
              <a:gradFill rotWithShape="0">
                <a:gsLst>
                  <a:gs pos="0">
                    <a:srgbClr val="bab9a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28280" y="1523880"/>
                <a:ext cx="306720" cy="68400"/>
              </a:xfrm>
              <a:prstGeom prst="ellipse">
                <a:avLst/>
              </a:prstGeom>
              <a:gradFill rotWithShape="0">
                <a:gsLst>
                  <a:gs pos="0">
                    <a:srgbClr val="bab9a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28600" y="304920"/>
              <a:ext cx="1367280" cy="642600"/>
            </a:xfrm>
            <a:custGeom>
              <a:avLst/>
              <a:gdLst/>
              <a:ahLst/>
              <a:rect l="l" t="t" r="r" b="b"/>
              <a:pathLst>
                <a:path w="487" h="405">
                  <a:moveTo>
                    <a:pt x="6" y="389"/>
                  </a:moveTo>
                  <a:lnTo>
                    <a:pt x="103" y="389"/>
                  </a:lnTo>
                  <a:lnTo>
                    <a:pt x="487" y="389"/>
                  </a:lnTo>
                  <a:lnTo>
                    <a:pt x="487" y="405"/>
                  </a:lnTo>
                  <a:lnTo>
                    <a:pt x="487" y="0"/>
                  </a:lnTo>
                  <a:lnTo>
                    <a:pt x="0" y="13"/>
                  </a:lnTo>
                  <a:lnTo>
                    <a:pt x="4" y="389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8600" y="304920"/>
              <a:ext cx="144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333333"/>
                  </a:solidFill>
                  <a:latin typeface="Times New Roman"/>
                  <a:ea typeface="Arial"/>
                </a:rPr>
                <a:t>(-3;-2)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68320" y="914040"/>
              <a:ext cx="1800" cy="650520"/>
            </a:xfrm>
            <a:custGeom>
              <a:avLst/>
              <a:gdLst/>
              <a:ahLst/>
              <a:rect l="l" t="t" r="r" b="b"/>
              <a:pathLst>
                <a:path w="1" h="410">
                  <a:moveTo>
                    <a:pt x="0" y="0"/>
                  </a:moveTo>
                  <a:lnTo>
                    <a:pt x="0" y="410"/>
                  </a:lnTo>
                </a:path>
              </a:pathLst>
            </a:custGeom>
            <a:noFill/>
            <a:ln w="28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2120760" y="1752480"/>
            <a:ext cx="470160" cy="4492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5803920" y="5423040"/>
            <a:ext cx="336600" cy="3268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5715000" y="990720"/>
            <a:ext cx="469800" cy="4492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6"/>
          <a:stretch/>
        </p:blipFill>
        <p:spPr>
          <a:xfrm>
            <a:off x="6413400" y="1727280"/>
            <a:ext cx="470160" cy="4492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7"/>
          <a:stretch/>
        </p:blipFill>
        <p:spPr>
          <a:xfrm>
            <a:off x="2946240" y="1066680"/>
            <a:ext cx="336600" cy="3272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8"/>
          <a:stretch/>
        </p:blipFill>
        <p:spPr>
          <a:xfrm>
            <a:off x="6553080" y="4702320"/>
            <a:ext cx="336600" cy="32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77556E-017 L 0.05555 0.53333 L 0.0625 0.58704 E">
                                      <p:cBhvr>
                                        <p:cTn id="175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198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6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0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е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Надо «уничтожить» все «корабли противника», назвав их координаты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24000" y="2886120"/>
            <a:ext cx="8820000" cy="397188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рисуй фигуру носоро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105160" y="2438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(-5;1) (-4;2) (0;2) (3;3) (3;4) (4;3) (5;3)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(6;2) (6;3) (6,5;2) (7;2) (7;3) (8;2) (8;1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(6;0) (5;0) (3;-1) (3;-4)(1;-4) (1;-2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(-3;-2) (-3;-4) (-5;-4) (-5;1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447920" y="2895480"/>
            <a:ext cx="3619440" cy="32529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205" name=""/>
          <p:cNvSpPr/>
          <p:nvPr/>
        </p:nvSpPr>
        <p:spPr>
          <a:xfrm flipV="1">
            <a:off x="3048120" y="2819160"/>
            <a:ext cx="0" cy="327636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71600" y="4648320"/>
            <a:ext cx="3657600" cy="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666880" y="2895480"/>
            <a:ext cx="2133360" cy="2212920"/>
            <a:chOff x="2666880" y="2895480"/>
            <a:chExt cx="2133360" cy="2212920"/>
          </a:xfrm>
        </p:grpSpPr>
        <p:sp>
          <p:nvSpPr>
            <p:cNvPr id="208" name=""/>
            <p:cNvSpPr/>
            <p:nvPr/>
          </p:nvSpPr>
          <p:spPr>
            <a:xfrm>
              <a:off x="2666880" y="2895480"/>
              <a:ext cx="28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582800" y="4648680"/>
              <a:ext cx="21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2124000" y="4365720"/>
            <a:ext cx="76320" cy="60120"/>
          </a:xfrm>
          <a:prstGeom prst="ellipse">
            <a:avLst/>
          </a:prstGeom>
          <a:solidFill>
            <a:srgbClr val="66ff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340000" y="4149720"/>
            <a:ext cx="76320" cy="604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195640" y="4221000"/>
            <a:ext cx="190440" cy="15264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971800" y="4141800"/>
            <a:ext cx="76320" cy="604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411280" y="4190760"/>
            <a:ext cx="598680" cy="2988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43480" y="3898800"/>
            <a:ext cx="75960" cy="61920"/>
          </a:xfrm>
          <a:prstGeom prst="ellipse">
            <a:avLst/>
          </a:prstGeom>
          <a:solidFill>
            <a:srgbClr val="66ff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971800" y="3962160"/>
            <a:ext cx="609480" cy="22860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05320" y="3733920"/>
            <a:ext cx="75960" cy="60120"/>
          </a:xfrm>
          <a:prstGeom prst="ellipse">
            <a:avLst/>
          </a:prstGeom>
          <a:solidFill>
            <a:srgbClr val="66ff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581280" y="3809520"/>
            <a:ext cx="0" cy="16524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33920" y="3898800"/>
            <a:ext cx="75960" cy="61920"/>
          </a:xfrm>
          <a:prstGeom prst="ellipse">
            <a:avLst/>
          </a:prstGeom>
          <a:solidFill>
            <a:srgbClr val="66ff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81280" y="3733920"/>
            <a:ext cx="190800" cy="18072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24360" y="3898800"/>
            <a:ext cx="76320" cy="61920"/>
          </a:xfrm>
          <a:prstGeom prst="ellipse">
            <a:avLst/>
          </a:prstGeom>
          <a:solidFill>
            <a:srgbClr val="66ff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72080" y="3960720"/>
            <a:ext cx="19044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4141800"/>
            <a:ext cx="76320" cy="604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62520" y="3960720"/>
            <a:ext cx="190440" cy="18108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14800" y="3898800"/>
            <a:ext cx="76320" cy="61920"/>
          </a:xfrm>
          <a:prstGeom prst="ellipse">
            <a:avLst/>
          </a:prstGeom>
          <a:solidFill>
            <a:srgbClr val="66ff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4152960" y="3898440"/>
            <a:ext cx="0" cy="30348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05240" y="4141800"/>
            <a:ext cx="76320" cy="604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52960" y="3960720"/>
            <a:ext cx="190440" cy="24156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305240" y="3898800"/>
            <a:ext cx="76320" cy="61920"/>
          </a:xfrm>
          <a:prstGeom prst="ellipse">
            <a:avLst/>
          </a:prstGeom>
          <a:solidFill>
            <a:srgbClr val="66ff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343400" y="3898440"/>
            <a:ext cx="0" cy="30348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95680" y="4141800"/>
            <a:ext cx="76320" cy="604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43400" y="3898800"/>
            <a:ext cx="190440" cy="30348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4383000"/>
            <a:ext cx="76320" cy="61920"/>
          </a:xfrm>
          <a:prstGeom prst="ellipse">
            <a:avLst/>
          </a:prstGeom>
          <a:solidFill>
            <a:srgbClr val="66ff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33840" y="4202280"/>
            <a:ext cx="0" cy="24264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076640" y="4626000"/>
            <a:ext cx="76320" cy="604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4152960" y="4383000"/>
            <a:ext cx="380880" cy="24300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24360" y="4626000"/>
            <a:ext cx="76320" cy="604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3962160" y="4648320"/>
            <a:ext cx="15228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505320" y="4800600"/>
            <a:ext cx="75960" cy="61920"/>
          </a:xfrm>
          <a:prstGeom prst="ellipse">
            <a:avLst/>
          </a:prstGeom>
          <a:solidFill>
            <a:srgbClr val="66ff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3505320" y="4648320"/>
            <a:ext cx="457200" cy="15228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05320" y="5486400"/>
            <a:ext cx="75960" cy="604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581280" y="4800600"/>
            <a:ext cx="0" cy="72540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200400" y="5486400"/>
            <a:ext cx="76320" cy="604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3200400" y="5486400"/>
            <a:ext cx="38088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24080" y="5029200"/>
            <a:ext cx="76320" cy="604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3200400" y="5029200"/>
            <a:ext cx="0" cy="45720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438280" y="5029200"/>
            <a:ext cx="76320" cy="604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14240" y="5029200"/>
            <a:ext cx="685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5410080"/>
            <a:ext cx="76320" cy="604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14600" y="5029200"/>
            <a:ext cx="0" cy="48420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58920" y="5435640"/>
            <a:ext cx="76320" cy="60120"/>
          </a:xfrm>
          <a:prstGeom prst="ellipse">
            <a:avLst/>
          </a:prstGeom>
          <a:solidFill>
            <a:srgbClr val="66ff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195280" y="5516640"/>
            <a:ext cx="3474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2195640" y="4437000"/>
            <a:ext cx="0" cy="106704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48040" y="4141800"/>
            <a:ext cx="114480" cy="181080"/>
          </a:xfrm>
          <a:prstGeom prst="ellipse">
            <a:avLst/>
          </a:prstGeom>
          <a:solidFill>
            <a:srgbClr val="3333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50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5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95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250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55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700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85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15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300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45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6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750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90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0500"/>
                            </p:stCondLst>
                            <p:childTnLst>
                              <p:par>
                                <p:cTn id="4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32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335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3500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365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380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950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10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25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440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455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470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485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15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300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450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6000"/>
                            </p:stCondLst>
                            <p:childTnLst>
                              <p:par>
                                <p:cTn id="4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750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90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605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62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6350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65000"/>
                            </p:stCondLst>
                            <p:childTnLst>
                              <p:par>
                                <p:cTn id="4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6650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5" name=""/>
          <p:cNvGraphicFramePr/>
          <p:nvPr/>
        </p:nvGraphicFramePr>
        <p:xfrm>
          <a:off x="0" y="0"/>
          <a:ext cx="9144000" cy="68547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4760"/>
                  </a:xfrm>
                  <a:prstGeom prst="rect">
                    <a:avLst/>
                  </a:prstGeom>
                  <a:ln w="28440">
                    <a:solidFill>
                      <a:srgbClr val="0066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57240">
            <a:solidFill>
              <a:srgbClr val="e091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572000" y="0"/>
            <a:ext cx="0" cy="6858000"/>
          </a:xfrm>
          <a:prstGeom prst="line">
            <a:avLst/>
          </a:prstGeom>
          <a:ln w="57240">
            <a:solidFill>
              <a:srgbClr val="e091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82320" y="990720"/>
            <a:ext cx="8487000" cy="3507480"/>
            <a:chOff x="382320" y="990720"/>
            <a:chExt cx="8487000" cy="3507480"/>
          </a:xfrm>
        </p:grpSpPr>
        <p:sp>
          <p:nvSpPr>
            <p:cNvPr id="260" name=""/>
            <p:cNvSpPr/>
            <p:nvPr/>
          </p:nvSpPr>
          <p:spPr>
            <a:xfrm>
              <a:off x="4726080" y="3352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09142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039920" y="33526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09142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20960" y="33526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09142"/>
                  </a:solidFill>
                  <a:latin typeface="Times New Roman"/>
                </a:rPr>
                <a:t>-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773840" y="33526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09142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21720" y="3352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09142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116600" y="1600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09142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11120" y="33526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09142"/>
                  </a:solidFill>
                  <a:latin typeface="Times New Roman"/>
                </a:rPr>
                <a:t>-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192560" y="40384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09142"/>
                  </a:solidFill>
                  <a:latin typeface="Times New Roman"/>
                </a:rPr>
                <a:t>-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31200" y="3352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09142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9" name="PlaceHolder 1"/>
            <p:cNvSpPr>
              <a:spLocks noGrp="1"/>
            </p:cNvSpPr>
            <p:nvPr>
              <p:ph type="title"/>
            </p:nvPr>
          </p:nvSpPr>
          <p:spPr>
            <a:xfrm>
              <a:off x="4533840" y="990720"/>
              <a:ext cx="609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ctr">
              <a:noAutofit/>
            </a:bodyPr>
            <a:p>
              <a:pPr indent="0">
                <a:spcBef>
                  <a:spcPts val="1500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09142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383680" y="34290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09142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2320" y="335268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09142"/>
                  </a:solidFill>
                  <a:latin typeface="Times New Roman"/>
                </a:rPr>
                <a:t>-1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01640" y="33526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09142"/>
                  </a:solidFill>
                  <a:latin typeface="Times New Roman"/>
                </a:rPr>
                <a:t>-9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088400" y="3352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09142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3352680" y="2666880"/>
            <a:ext cx="76320" cy="763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352680" y="2133720"/>
            <a:ext cx="76320" cy="759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62520" y="2133720"/>
            <a:ext cx="75960" cy="759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876920" y="3657600"/>
            <a:ext cx="75960" cy="763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81480" y="4267080"/>
            <a:ext cx="76320" cy="763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181480" y="4572000"/>
            <a:ext cx="76320" cy="763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4876920"/>
            <a:ext cx="76320" cy="759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62520" y="4572000"/>
            <a:ext cx="75960" cy="763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86200" y="4267080"/>
            <a:ext cx="76320" cy="763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267080" y="3657600"/>
            <a:ext cx="76320" cy="763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05520" y="2133720"/>
            <a:ext cx="75960" cy="759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15000" y="2133720"/>
            <a:ext cx="76320" cy="759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6000" y="2708280"/>
            <a:ext cx="76320" cy="763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5880" y="42670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(-4;2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709320" y="426708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(-4;4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318800" y="426708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(-2;4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928640" y="426708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(1;-1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175800" y="472428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(2;-3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37920" y="472428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(2;-4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623720" y="472428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(0;-5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233920" y="4724280"/>
            <a:ext cx="73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(-2;-4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252840" y="5105520"/>
            <a:ext cx="73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(-2;-3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938640" y="5105520"/>
            <a:ext cx="73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(-1;-1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547040" y="51055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(2;4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004240" y="51055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(4;4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461440" y="51055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(4;2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1916280"/>
            <a:ext cx="2577960" cy="3022560"/>
          </a:xfrm>
          <a:custGeom>
            <a:avLst/>
            <a:gdLst/>
            <a:ahLst/>
            <a:rect l="l" t="t" r="r" b="b"/>
            <a:pathLst>
              <a:path w="1624" h="1904">
                <a:moveTo>
                  <a:pt x="72" y="552"/>
                </a:moveTo>
                <a:cubicBezTo>
                  <a:pt x="36" y="392"/>
                  <a:pt x="0" y="232"/>
                  <a:pt x="72" y="168"/>
                </a:cubicBezTo>
                <a:cubicBezTo>
                  <a:pt x="144" y="104"/>
                  <a:pt x="344" y="0"/>
                  <a:pt x="504" y="168"/>
                </a:cubicBezTo>
                <a:cubicBezTo>
                  <a:pt x="664" y="336"/>
                  <a:pt x="912" y="952"/>
                  <a:pt x="1032" y="1176"/>
                </a:cubicBezTo>
                <a:cubicBezTo>
                  <a:pt x="1152" y="1400"/>
                  <a:pt x="1192" y="1416"/>
                  <a:pt x="1224" y="1512"/>
                </a:cubicBezTo>
                <a:cubicBezTo>
                  <a:pt x="1256" y="1608"/>
                  <a:pt x="1288" y="1688"/>
                  <a:pt x="1224" y="1752"/>
                </a:cubicBezTo>
                <a:cubicBezTo>
                  <a:pt x="1160" y="1816"/>
                  <a:pt x="968" y="1904"/>
                  <a:pt x="840" y="1896"/>
                </a:cubicBezTo>
                <a:cubicBezTo>
                  <a:pt x="712" y="1888"/>
                  <a:pt x="528" y="1768"/>
                  <a:pt x="456" y="1704"/>
                </a:cubicBezTo>
                <a:cubicBezTo>
                  <a:pt x="384" y="1640"/>
                  <a:pt x="376" y="1608"/>
                  <a:pt x="408" y="1512"/>
                </a:cubicBezTo>
                <a:cubicBezTo>
                  <a:pt x="440" y="1416"/>
                  <a:pt x="520" y="1352"/>
                  <a:pt x="648" y="1128"/>
                </a:cubicBezTo>
                <a:cubicBezTo>
                  <a:pt x="776" y="904"/>
                  <a:pt x="1024" y="328"/>
                  <a:pt x="1176" y="168"/>
                </a:cubicBezTo>
                <a:cubicBezTo>
                  <a:pt x="1328" y="8"/>
                  <a:pt x="1496" y="104"/>
                  <a:pt x="1560" y="168"/>
                </a:cubicBezTo>
                <a:cubicBezTo>
                  <a:pt x="1624" y="232"/>
                  <a:pt x="1560" y="488"/>
                  <a:pt x="1560" y="552"/>
                </a:cubicBezTo>
              </a:path>
            </a:pathLst>
          </a:custGeom>
          <a:noFill/>
          <a:ln w="38160">
            <a:solidFill>
              <a:srgbClr val="a3bb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3" name="PROJCTOR.WAV"/>
      </p:stSnd>
    </p:sndAc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тройте кувш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00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ahoma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333333"/>
                </a:solidFill>
                <a:latin typeface="Tahoma"/>
              </a:rPr>
              <a:t>2;9</a:t>
            </a:r>
            <a:r>
              <a:rPr b="1" lang="ru-RU" sz="2400" spc="-1" strike="noStrike">
                <a:solidFill>
                  <a:srgbClr val="333333"/>
                </a:solidFill>
                <a:latin typeface="Tahoma"/>
                <a:ea typeface="Times New Roman"/>
              </a:rPr>
              <a:t> ) (</a:t>
            </a:r>
            <a:r>
              <a:rPr b="1" lang="ru-RU" sz="2400" spc="-1" strike="noStrike">
                <a:solidFill>
                  <a:srgbClr val="333333"/>
                </a:solidFill>
                <a:latin typeface="Tahoma"/>
              </a:rPr>
              <a:t>2;2</a:t>
            </a:r>
            <a:r>
              <a:rPr b="1" lang="ru-RU" sz="2400" spc="-1" strike="noStrike">
                <a:solidFill>
                  <a:srgbClr val="333333"/>
                </a:solidFill>
                <a:latin typeface="Tahoma"/>
                <a:ea typeface="Times New Roman"/>
              </a:rPr>
              <a:t> ) (</a:t>
            </a:r>
            <a:r>
              <a:rPr b="1" lang="ru-RU" sz="2400" spc="-1" strike="noStrike">
                <a:solidFill>
                  <a:srgbClr val="333333"/>
                </a:solidFill>
                <a:latin typeface="Tahoma"/>
              </a:rPr>
              <a:t>5;0</a:t>
            </a:r>
            <a:r>
              <a:rPr b="1" lang="ru-RU" sz="2400" spc="-1" strike="noStrike">
                <a:solidFill>
                  <a:srgbClr val="333333"/>
                </a:solidFill>
                <a:latin typeface="Tahoma"/>
                <a:ea typeface="Times New Roman"/>
              </a:rPr>
              <a:t> 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ahom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ahoma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333333"/>
                </a:solidFill>
                <a:latin typeface="Tahoma"/>
              </a:rPr>
              <a:t>2;-7</a:t>
            </a:r>
            <a:r>
              <a:rPr b="1" lang="ru-RU" sz="2400" spc="-1" strike="noStrike">
                <a:solidFill>
                  <a:srgbClr val="333333"/>
                </a:solidFill>
                <a:latin typeface="Tahoma"/>
                <a:ea typeface="Times New Roman"/>
              </a:rPr>
              <a:t> )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(-2;-7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ahoma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333333"/>
                </a:solidFill>
                <a:latin typeface="Tahoma"/>
              </a:rPr>
              <a:t>-5;0</a:t>
            </a:r>
            <a:r>
              <a:rPr b="1" lang="ru-RU" sz="2400" spc="-1" strike="noStrike">
                <a:solidFill>
                  <a:srgbClr val="333333"/>
                </a:solidFill>
                <a:latin typeface="Tahoma"/>
                <a:ea typeface="Times New Roman"/>
              </a:rPr>
              <a:t> ) (</a:t>
            </a:r>
            <a:r>
              <a:rPr b="1" lang="ru-RU" sz="2400" spc="-1" strike="noStrike">
                <a:solidFill>
                  <a:srgbClr val="333333"/>
                </a:solidFill>
                <a:latin typeface="Tahoma"/>
              </a:rPr>
              <a:t>-2;2</a:t>
            </a:r>
            <a:r>
              <a:rPr b="1" lang="ru-RU" sz="2400" spc="-1" strike="noStrike">
                <a:solidFill>
                  <a:srgbClr val="333333"/>
                </a:solidFill>
                <a:latin typeface="Tahoma"/>
                <a:ea typeface="Times New Roman"/>
              </a:rPr>
              <a:t> 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ahom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ahoma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333333"/>
                </a:solidFill>
                <a:latin typeface="Tahoma"/>
              </a:rPr>
              <a:t>-2;9</a:t>
            </a:r>
            <a:r>
              <a:rPr b="1" lang="ru-RU" sz="2400" spc="-1" strike="noStrike">
                <a:solidFill>
                  <a:srgbClr val="333333"/>
                </a:solidFill>
                <a:latin typeface="Tahoma"/>
                <a:ea typeface="Times New Roman"/>
              </a:rPr>
              <a:t> 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4427640" y="2276640"/>
            <a:ext cx="4535280" cy="433368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sp>
        <p:nvSpPr>
          <p:cNvPr id="304" name=""/>
          <p:cNvSpPr/>
          <p:nvPr/>
        </p:nvSpPr>
        <p:spPr>
          <a:xfrm>
            <a:off x="4800600" y="4572000"/>
            <a:ext cx="3809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6705720" y="2133720"/>
            <a:ext cx="0" cy="4419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535960" y="4495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174360" y="2286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2286000"/>
            <a:ext cx="76320" cy="763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086600" y="3962520"/>
            <a:ext cx="76320" cy="759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5638680" y="4038480"/>
            <a:ext cx="533520" cy="45720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772400" y="4495680"/>
            <a:ext cx="76320" cy="763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162920" y="4038480"/>
            <a:ext cx="609480" cy="45720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086600" y="6553080"/>
            <a:ext cx="76320" cy="763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7162560" y="4572000"/>
            <a:ext cx="609480" cy="198108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172200" y="6553080"/>
            <a:ext cx="76320" cy="76320"/>
          </a:xfrm>
          <a:prstGeom prst="ellipse">
            <a:avLst/>
          </a:prstGeom>
          <a:solidFill>
            <a:srgbClr val="f4f3d9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6172200" y="6553080"/>
            <a:ext cx="9907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562720" y="4495680"/>
            <a:ext cx="75960" cy="76320"/>
          </a:xfrm>
          <a:prstGeom prst="ellipse">
            <a:avLst/>
          </a:prstGeom>
          <a:solidFill>
            <a:srgbClr val="f4f3d9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651640" y="4508640"/>
            <a:ext cx="576000" cy="208908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172200" y="3962520"/>
            <a:ext cx="76320" cy="759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162920" y="2286000"/>
            <a:ext cx="0" cy="175248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248520" y="2286000"/>
            <a:ext cx="0" cy="167652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086600" y="2286000"/>
            <a:ext cx="76320" cy="763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0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000"/>
                            </p:stCondLst>
                            <p:childTnLst>
                              <p:par>
                                <p:cTn id="7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500"/>
                            </p:stCondLst>
                            <p:childTnLst>
                              <p:par>
                                <p:cTn id="7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000"/>
                            </p:stCondLst>
                            <p:childTnLst>
                              <p:par>
                                <p:cTn id="7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2500"/>
                            </p:stCondLst>
                            <p:childTnLst>
                              <p:par>
                                <p:cTn id="7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3000"/>
                            </p:stCondLst>
                            <p:childTnLst>
                              <p:par>
                                <p:cTn id="7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3500"/>
                            </p:stCondLst>
                            <p:childTnLst>
                              <p:par>
                                <p:cTn id="7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стройте точки и соедините их плавной лини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1828800" y="1774800"/>
            <a:ext cx="6781680" cy="5083200"/>
          </a:xfrm>
          <a:prstGeom prst="rect">
            <a:avLst/>
          </a:prstGeom>
          <a:ln w="28440">
            <a:solidFill>
              <a:srgbClr val="333333"/>
            </a:solidFill>
            <a:miter/>
          </a:ln>
        </p:spPr>
      </p:pic>
      <p:grpSp>
        <p:nvGrpSpPr>
          <p:cNvPr id="325" name=""/>
          <p:cNvGrpSpPr/>
          <p:nvPr/>
        </p:nvGrpSpPr>
        <p:grpSpPr>
          <a:xfrm>
            <a:off x="2381400" y="1676160"/>
            <a:ext cx="4552560" cy="4571640"/>
            <a:chOff x="2381400" y="1676160"/>
            <a:chExt cx="4552560" cy="4571640"/>
          </a:xfrm>
        </p:grpSpPr>
        <p:sp>
          <p:nvSpPr>
            <p:cNvPr id="326" name=""/>
            <p:cNvSpPr/>
            <p:nvPr/>
          </p:nvSpPr>
          <p:spPr>
            <a:xfrm>
              <a:off x="2381400" y="4087080"/>
              <a:ext cx="4552560" cy="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4533840" y="1676160"/>
              <a:ext cx="1440" cy="457164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4495680" y="2895480"/>
            <a:ext cx="76320" cy="763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86200" y="3124080"/>
            <a:ext cx="76320" cy="763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657600" y="3352680"/>
            <a:ext cx="76320" cy="763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67160" y="2971800"/>
            <a:ext cx="2209680" cy="2286000"/>
          </a:xfrm>
          <a:prstGeom prst="ellipse">
            <a:avLst/>
          </a:prstGeom>
          <a:noFill/>
          <a:ln w="9360">
            <a:solidFill>
              <a:srgbClr val="ae4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429000" y="4038480"/>
            <a:ext cx="76320" cy="763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581280" y="4724280"/>
            <a:ext cx="76320" cy="763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809880" y="4952880"/>
            <a:ext cx="76320" cy="763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33840" y="5181480"/>
            <a:ext cx="76320" cy="763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181480" y="4952880"/>
            <a:ext cx="76320" cy="763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10080" y="4724280"/>
            <a:ext cx="76320" cy="763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638680" y="4114800"/>
            <a:ext cx="76320" cy="763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10080" y="3390840"/>
            <a:ext cx="76320" cy="763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181480" y="3124080"/>
            <a:ext cx="76320" cy="763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67160" y="2971800"/>
            <a:ext cx="2209680" cy="2286000"/>
          </a:xfrm>
          <a:prstGeom prst="ellipse">
            <a:avLst/>
          </a:prstGeom>
          <a:solidFill>
            <a:srgbClr val="e09142"/>
          </a:solidFill>
          <a:ln w="9360">
            <a:solidFill>
              <a:srgbClr val="ae4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086600" y="2362320"/>
            <a:ext cx="152388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(0;5) (-3;4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(-4;3) (-5;0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(-4;-3) (-3;-4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(0;-5) (3;-4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(4;-3) (5;0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(4;3) (3;4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(0;5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00"/>
                            </p:stCondLst>
                            <p:childTnLst>
                              <p:par>
                                <p:cTn id="7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500"/>
                            </p:stCondLst>
                            <p:childTnLst>
                              <p:par>
                                <p:cTn id="7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1000"/>
                            </p:stCondLst>
                            <p:childTnLst>
                              <p:par>
                                <p:cTn id="7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2500"/>
                            </p:stCondLst>
                            <p:childTnLst>
                              <p:par>
                                <p:cTn id="7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3000"/>
                            </p:stCondLst>
                            <p:childTnLst>
                              <p:par>
                                <p:cTn id="7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3500"/>
                            </p:stCondLst>
                            <p:childTnLst>
                              <p:par>
                                <p:cTn id="7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4000"/>
                            </p:stCondLst>
                            <p:childTnLst>
                              <p:par>
                                <p:cTn id="7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4500"/>
                            </p:stCondLst>
                            <p:childTnLst>
                              <p:par>
                                <p:cTn id="7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5000"/>
                            </p:stCondLst>
                            <p:childTnLst>
                              <p:par>
                                <p:cTn id="8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5500"/>
                            </p:stCondLst>
                            <p:childTnLst>
                              <p:par>
                                <p:cTn id="8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6000"/>
                            </p:stCondLst>
                            <p:childTnLst>
                              <p:par>
                                <p:cTn id="8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6500"/>
                            </p:stCondLst>
                            <p:childTnLst>
                              <p:par>
                                <p:cTn id="8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рисуй с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Рыба меч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Дельфин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">
            <a:hlinkClick r:id="rId1" action="ppaction://hlinksldjump"/>
          </p:cNvPr>
          <p:cNvSpPr/>
          <p:nvPr/>
        </p:nvSpPr>
        <p:spPr>
          <a:xfrm>
            <a:off x="4114800" y="6324480"/>
            <a:ext cx="304920" cy="2811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23423" h="21600">
                <a:moveTo>
                  <a:pt x="0" y="0"/>
                </a:moveTo>
                <a:lnTo>
                  <a:pt x="23423" y="0"/>
                </a:lnTo>
                <a:lnTo>
                  <a:pt x="23423" y="21600"/>
                </a:lnTo>
                <a:lnTo>
                  <a:pt x="0" y="21600"/>
                </a:lnTo>
                <a:close/>
              </a:path>
              <a:path fill="lightenLess" w="23423" h="21600">
                <a:moveTo>
                  <a:pt x="0" y="0"/>
                </a:moveTo>
                <a:lnTo>
                  <a:pt x="23423" y="0"/>
                </a:lnTo>
                <a:lnTo>
                  <a:pt x="22023" y="1400"/>
                </a:lnTo>
                <a:lnTo>
                  <a:pt x="1400" y="1400"/>
                </a:lnTo>
                <a:close/>
              </a:path>
              <a:path fill="darken" w="23423" h="21600">
                <a:moveTo>
                  <a:pt x="23423" y="0"/>
                </a:moveTo>
                <a:lnTo>
                  <a:pt x="23423" y="21600"/>
                </a:lnTo>
                <a:lnTo>
                  <a:pt x="22023" y="20200"/>
                </a:lnTo>
                <a:lnTo>
                  <a:pt x="22023" y="1400"/>
                </a:lnTo>
                <a:close/>
              </a:path>
              <a:path fill="darkenLess" w="23423" h="21600">
                <a:moveTo>
                  <a:pt x="23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23" y="20200"/>
                </a:lnTo>
                <a:close/>
              </a:path>
              <a:path fill="lighten" w="23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23" h="21600">
                <a:moveTo>
                  <a:pt x="4705" y="10800"/>
                </a:moveTo>
                <a:lnTo>
                  <a:pt x="18718" y="3794"/>
                </a:lnTo>
                <a:lnTo>
                  <a:pt x="18718" y="17806"/>
                </a:lnTo>
                <a:close/>
              </a:path>
            </a:pathLst>
          </a:custGeom>
          <a:solidFill>
            <a:srgbClr val="f4f3d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7" name="">
            <a:hlinkClick r:id="rId2" action="ppaction://hlinksldjump"/>
          </p:cNvPr>
          <p:cNvSpPr/>
          <p:nvPr/>
        </p:nvSpPr>
        <p:spPr>
          <a:xfrm>
            <a:off x="8610480" y="62485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3794"/>
                </a:moveTo>
                <a:lnTo>
                  <a:pt x="17819" y="10800"/>
                </a:lnTo>
                <a:lnTo>
                  <a:pt x="3806" y="17806"/>
                </a:lnTo>
                <a:close/>
              </a:path>
            </a:pathLst>
          </a:custGeom>
          <a:solidFill>
            <a:srgbClr val="f4f3d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295280" y="2514600"/>
            <a:ext cx="3276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-14;7) (-7;5) (-5;6)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-4;6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0;3) (4;5) (5;5)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2;2) (6;0) (7;0) (10;2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10;3) (13;6) (11;2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14;0) (12;0) (11;1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7;-3) (4;-3) (2;-2)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-2;0) (-2;-2) (-5;2)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-9;4) (-8;4) (-14;7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81480" y="2666880"/>
            <a:ext cx="2971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-8;7) (-7;8) (-5;7) (-4;8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-2;9) (0;9) (2;8) (5;6) (9;4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10;3) (8;3) (6;2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6;0) (5;-3) (4;-5) (2;-7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0;-8) (0;-11) (-1;-12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-2;-10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-3;-9) (-5;-8) (-4;-7) (-3;-5)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-4;-3) (-6;-2) (-8;-3) (-9;-5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-8;-7) (-6;-8) (-4;-7) (-1;-7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1;-4) (1;-1) (0;1) (-1;2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-6;6) (-8;7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2T22:37:33Z</dcterms:created>
  <dc:creator>Федулова</dc:creator>
  <dc:description/>
  <dc:language>en-US</dc:language>
  <cp:lastModifiedBy>User</cp:lastModifiedBy>
  <dcterms:modified xsi:type="dcterms:W3CDTF">2011-12-25T16:59:45Z</dcterms:modified>
  <cp:revision>20</cp:revision>
  <dc:subject/>
  <dc:title>Координатная плоскость</dc:title>
</cp:coreProperties>
</file>