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CE073-D255-4064-95EB-F7445FAA1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7D885-5B2C-4F1C-8AC9-61EE9D26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89EFA-D799-4B74-AD4B-4C492A73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615CA-3BFB-442B-A35B-07047D6EB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67E5-FF06-4AA7-9EFC-1D657089E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8E56-BCAA-45E8-B67F-66D2D27A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CE50-1EC1-4026-BCEF-C9E2D53D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7490-1D51-4413-8EDD-9B22600E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1E82-7060-4DAE-9882-81FE296F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6C74-C95D-4C64-A4D9-01CE5BC8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CC4E-3065-4F71-A4D4-128B7CF0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5723B-05D9-4920-A5F7-8E24B5E2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F1A0-F71C-4167-96F8-033EB849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8DA9-2069-443D-B620-89B54D55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98CB-C26A-44E6-A376-020CE1AA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32EF-81FF-4AC9-9927-8EA85A7C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F921-D174-4AB1-933C-B4D93DFFC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720FC-C14E-475D-90A0-61DD8D40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4A85E-DCE6-40BD-AA32-B28DB5A7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302D3-B35F-438F-980F-B267E9DD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B37C8-F2A2-499A-824B-25A77B77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76C3F-EA0B-4F7B-9454-3CB32C6D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E466F-513A-49CE-B636-5409A4CC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3E32F-661E-4EA5-A0BE-6DE77383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0DA0-2AD3-4435-A3BA-0329E8E038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DF55-AB7C-455E-A331-1F33FD8FE5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9640" y="333360"/>
            <a:ext cx="1944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d"/>
                </a:solidFill>
                <a:latin typeface="Impact"/>
              </a:rPr>
              <a:t>3-4 уро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7d"/>
              </a:solidFill>
              <a:latin typeface="Impact"/>
              <a:ea typeface="Impact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2844720" cy="4465440"/>
          </a:xfrm>
          <a:prstGeom prst="rect">
            <a:avLst/>
          </a:prstGeom>
          <a:ln w="28440">
            <a:solidFill>
              <a:srgbClr val="e46c0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Место расположения карм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4546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 точки К вниз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4см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чка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К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       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КК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7d"/>
                </a:solidFill>
                <a:uFillTx/>
                <a:latin typeface="Arial"/>
              </a:rPr>
              <a:t>= 14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341000"/>
            <a:ext cx="44956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                                              Т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24360" y="1628640"/>
            <a:ext cx="0" cy="46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24360" y="162864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532720" y="1628640"/>
            <a:ext cx="0" cy="46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24360" y="623736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24360" y="1628640"/>
            <a:ext cx="0" cy="13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24360" y="2997360"/>
            <a:ext cx="0" cy="20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95640" y="1844640"/>
            <a:ext cx="485640" cy="936720"/>
          </a:xfrm>
          <a:prstGeom prst="downArrow">
            <a:avLst>
              <a:gd name="adj1" fmla="val 50000"/>
              <a:gd name="adj2" fmla="val 4822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Место расположения карм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4020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 точек 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и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К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право отложить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10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К К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 = 10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К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К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r>
              <a:rPr b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 = 10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единить точки</a:t>
            </a:r>
            <a:r>
              <a:rPr b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К2</a:t>
            </a:r>
            <a:r>
              <a:rPr b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К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ямой лин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88000" y="1052280"/>
            <a:ext cx="4356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                               Т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64000" y="148428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64000" y="148428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64000" y="566100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459640" y="148428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364000" y="1484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64000" y="2708280"/>
            <a:ext cx="0" cy="187308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64000" y="2708280"/>
            <a:ext cx="1440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64000" y="4653000"/>
            <a:ext cx="1440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804000" y="2708280"/>
            <a:ext cx="0" cy="1944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11280" y="1989000"/>
            <a:ext cx="486000" cy="1440000"/>
          </a:xfrm>
          <a:prstGeom prst="downArrow">
            <a:avLst>
              <a:gd name="adj1" fmla="val 50000"/>
              <a:gd name="adj2" fmla="val 74074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2708280"/>
            <a:ext cx="142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Ширина поя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36831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 точки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тложить вправо ширину поя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чка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П П1</a:t>
            </a:r>
            <a:r>
              <a:rPr b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 = 10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980640"/>
            <a:ext cx="44956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580000" y="1484280"/>
            <a:ext cx="108108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50920" y="31417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6. Длина поя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4640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точки 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П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ложить вниз длину поя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П П2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=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Ст * 2+2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30 * 2 + 2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= 60+20 = </a:t>
            </a:r>
            <a:r>
              <a:rPr b="0" lang="ru-RU" sz="2400" spc="-1" strike="noStrike" u="sng">
                <a:solidFill>
                  <a:srgbClr val="00007d"/>
                </a:solidFill>
                <a:uFillTx/>
                <a:latin typeface="Arial"/>
              </a:rPr>
              <a:t>80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очка</a:t>
            </a:r>
            <a:r>
              <a:rPr b="0" lang="ru-RU" sz="2400" spc="-1" strike="noStrike" u="sng">
                <a:solidFill>
                  <a:srgbClr val="00007d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П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П П2</a:t>
            </a:r>
            <a:r>
              <a:rPr b="1" lang="ru-RU" sz="2400" spc="-1" strike="noStrike" u="sng">
                <a:solidFill>
                  <a:srgbClr val="00007d"/>
                </a:solidFill>
                <a:uFillTx/>
                <a:latin typeface="Arial"/>
              </a:rPr>
              <a:t> 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= </a:t>
            </a:r>
            <a:r>
              <a:rPr b="1" lang="ru-RU" sz="2400" spc="-1" strike="noStrike" u="sng">
                <a:solidFill>
                  <a:srgbClr val="00007d"/>
                </a:solidFill>
                <a:uFillTx/>
                <a:latin typeface="Arial"/>
              </a:rPr>
              <a:t>80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П1 П3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 = </a:t>
            </a:r>
            <a:r>
              <a:rPr b="1" lang="ru-RU" sz="2400" spc="-1" strike="noStrike" u="sng">
                <a:solidFill>
                  <a:srgbClr val="00007d"/>
                </a:solidFill>
                <a:uFillTx/>
                <a:latin typeface="Arial"/>
              </a:rPr>
              <a:t>80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2920" y="736560"/>
            <a:ext cx="403884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                П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95640" y="3716280"/>
            <a:ext cx="485640" cy="792360"/>
          </a:xfrm>
          <a:prstGeom prst="downArrow">
            <a:avLst>
              <a:gd name="adj1" fmla="val 50000"/>
              <a:gd name="adj2" fmla="val 4078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40360" y="134136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40360" y="1341360"/>
            <a:ext cx="0" cy="511200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164360" y="1341360"/>
            <a:ext cx="0" cy="511200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0360" y="6453360"/>
            <a:ext cx="122400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867280" y="6453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93080" y="645336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1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087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7d"/>
                </a:solidFill>
                <a:uFillTx/>
                <a:latin typeface="Arial"/>
              </a:rPr>
              <a:t>Подготовка выкройки к раскро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000" y="181728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писать названия деталей фарт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казать стрелкой направление долевой ни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писать величину припусков на швы (цифрами в кружочк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метить середину дета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" action="ppaction://hlinkshowjump?jump=nextslide"/>
          </p:cNvPr>
          <p:cNvSpPr/>
          <p:nvPr/>
        </p:nvSpPr>
        <p:spPr>
          <a:xfrm>
            <a:off x="4211640" y="342900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3794"/>
                </a:moveTo>
                <a:lnTo>
                  <a:pt x="24997" y="10800"/>
                </a:lnTo>
                <a:lnTo>
                  <a:pt x="10985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1" action="ppaction://hlinksldjump"/>
          </p:cNvPr>
          <p:cNvSpPr/>
          <p:nvPr/>
        </p:nvSpPr>
        <p:spPr>
          <a:xfrm>
            <a:off x="7164360" y="5157720"/>
            <a:ext cx="720720" cy="43200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4" h="21600">
                <a:moveTo>
                  <a:pt x="11006" y="3794"/>
                </a:moveTo>
                <a:lnTo>
                  <a:pt x="25018" y="10800"/>
                </a:lnTo>
                <a:lnTo>
                  <a:pt x="11006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арту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0" y="1412640"/>
            <a:ext cx="45720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ижняя ча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рт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рм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                                      Н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92720" y="191628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88360" y="191628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92720" y="3068640"/>
            <a:ext cx="0" cy="187308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292720" y="609300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292720" y="191628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92720" y="2997360"/>
            <a:ext cx="0" cy="18730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92720" y="299736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292720" y="486900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6732720" y="2997000"/>
            <a:ext cx="0" cy="187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5280" y="1168560"/>
            <a:ext cx="403848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                П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я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2                   П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63640" y="162864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63640" y="1628640"/>
            <a:ext cx="0" cy="4537080"/>
          </a:xfrm>
          <a:prstGeom prst="line">
            <a:avLst/>
          </a:prstGeom>
          <a:ln w="255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87640" y="1628640"/>
            <a:ext cx="0" cy="4537080"/>
          </a:xfrm>
          <a:prstGeom prst="line">
            <a:avLst/>
          </a:prstGeom>
          <a:ln w="255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63640" y="616572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08720" y="364500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Д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956720" y="1916280"/>
            <a:ext cx="0" cy="316836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835280" y="206064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Д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700360" y="1628640"/>
            <a:ext cx="0" cy="316872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" action="ppaction://hlinkshowjump?jump=previousslide"/>
          </p:cNvPr>
          <p:cNvSpPr/>
          <p:nvPr/>
        </p:nvSpPr>
        <p:spPr>
          <a:xfrm>
            <a:off x="349236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пуски на шв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0" y="1412640"/>
            <a:ext cx="45720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ижняя ча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арт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рм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                                      Н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92720" y="155736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388360" y="1557360"/>
            <a:ext cx="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292720" y="3068640"/>
            <a:ext cx="0" cy="187308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292720" y="609300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92720" y="1557360"/>
            <a:ext cx="0" cy="453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292720" y="2997360"/>
            <a:ext cx="0" cy="18730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292720" y="299736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92720" y="486900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732720" y="2997000"/>
            <a:ext cx="0" cy="187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5280" y="1168560"/>
            <a:ext cx="403848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                П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я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2                   П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763640" y="162864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63640" y="1628640"/>
            <a:ext cx="0" cy="4537080"/>
          </a:xfrm>
          <a:prstGeom prst="line">
            <a:avLst/>
          </a:prstGeom>
          <a:ln w="255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987640" y="1628640"/>
            <a:ext cx="0" cy="4537080"/>
          </a:xfrm>
          <a:prstGeom prst="line">
            <a:avLst/>
          </a:prstGeom>
          <a:ln w="255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63640" y="616572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77080" y="371628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Д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96360" y="1628640"/>
            <a:ext cx="0" cy="316872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72360" y="5445000"/>
            <a:ext cx="720720" cy="627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051c"/>
                </a:solidFill>
                <a:latin typeface="Arial"/>
                <a:ea typeface="Arial"/>
              </a:rPr>
              <a:t>15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667640" y="3429000"/>
            <a:ext cx="698400" cy="649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051c"/>
                </a:solidFill>
                <a:latin typeface="Arial"/>
                <a:ea typeface="Arial"/>
              </a:rPr>
              <a:t>15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35640" y="4365720"/>
            <a:ext cx="865080" cy="48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051c"/>
                </a:solidFill>
                <a:latin typeface="Arial"/>
                <a:ea typeface="Arial"/>
              </a:rPr>
              <a:t>15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40360" y="1557360"/>
            <a:ext cx="77004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051c"/>
                </a:solidFill>
                <a:latin typeface="Arial"/>
                <a:ea typeface="Arial"/>
              </a:rPr>
              <a:t>1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24360" y="2997360"/>
            <a:ext cx="696960" cy="50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051c"/>
                </a:solidFill>
                <a:latin typeface="Arial"/>
                <a:ea typeface="Arial"/>
              </a:rPr>
              <a:t>1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84720" y="3716280"/>
            <a:ext cx="62568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051c"/>
                </a:solidFill>
                <a:latin typeface="Arial"/>
                <a:ea typeface="Arial"/>
              </a:rPr>
              <a:t>15 м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979640" y="1628640"/>
            <a:ext cx="770040" cy="6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051c"/>
                </a:solidFill>
                <a:latin typeface="Arial"/>
                <a:ea typeface="Arial"/>
              </a:rPr>
              <a:t>1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95640" y="2924280"/>
            <a:ext cx="76968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051c"/>
                </a:solidFill>
                <a:latin typeface="Arial"/>
                <a:ea typeface="Arial"/>
              </a:rPr>
              <a:t>1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780000" y="595008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15641" y="10800"/>
                </a:moveTo>
                <a:lnTo>
                  <a:pt x="5136" y="17806"/>
                </a:lnTo>
                <a:lnTo>
                  <a:pt x="5136" y="3794"/>
                </a:lnTo>
                <a:close/>
              </a:path>
              <a:path fill="darken" w="24285" h="21600">
                <a:moveTo>
                  <a:pt x="17486" y="3794"/>
                </a:moveTo>
                <a:lnTo>
                  <a:pt x="17486" y="17806"/>
                </a:lnTo>
                <a:lnTo>
                  <a:pt x="19149" y="17806"/>
                </a:lnTo>
                <a:lnTo>
                  <a:pt x="19149" y="3794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924360" y="5445000"/>
            <a:ext cx="503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ур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Закрепление пройденного материала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зовите детали чертежа фарту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м отличаются детали чертежа фарту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зовите отрезок на чертеже, который                     соответствует линии тал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чему чертеж построен на половину  фигур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зовите отрезок на чертеже, который соответствует линии б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зовите последовательность подготовки выкройки к раскр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rId2" action="ppaction://hlinksldjump"/>
          </p:cNvPr>
          <p:cNvSpPr/>
          <p:nvPr/>
        </p:nvSpPr>
        <p:spPr>
          <a:xfrm>
            <a:off x="4859280" y="6021360"/>
            <a:ext cx="827280" cy="836640"/>
          </a:xfrm>
          <a:custGeom>
            <a:avLst/>
            <a:gdLst>
              <a:gd name="textAreaLeft" fmla="*/ 53640 w 827280"/>
              <a:gd name="textAreaRight" fmla="*/ 773640 w 827280"/>
              <a:gd name="textAreaTop" fmla="*/ 53640 h 836640"/>
              <a:gd name="textAreaBottom" fmla="*/ 783000 h 836640"/>
            </a:gdLst>
            <a:ahLst/>
            <a:rect l="textAreaLeft" t="textAreaTop" r="textAreaRight" b="textAreaBottom"/>
            <a:pathLst>
              <a:path w="21600" h="21844">
                <a:moveTo>
                  <a:pt x="0" y="0"/>
                </a:moveTo>
                <a:lnTo>
                  <a:pt x="21600" y="0"/>
                </a:lnTo>
                <a:lnTo>
                  <a:pt x="21600" y="21844"/>
                </a:lnTo>
                <a:lnTo>
                  <a:pt x="0" y="21844"/>
                </a:lnTo>
                <a:close/>
              </a:path>
              <a:path fill="lightenLess" w="21600" h="218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44">
                <a:moveTo>
                  <a:pt x="21600" y="0"/>
                </a:moveTo>
                <a:lnTo>
                  <a:pt x="21600" y="21844"/>
                </a:lnTo>
                <a:lnTo>
                  <a:pt x="20200" y="20444"/>
                </a:lnTo>
                <a:lnTo>
                  <a:pt x="20200" y="1400"/>
                </a:lnTo>
                <a:close/>
              </a:path>
              <a:path fill="darkenLess" w="21600" h="21844">
                <a:moveTo>
                  <a:pt x="21600" y="21844"/>
                </a:moveTo>
                <a:lnTo>
                  <a:pt x="0" y="21844"/>
                </a:lnTo>
                <a:lnTo>
                  <a:pt x="1400" y="20444"/>
                </a:lnTo>
                <a:lnTo>
                  <a:pt x="20200" y="20444"/>
                </a:lnTo>
                <a:close/>
              </a:path>
              <a:path fill="lighten" w="21600" h="21844">
                <a:moveTo>
                  <a:pt x="0" y="218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44"/>
                </a:lnTo>
                <a:close/>
              </a:path>
              <a:path fill="darken" w="21600" h="21844">
                <a:moveTo>
                  <a:pt x="10800" y="391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844">
                <a:moveTo>
                  <a:pt x="10800" y="429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844">
                <a:moveTo>
                  <a:pt x="8224" y="8346"/>
                </a:moveTo>
                <a:lnTo>
                  <a:pt x="12088" y="8346"/>
                </a:lnTo>
                <a:lnTo>
                  <a:pt x="12088" y="15344"/>
                </a:lnTo>
                <a:lnTo>
                  <a:pt x="13376" y="15344"/>
                </a:lnTo>
                <a:lnTo>
                  <a:pt x="13376" y="16266"/>
                </a:lnTo>
                <a:lnTo>
                  <a:pt x="8224" y="16266"/>
                </a:lnTo>
                <a:lnTo>
                  <a:pt x="8224" y="15344"/>
                </a:lnTo>
                <a:lnTo>
                  <a:pt x="9512" y="15344"/>
                </a:lnTo>
                <a:lnTo>
                  <a:pt x="9512" y="9251"/>
                </a:lnTo>
                <a:lnTo>
                  <a:pt x="8224" y="9251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0" y="2349360"/>
            <a:ext cx="82296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Задачи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Закрепление пройденного материала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овторение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ЕХНИКИ БЕЗОПАСНОСТИ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при ручных рабо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амостоятельное построение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чертежа фартука по своим мер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411280" y="620640"/>
            <a:ext cx="6408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строение чертежа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артука 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 своим меркам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50920" y="836640"/>
            <a:ext cx="1873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d"/>
                </a:solidFill>
                <a:latin typeface="Impact"/>
              </a:rPr>
              <a:t>Урок 5-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7d"/>
              </a:solidFill>
              <a:latin typeface="Impact"/>
              <a:ea typeface="Impact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7308720" y="2421000"/>
            <a:ext cx="1582920" cy="3456000"/>
          </a:xfrm>
          <a:prstGeom prst="rect">
            <a:avLst/>
          </a:prstGeom>
          <a:ln w="38160">
            <a:solidFill>
              <a:srgbClr val="cccce6"/>
            </a:solidFill>
            <a:miter/>
          </a:ln>
        </p:spPr>
      </p:pic>
      <p:sp>
        <p:nvSpPr>
          <p:cNvPr id="259" name="">
            <a:hlinkClick r:id="rId2" action="ppaction://hlinksldjump"/>
          </p:cNvPr>
          <p:cNvSpPr/>
          <p:nvPr/>
        </p:nvSpPr>
        <p:spPr>
          <a:xfrm>
            <a:off x="8028000" y="6093000"/>
            <a:ext cx="611280" cy="502920"/>
          </a:xfrm>
          <a:custGeom>
            <a:avLst/>
            <a:gdLst>
              <a:gd name="textAreaLeft" fmla="*/ 32400 w 611280"/>
              <a:gd name="textAreaRight" fmla="*/ 578880 w 6112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6251" h="21600">
                <a:moveTo>
                  <a:pt x="0" y="0"/>
                </a:moveTo>
                <a:lnTo>
                  <a:pt x="26251" y="0"/>
                </a:lnTo>
                <a:lnTo>
                  <a:pt x="26251" y="21600"/>
                </a:lnTo>
                <a:lnTo>
                  <a:pt x="0" y="21600"/>
                </a:lnTo>
                <a:close/>
              </a:path>
              <a:path fill="lightenLess" w="26251" h="21600">
                <a:moveTo>
                  <a:pt x="0" y="0"/>
                </a:moveTo>
                <a:lnTo>
                  <a:pt x="26251" y="0"/>
                </a:lnTo>
                <a:lnTo>
                  <a:pt x="24851" y="1400"/>
                </a:lnTo>
                <a:lnTo>
                  <a:pt x="1400" y="1400"/>
                </a:lnTo>
                <a:close/>
              </a:path>
              <a:path fill="darken" w="26251" h="21600">
                <a:moveTo>
                  <a:pt x="26251" y="0"/>
                </a:moveTo>
                <a:lnTo>
                  <a:pt x="26251" y="21600"/>
                </a:lnTo>
                <a:lnTo>
                  <a:pt x="24851" y="20200"/>
                </a:lnTo>
                <a:lnTo>
                  <a:pt x="24851" y="1400"/>
                </a:lnTo>
                <a:close/>
              </a:path>
              <a:path fill="darkenLess" w="26251" h="21600">
                <a:moveTo>
                  <a:pt x="26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51" y="20200"/>
                </a:lnTo>
                <a:close/>
              </a:path>
              <a:path fill="lighten" w="26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51" h="21600">
                <a:moveTo>
                  <a:pt x="16624" y="10800"/>
                </a:moveTo>
                <a:lnTo>
                  <a:pt x="6119" y="17806"/>
                </a:lnTo>
                <a:lnTo>
                  <a:pt x="6119" y="3794"/>
                </a:lnTo>
                <a:close/>
              </a:path>
              <a:path fill="darken" w="26251" h="21600">
                <a:moveTo>
                  <a:pt x="18469" y="3794"/>
                </a:moveTo>
                <a:lnTo>
                  <a:pt x="18469" y="17806"/>
                </a:lnTo>
                <a:lnTo>
                  <a:pt x="20132" y="17806"/>
                </a:lnTo>
                <a:lnTo>
                  <a:pt x="20132" y="3794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амостоятельное построение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чертежа фартука по своим меркам в М 1: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Подготовка выкройки к раскр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знакомить с названиями деталей фарту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знакомить с понятиями «чертеж», «масштаб», ознакомить с чертежными инструмент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учить правильно производить конструкторские расче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формировать умения  пользоваться масштабной линейк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учить строить чертеж фарту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знакомить с последовательностью подготовки выкройки к раскро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крепить зн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арту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0" y="1412640"/>
            <a:ext cx="45720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                                      Н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92720" y="191628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388360" y="191628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292720" y="3068640"/>
            <a:ext cx="0" cy="187308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292720" y="609300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292720" y="191628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292720" y="2997360"/>
            <a:ext cx="0" cy="18730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292720" y="1916280"/>
            <a:ext cx="0" cy="1081080"/>
          </a:xfrm>
          <a:prstGeom prst="line">
            <a:avLst/>
          </a:prstGeom>
          <a:ln w="255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292720" y="299736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292720" y="486900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6732720" y="2997000"/>
            <a:ext cx="0" cy="187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95280" y="1168560"/>
            <a:ext cx="403848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                П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оя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2                   П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63640" y="162864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763640" y="1628640"/>
            <a:ext cx="0" cy="4537080"/>
          </a:xfrm>
          <a:prstGeom prst="line">
            <a:avLst/>
          </a:prstGeom>
          <a:ln w="255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987640" y="1628640"/>
            <a:ext cx="0" cy="4537080"/>
          </a:xfrm>
          <a:prstGeom prst="line">
            <a:avLst/>
          </a:prstGeom>
          <a:ln w="255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763640" y="616572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564000" y="47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156360" y="5300640"/>
            <a:ext cx="1628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Фарту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508720" y="3789360"/>
            <a:ext cx="9525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рман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3635280" y="6165720"/>
            <a:ext cx="755640" cy="466920"/>
          </a:xfrm>
          <a:custGeom>
            <a:avLst/>
            <a:gdLst>
              <a:gd name="textAreaLeft" fmla="*/ 30240 w 755640"/>
              <a:gd name="textAreaRight" fmla="*/ 725400 w 75564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34946" h="21600">
                <a:moveTo>
                  <a:pt x="0" y="0"/>
                </a:moveTo>
                <a:lnTo>
                  <a:pt x="34946" y="0"/>
                </a:lnTo>
                <a:lnTo>
                  <a:pt x="34946" y="21600"/>
                </a:lnTo>
                <a:lnTo>
                  <a:pt x="0" y="21600"/>
                </a:lnTo>
                <a:close/>
              </a:path>
              <a:path fill="lightenLess" w="34946" h="21600">
                <a:moveTo>
                  <a:pt x="0" y="0"/>
                </a:moveTo>
                <a:lnTo>
                  <a:pt x="34946" y="0"/>
                </a:lnTo>
                <a:lnTo>
                  <a:pt x="33546" y="1400"/>
                </a:lnTo>
                <a:lnTo>
                  <a:pt x="1400" y="1400"/>
                </a:lnTo>
                <a:close/>
              </a:path>
              <a:path fill="darken" w="34946" h="21600">
                <a:moveTo>
                  <a:pt x="34946" y="0"/>
                </a:moveTo>
                <a:lnTo>
                  <a:pt x="34946" y="21600"/>
                </a:lnTo>
                <a:lnTo>
                  <a:pt x="33546" y="20200"/>
                </a:lnTo>
                <a:lnTo>
                  <a:pt x="33546" y="1400"/>
                </a:lnTo>
                <a:close/>
              </a:path>
              <a:path fill="darkenLess" w="34946" h="21600">
                <a:moveTo>
                  <a:pt x="34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46" y="20200"/>
                </a:lnTo>
                <a:close/>
              </a:path>
              <a:path fill="lighten" w="34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46" h="21600">
                <a:moveTo>
                  <a:pt x="10467" y="3794"/>
                </a:moveTo>
                <a:lnTo>
                  <a:pt x="24480" y="10800"/>
                </a:lnTo>
                <a:lnTo>
                  <a:pt x="10467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740720" y="1916280"/>
            <a:ext cx="0" cy="2952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1640" y="1700280"/>
            <a:ext cx="0" cy="2952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2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2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2" dur="500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2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2" dur="500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2" dur="5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2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2090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 u="sng">
                <a:solidFill>
                  <a:srgbClr val="00007d"/>
                </a:solidFill>
                <a:uFillTx/>
                <a:latin typeface="Arial"/>
              </a:rPr>
              <a:t>Подготовка выкройки к раскрою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68000" y="181728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писать названия деталей и названия срезов юб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казать стрелкой направление долевой ни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писать величину припусков на швы (цифрами в кружочк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>
            <a:hlinkClick r:id="" action="ppaction://hlinkshowjump?jump=previousslide"/>
          </p:cNvPr>
          <p:cNvSpPr/>
          <p:nvPr/>
        </p:nvSpPr>
        <p:spPr>
          <a:xfrm>
            <a:off x="6012000" y="2492280"/>
            <a:ext cx="503280" cy="35892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0279" h="21600">
                <a:moveTo>
                  <a:pt x="0" y="0"/>
                </a:moveTo>
                <a:lnTo>
                  <a:pt x="30279" y="0"/>
                </a:lnTo>
                <a:lnTo>
                  <a:pt x="30279" y="21600"/>
                </a:lnTo>
                <a:lnTo>
                  <a:pt x="0" y="21600"/>
                </a:lnTo>
                <a:close/>
              </a:path>
              <a:path fill="lightenLess" w="30279" h="21600">
                <a:moveTo>
                  <a:pt x="0" y="0"/>
                </a:moveTo>
                <a:lnTo>
                  <a:pt x="30279" y="0"/>
                </a:lnTo>
                <a:lnTo>
                  <a:pt x="28879" y="1400"/>
                </a:lnTo>
                <a:lnTo>
                  <a:pt x="1400" y="1400"/>
                </a:lnTo>
                <a:close/>
              </a:path>
              <a:path fill="darken" w="30279" h="21600">
                <a:moveTo>
                  <a:pt x="30279" y="0"/>
                </a:moveTo>
                <a:lnTo>
                  <a:pt x="30279" y="21600"/>
                </a:lnTo>
                <a:lnTo>
                  <a:pt x="28879" y="20200"/>
                </a:lnTo>
                <a:lnTo>
                  <a:pt x="28879" y="1400"/>
                </a:lnTo>
                <a:close/>
              </a:path>
              <a:path fill="darkenLess" w="30279" h="21600">
                <a:moveTo>
                  <a:pt x="30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9" y="20200"/>
                </a:lnTo>
                <a:close/>
              </a:path>
              <a:path fill="lighten" w="30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79" h="21600">
                <a:moveTo>
                  <a:pt x="8133" y="3794"/>
                </a:moveTo>
                <a:lnTo>
                  <a:pt x="22146" y="10800"/>
                </a:lnTo>
                <a:lnTo>
                  <a:pt x="8133" y="17806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>
            <a:hlinkClick r:id="" action="ppaction://hlinkshowjump?jump=previousslide"/>
          </p:cNvPr>
          <p:cNvSpPr/>
          <p:nvPr/>
        </p:nvSpPr>
        <p:spPr>
          <a:xfrm>
            <a:off x="4356000" y="342900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77080" y="472428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3794"/>
                </a:moveTo>
                <a:lnTo>
                  <a:pt x="24274" y="10800"/>
                </a:lnTo>
                <a:lnTo>
                  <a:pt x="10261" y="17806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5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611280" y="2060280"/>
            <a:ext cx="3394080" cy="638280"/>
          </a:xfrm>
          <a:prstGeom prst="rect">
            <a:avLst/>
          </a:prstGeom>
          <a:solidFill>
            <a:srgbClr val="9999ff"/>
          </a:solidFill>
          <a:ln w="38160">
            <a:solidFill>
              <a:srgbClr val="cccce6"/>
            </a:solidFill>
            <a:miter/>
          </a:ln>
          <a:effectLst>
            <a:outerShdw dist="107932" dir="13500000" blurRad="0" rotWithShape="0">
              <a:srgbClr val="00007d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ыло интересно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042920" y="3303000"/>
            <a:ext cx="3186360" cy="520560"/>
          </a:xfrm>
          <a:prstGeom prst="rect">
            <a:avLst/>
          </a:prstGeom>
          <a:solidFill>
            <a:srgbClr val="9999ff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было трудно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76720" y="4311000"/>
            <a:ext cx="2900160" cy="520560"/>
          </a:xfrm>
          <a:prstGeom prst="rect">
            <a:avLst/>
          </a:prstGeom>
          <a:solidFill>
            <a:srgbClr val="9999ff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теперь я могу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35640" y="2151720"/>
            <a:ext cx="3313080" cy="520560"/>
          </a:xfrm>
          <a:prstGeom prst="rect">
            <a:avLst/>
          </a:prstGeom>
          <a:solidFill>
            <a:srgbClr val="9999ff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я научилась…</a:t>
            </a:r>
            <a:r>
              <a:rPr b="0" lang="en-US" sz="2000" spc="-1" strike="noStrike">
                <a:solidFill>
                  <a:srgbClr val="cccce6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003640" y="3243960"/>
            <a:ext cx="3313440" cy="520560"/>
          </a:xfrm>
          <a:prstGeom prst="rect">
            <a:avLst/>
          </a:prstGeom>
          <a:solidFill>
            <a:srgbClr val="9999ff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меня удивило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971640" y="4292640"/>
            <a:ext cx="1755720" cy="18874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Большие смайлики"/>
          <p:cNvPicPr/>
          <p:nvPr/>
        </p:nvPicPr>
        <p:blipFill>
          <a:blip r:embed="rId2"/>
          <a:stretch/>
        </p:blipFill>
        <p:spPr>
          <a:xfrm>
            <a:off x="6877080" y="4797360"/>
            <a:ext cx="144144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ология: Учебник для учащихся 5 класса общеобразовательных учреждений (вариант для девочек)/Под ред.В.Д.Симоненко. – 2-еизд., перераб. – М.: Вентана-Граф.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ezhva-licey.ru/teachers/nmr/metodich_razrabotki/itogi_uroka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amnesia.pavelbers.com/the%20mod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detki-74.ru/magazine/magazine_glav_2005.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keep4u.ru/imgs/s/070806/2787b1f50771262c96.jpg</a:t>
            </a:r>
            <a:r>
              <a:rPr b="0" lang="ru-RU" sz="2400" spc="-1" strike="noStrike">
                <a:solidFill>
                  <a:srgbClr val="cccce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0" y="1413000"/>
            <a:ext cx="3449520" cy="5084640"/>
          </a:xfrm>
          <a:prstGeom prst="rect">
            <a:avLst/>
          </a:prstGeom>
          <a:ln w="38160">
            <a:solidFill>
              <a:srgbClr val="cccce6"/>
            </a:solidFill>
            <a:miter/>
          </a:ln>
        </p:spPr>
      </p:pic>
      <p:sp>
        <p:nvSpPr>
          <p:cNvPr id="111" name=""/>
          <p:cNvSpPr/>
          <p:nvPr/>
        </p:nvSpPr>
        <p:spPr>
          <a:xfrm rot="16200000">
            <a:off x="1892160" y="4452480"/>
            <a:ext cx="358164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388800" y="3939840"/>
            <a:ext cx="45720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2930040" y="44211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бре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1525680" y="39538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поя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6391440" y="21852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нагруд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80000" y="4292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карм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19640" y="566100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Нижняя часть фарт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319640" y="549360"/>
            <a:ext cx="482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- это графическое изображение какого-либо предмета на бумаге в натуральную величину, в уменьшенном или увеличенном ви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619280" y="2781360"/>
            <a:ext cx="669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ертежные инструмент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11280" y="3645000"/>
            <a:ext cx="536112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штабная линейка (линейка закройщик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андаш ТМ и 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оль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 rot="3278400">
            <a:off x="6194880" y="3821760"/>
            <a:ext cx="568440" cy="3240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3240360" cy="723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rcRect l="0" t="0" r="42905" b="4253"/>
          <a:stretch/>
        </p:blipFill>
        <p:spPr>
          <a:xfrm>
            <a:off x="250920" y="4076640"/>
            <a:ext cx="17272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7d"/>
                </a:solidFill>
                <a:latin typeface="Arial"/>
              </a:rPr>
              <a:t>Построение чертежа фартука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в масштабе 1: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58920" y="2276640"/>
            <a:ext cx="788508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казывает, во сколько раз   настоящие размеры предмета меньше или бол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Масштаб записываю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 виде отношения двух чисел, первое из которых относится к чертежу, а второе – к предме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сштаб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: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значает уменьшение в 4 р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95280" y="765000"/>
            <a:ext cx="4038480" cy="589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Линия тал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точке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построить прямой уго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628640"/>
            <a:ext cx="40384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64000" y="206064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64000" y="2060640"/>
            <a:ext cx="0" cy="360036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Линия ни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4020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ТН</a:t>
            </a:r>
            <a:r>
              <a:rPr b="0" lang="ru-RU" sz="3600" spc="-1" strike="noStrike">
                <a:solidFill>
                  <a:srgbClr val="00007d"/>
                </a:solidFill>
                <a:latin typeface="Arial"/>
              </a:rPr>
              <a:t> = 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нч = 40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      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ТН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= </a:t>
            </a:r>
            <a:r>
              <a:rPr b="0" lang="ru-RU" sz="3600" spc="-1" strike="noStrike">
                <a:solidFill>
                  <a:srgbClr val="00007d"/>
                </a:solidFill>
                <a:latin typeface="Arial"/>
              </a:rPr>
              <a:t>Днч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800" spc="-1" strike="noStrike" u="sng">
                <a:solidFill>
                  <a:srgbClr val="00007d"/>
                </a:solidFill>
                <a:uFillTx/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40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точк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267920"/>
            <a:ext cx="4038480" cy="504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1628640"/>
            <a:ext cx="280836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44000" y="162864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050920" y="4581360"/>
            <a:ext cx="486000" cy="648000"/>
          </a:xfrm>
          <a:prstGeom prst="downArrow">
            <a:avLst>
              <a:gd name="adj1" fmla="val 50000"/>
              <a:gd name="adj2" fmla="val 3333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08720" y="162864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435280" y="5157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250" autoRev="1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Ширина фарт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384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С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40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Сб:2+6с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(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 своим мерк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40:2+6 = 20+6 =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26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ТТ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26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НН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26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1640" y="1052280"/>
            <a:ext cx="4321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 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Т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 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219640" y="1557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19640" y="155736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19640" y="155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19640" y="1557360"/>
            <a:ext cx="2952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50920" y="328464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9640" y="5589720"/>
            <a:ext cx="2952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72360" y="1557360"/>
            <a:ext cx="0" cy="4032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6979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Место расположения карм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84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 точки Т вниз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6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чка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ТК = 6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84720" y="1125000"/>
            <a:ext cx="4859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                                   Т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08720" y="1557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08720" y="155736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08720" y="595008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459640" y="155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532720" y="155736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95640" y="1700280"/>
            <a:ext cx="485640" cy="503280"/>
          </a:xfrm>
          <a:prstGeom prst="downArrow">
            <a:avLst>
              <a:gd name="adj1" fmla="val 50000"/>
              <a:gd name="adj2" fmla="val 25908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08720" y="1628640"/>
            <a:ext cx="0" cy="122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84720" y="1125360"/>
            <a:ext cx="485928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Т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                                 Н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05:58:47Z</dcterms:created>
  <dc:creator>Buks3</dc:creator>
  <dc:description/>
  <dc:language>en-US</dc:language>
  <cp:lastModifiedBy>Buks3</cp:lastModifiedBy>
  <dcterms:modified xsi:type="dcterms:W3CDTF">2012-02-24T06:56:40Z</dcterms:modified>
  <cp:revision>5</cp:revision>
  <dc:subject/>
  <dc:title>Слайд 1</dc:title>
</cp:coreProperties>
</file>