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B82-F63C-492A-B5BC-E258F105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68C-A57E-410A-9FC2-BD486B11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136-0647-4C76-B4C3-BA2AE4DF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3AC-5C91-46EE-AC45-79672FCD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21A2-2AB5-415F-85FA-DACBAE6F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48DD-C055-4E5F-9314-FB7D7126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813E-65EE-453B-87D9-D769816D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B898-2BEF-4022-AB56-3105EF55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38AD-6F93-4E7C-B209-51CA65A5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71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26B2-F5B0-4749-B109-ED210D93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1A58-FB26-439D-9B53-F906DDBF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D26-415E-48D3-A7A9-862BCBF8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AA1D-9CCD-4DE1-A7A9-3DF7FEAC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FA65-7F9C-4175-8E29-B29E357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7BE2-DD47-4244-9DE8-0E998F71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32B9-6884-41B6-A13E-4726AA64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464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208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464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208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8735-3743-47C5-A351-8DC568DE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83A-6D18-434D-AB90-279626DD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CF7-2216-4181-98DE-9AE0147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2F0-651B-4E84-B843-1D20669F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71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7C4-23CE-4C38-834B-4D223BE3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4CE-BE0D-4B66-8742-F613AE0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F25-D59B-4C37-8833-19B4699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609-59C5-4581-B7A3-6923925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A57A-D493-499A-A4F3-FA8EAA9D1BE5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2"/>
          <p:cNvGrpSpPr/>
          <p:nvPr/>
        </p:nvGrpSpPr>
        <p:grpSpPr>
          <a:xfrm>
            <a:off x="365760" y="-47880"/>
            <a:ext cx="1253520" cy="1602000"/>
            <a:chOff x="365760" y="-47880"/>
            <a:chExt cx="1253520" cy="1602000"/>
          </a:xfrm>
        </p:grpSpPr>
        <p:sp>
          <p:nvSpPr>
            <p:cNvPr id="6" name="AutoShape 10"/>
            <p:cNvSpPr/>
            <p:nvPr/>
          </p:nvSpPr>
          <p:spPr>
            <a:xfrm>
              <a:off x="466560" y="547560"/>
              <a:ext cx="1152720" cy="792360"/>
            </a:xfrm>
            <a:prstGeom prst="rtTriangle">
              <a:avLst/>
            </a:prstGeom>
            <a:solidFill>
              <a:srgbClr val="ffffff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rot="19938000">
              <a:off x="466560" y="115560"/>
              <a:ext cx="86364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755640" y="906480"/>
              <a:ext cx="718920" cy="64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E7D1-603F-4E41-9B88-E94D0CCE223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Формирование информационной компетентности школьников на уроках математики</a:t>
            </a:r>
            <a:endParaRPr b="1" lang="en-US" sz="32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4941360"/>
            <a:ext cx="64008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00"/>
                </a:solidFill>
                <a:latin typeface="Century Gothic"/>
              </a:rPr>
              <a:t>Мастер- класс</a:t>
            </a: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00"/>
                </a:solidFill>
                <a:latin typeface="Century Gothic"/>
              </a:rPr>
              <a:t>Учителя математики</a:t>
            </a: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00"/>
                </a:solidFill>
                <a:latin typeface="Century Gothic"/>
              </a:rPr>
              <a:t>МАОУ «Лицей № 36»</a:t>
            </a: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00"/>
                </a:solidFill>
                <a:latin typeface="Century Gothic"/>
              </a:rPr>
              <a:t>Филимоновой Татьяны Вениаминовны</a:t>
            </a: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69640"/>
            <a:ext cx="7127640" cy="1152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981000"/>
            <a:ext cx="8713800" cy="561672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entury Gothic"/>
              </a:rPr>
              <a:t>Информационная компонента становится ведущей составляющей технологической подготовки человека в современном обществе.</a:t>
            </a:r>
            <a:endParaRPr b="0" lang="en-US" sz="2800" spc="-1" strike="noStrike">
              <a:solidFill>
                <a:srgbClr val="3333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entury Gothic"/>
              </a:rPr>
              <a:t>Под ИКТ - компетентностью подразумевается уверенное владение обучающимися всеми составляющими навыками ИКТ - грамотности для решения возникающих вопросов в учебной и иной деятельности, при этом акцент делается на сформированность обобщенных познавательных, этических и технических навыков.</a:t>
            </a:r>
            <a:endParaRPr b="0" lang="en-US" sz="2800" spc="-1" strike="noStrike">
              <a:solidFill>
                <a:srgbClr val="3333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08720" cy="187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Century Gothic"/>
              </a:rPr>
              <a:t>Основной целью информационного образования является формирование информационно-коммуникационной компетентности, которая предполагает:</a:t>
            </a:r>
            <a:endParaRPr b="1" lang="en-US" sz="28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060640"/>
            <a:ext cx="836280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entury Gothic"/>
              </a:rPr>
              <a:t>способность мобилизовать полученные знания, умения, опыт и способы поведения в условиях конкретной ситуации или вида деятельности,</a:t>
            </a:r>
            <a:endParaRPr b="0" lang="en-US" sz="28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entury Gothic"/>
              </a:rPr>
              <a:t>овладение системой методов и средств обработки, хранения и передачи информации с помощью современных информационных технологий.</a:t>
            </a:r>
            <a:endParaRPr b="0" lang="en-US" sz="28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cc00"/>
                </a:solidFill>
                <a:latin typeface="Century Gothic"/>
              </a:rPr>
              <a:t>Для достижения поставленной цели ставлю следующие педагогические задачи</a:t>
            </a:r>
            <a:r>
              <a:rPr b="1" i="1" lang="ru-RU" sz="4400" spc="-1" strike="noStrike">
                <a:solidFill>
                  <a:srgbClr val="99cc00"/>
                </a:solidFill>
                <a:latin typeface="Century Gothic"/>
              </a:rPr>
              <a:t>:</a:t>
            </a:r>
            <a:br>
              <a:rPr sz="4400"/>
            </a:b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560" y="1700280"/>
            <a:ext cx="8569080" cy="48974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Century Gothic"/>
              </a:rPr>
              <a:t>организовать учебно-воспитательный процесс на основе технологий личностно-ориентированного обучения, наиболее активно взаимодействующих с информационными;</a:t>
            </a:r>
            <a:endParaRPr b="0" lang="en-US" sz="26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Century Gothic"/>
              </a:rPr>
              <a:t>использовать групповые и индивидуальные формы организации учебного процесса с целью формирования коммуникативной культуры и опыта организации информационного взаимодействия, совместной рефлексии и саморефлексии обучающихся;</a:t>
            </a:r>
            <a:endParaRPr b="0" lang="en-US" sz="26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000" y="269640"/>
            <a:ext cx="7127640" cy="1152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99920"/>
            <a:ext cx="8362800" cy="475308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Century Gothic"/>
              </a:rPr>
              <a:t>разработать систему использования интерактивных методов, средств и  приемов информационно-коммуникационных технологий, которая позволит развить способности обучающихся к моделированию и конструированию собственной инфосреды;</a:t>
            </a:r>
            <a:endParaRPr b="0" lang="en-US" sz="26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Century Gothic"/>
              </a:rPr>
              <a:t>создать условия для развития операционного мышления, формирования и развития личных творческих качеств обучающихся, как важного аспекта дальнейшего профессионального самоопределения обучающихся.</a:t>
            </a:r>
            <a:endParaRPr b="0" lang="en-US" sz="26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417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9cc00"/>
                </a:solidFill>
                <a:latin typeface="Century Gothic"/>
              </a:rPr>
              <a:t>Практика показала, что наиболее удачными </a:t>
            </a:r>
            <a:r>
              <a:rPr b="1" i="1" lang="ru-RU" sz="2800" spc="-1" strike="noStrike">
                <a:solidFill>
                  <a:srgbClr val="99cc00"/>
                </a:solidFill>
                <a:latin typeface="Century Gothic"/>
              </a:rPr>
              <a:t>типами уроков</a:t>
            </a:r>
            <a:r>
              <a:rPr b="1" lang="ru-RU" sz="2800" spc="-1" strike="noStrike">
                <a:solidFill>
                  <a:srgbClr val="99cc00"/>
                </a:solidFill>
                <a:latin typeface="Century Gothic"/>
              </a:rPr>
              <a:t> по формированию ИК-компетентности являются:</a:t>
            </a:r>
            <a:br>
              <a:rPr sz="2800"/>
            </a:br>
            <a:endParaRPr b="1" lang="en-US" sz="28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00280"/>
            <a:ext cx="8362800" cy="46814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entury Gothic"/>
              </a:rPr>
              <a:t>Урок изучения нового материала с демонстрацией материала в виде электронных презентаций;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entury Gothic"/>
              </a:rPr>
              <a:t>Урок – практикум;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entury Gothic"/>
              </a:rPr>
              <a:t>Урок-исследование;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entury Gothic"/>
              </a:rPr>
              <a:t>Урок решения задач с последующей компьютерной проверкой;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entury Gothic"/>
              </a:rPr>
              <a:t>Интегрированный урок.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Century Gothic"/>
              </a:rPr>
              <a:t>Билл Гейтс сказал:</a:t>
            </a: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00280"/>
            <a:ext cx="836280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entury Gothic"/>
              </a:rPr>
              <a:t>«Все компьютеры в мире ничего не изменят без наличия увлечённых учащихся, знающих и преданных своему делу преподавателей, неравнодушных и осведомлённых родителей, а также общества, в котором подчёркивается ценность обучения на протяжении всей жизни»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69640"/>
            <a:ext cx="7127640" cy="1152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00280"/>
            <a:ext cx="836280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00"/>
                </a:solidFill>
                <a:latin typeface="Century Gothic"/>
              </a:rPr>
              <a:t>Спасибо за внимание!</a:t>
            </a:r>
            <a:endParaRPr b="0" lang="en-US" sz="60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2:26:11Z</dcterms:created>
  <dc:creator>Степаненко</dc:creator>
  <dc:description/>
  <dc:language>en-US</dc:language>
  <cp:lastModifiedBy>Степаненко</cp:lastModifiedBy>
  <dcterms:modified xsi:type="dcterms:W3CDTF">2012-02-22T07:31:44Z</dcterms:modified>
  <cp:revision>7</cp:revision>
  <dc:subject/>
  <dc:title>Слайд 1</dc:title>
</cp:coreProperties>
</file>