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4CD-2C3A-4FF3-A381-88A0FE0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40C-5AEF-4F0C-AE9D-129FC051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FF8-31DB-41C4-AD40-C820CED2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132-BCCC-40FE-8973-C20B11D3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57A4-82EB-4839-8BF0-944F31FE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813-B632-4672-A020-402AD862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8BE4-6BF2-469C-BD48-5B1561C8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348-D4C4-417D-92DA-C369387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40C-D3AE-4E56-AE76-B76805E3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767720" cy="802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D2F6-9276-4265-A413-547DC89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C8E1-18AD-4646-8F8E-D942DC2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805-A29D-4C9C-A31E-45CC25D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D69-31CE-45A3-92D5-2EF043E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AC7-5ED4-4F7F-8631-2118C4B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592C-1F51-4B09-91CF-7C19207C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C653-BD18-4CCE-8794-5E1DFA2E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3DFC-A60F-4B11-9673-5E0C7373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5786-E71F-4EDB-8008-87AF2109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7A90-C43B-47E1-9E52-5B813AA9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BE64-8796-4A2F-9E62-2880211B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BBA5-6929-4237-9361-BF786EBA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4EAD-D0F5-453B-AA86-7B2DAA9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E52-BAC4-4653-BD37-2D726FE8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767720" cy="802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CA21-D527-4CD9-87A3-EAC4F1C3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F893-03FE-4A3A-82CE-356A1F3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8302-A0DF-4ADD-9E44-C0B91DB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2AEE-5617-4ECB-9846-C2FB978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ECC4-1218-4FAA-BF38-9605A1D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F267-1191-4842-BEE0-8615BBD1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82C7-A08E-450E-8DA2-9976254A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CC6-0926-40EF-9A5C-771A3C11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CDF-202A-4121-AFAD-6A199E5E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767720" cy="802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5F6-E033-4513-89FC-A072676A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0AF-CCE0-42F4-B11C-F546E965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D50-219D-4DD9-8D48-1A45A1A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E97-A244-4C5C-B59B-1172BD8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BC44B9-2407-40F6-B96C-59A5F387EE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228600" y="228600"/>
            <a:ext cx="8685360" cy="5942160"/>
            <a:chOff x="228600" y="228600"/>
            <a:chExt cx="8685360" cy="5942160"/>
          </a:xfrm>
        </p:grpSpPr>
        <p:sp>
          <p:nvSpPr>
            <p:cNvPr id="61" name="Rectangle 2"/>
            <p:cNvSpPr/>
            <p:nvPr/>
          </p:nvSpPr>
          <p:spPr>
            <a:xfrm>
              <a:off x="228600" y="228600"/>
              <a:ext cx="8685360" cy="594216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306000" y="306000"/>
              <a:ext cx="8528400" cy="576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"/>
            <p:cNvSpPr/>
            <p:nvPr/>
          </p:nvSpPr>
          <p:spPr>
            <a:xfrm>
              <a:off x="533160" y="1732680"/>
              <a:ext cx="815184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23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23856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235D7F-9752-4AE2-9AC6-267F99D75256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"/>
          <p:cNvGrpSpPr/>
          <p:nvPr/>
        </p:nvGrpSpPr>
        <p:grpSpPr>
          <a:xfrm>
            <a:off x="380880" y="457200"/>
            <a:ext cx="8396280" cy="5560920"/>
            <a:chOff x="380880" y="457200"/>
            <a:chExt cx="8396280" cy="5560920"/>
          </a:xfrm>
        </p:grpSpPr>
        <p:sp>
          <p:nvSpPr>
            <p:cNvPr id="106" name="Rectangle 2"/>
            <p:cNvSpPr/>
            <p:nvPr/>
          </p:nvSpPr>
          <p:spPr>
            <a:xfrm>
              <a:off x="380880" y="457200"/>
              <a:ext cx="8396280" cy="55609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"/>
            <p:cNvSpPr/>
            <p:nvPr/>
          </p:nvSpPr>
          <p:spPr>
            <a:xfrm>
              <a:off x="452160" y="533160"/>
              <a:ext cx="8227800" cy="540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"/>
            <p:cNvSpPr/>
            <p:nvPr/>
          </p:nvSpPr>
          <p:spPr>
            <a:xfrm>
              <a:off x="914040" y="3580200"/>
              <a:ext cx="7313400" cy="14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836280"/>
            <a:ext cx="67770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494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251160" y="6248520"/>
            <a:ext cx="28828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5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EE0B86-12EB-40AF-9BC1-AD65B786EE5C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26920" y="69228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5435640" y="580536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ный час в 8 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: Седип Э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800360" y="3429000"/>
            <a:ext cx="64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Gothic"/>
              </a:rPr>
              <a:t>дать определение понятию «мужество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Gothic"/>
              </a:rPr>
              <a:t>воспитывать патриотизм, любовь к Родине и людям ее охраняющим не только в военное, но и мирное врем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Журавли.mp3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51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608360" cy="33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72072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395280" y="1074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ведем итог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1332000" y="177336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ый герой русских былин -Богатыр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известные имена былинных богатырей - Илья Муромец, Алеша Попович, Добрыня Никит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ринное название русского войска – р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е сражение Отечественной войны 1812 года - Бородинское ср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великая из войн – Великая Отечеств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доблестная армия - Россий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 о праздновании Дня Защитника Отечества был принят в1995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3062160" y="69228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 такое муже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2400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храбрость, присутствие духа в опасности. (Толковый словарь Русского языка С.И. Ожег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3573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абрость – мужество и решительность в поступках, отсутствие страха перед опасн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332000" y="33336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жество в наше время, в мирное врем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2400480" cy="3527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755640" y="609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ороз пробежать 30 км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506760" cy="2338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716360" y="602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ыть беженцем… бороться за свое счастье и право на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808200" y="186696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быть мужественным, чтобы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465440" cy="335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5087880" y="2421000"/>
            <a:ext cx="3667320" cy="4292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395280" y="42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асать люд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435640" y="148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ервые добиваться 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539640" y="981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Много разных дел и поступков можно назвать мужественным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40000" y="2519280"/>
            <a:ext cx="64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66"/>
                </a:solidFill>
                <a:latin typeface="Times New Roman"/>
              </a:rPr>
              <a:t>Мы знаем, что ныне лежит на весах</a:t>
            </a:r>
            <a:br>
              <a:rPr sz="2800"/>
            </a:br>
            <a:r>
              <a:rPr b="1" lang="ru-RU" sz="2800" spc="-1" strike="noStrike">
                <a:solidFill>
                  <a:srgbClr val="ff3366"/>
                </a:solidFill>
                <a:latin typeface="Times New Roman"/>
              </a:rPr>
              <a:t>И что совершается ныне.</a:t>
            </a:r>
            <a:br>
              <a:rPr sz="2800"/>
            </a:br>
            <a:r>
              <a:rPr b="1" lang="ru-RU" sz="2800" spc="-1" strike="noStrike">
                <a:solidFill>
                  <a:srgbClr val="ff3366"/>
                </a:solidFill>
                <a:latin typeface="Times New Roman"/>
              </a:rPr>
              <a:t>Час мужества пробил на наших часах,</a:t>
            </a:r>
            <a:br>
              <a:rPr sz="2800"/>
            </a:br>
            <a:r>
              <a:rPr b="1" lang="ru-RU" sz="2800" spc="-1" strike="noStrike">
                <a:solidFill>
                  <a:srgbClr val="ff3366"/>
                </a:solidFill>
                <a:latin typeface="Times New Roman"/>
              </a:rPr>
              <a:t>И мужество нас не покинет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1000"/>
          </a:xfrm>
          <a:prstGeom prst="rect">
            <a:avLst/>
          </a:prstGeom>
          <a:ln w="0">
            <a:noFill/>
          </a:ln>
        </p:spPr>
      </p:pic>
      <p:pic>
        <p:nvPicPr>
          <p:cNvPr id="159" name="Цветы. Богатырская сила..mp3" descr=""/>
          <p:cNvPicPr/>
          <p:nvPr/>
        </p:nvPicPr>
        <p:blipFill>
          <a:blip r:embed="rId2"/>
          <a:stretch/>
        </p:blipFill>
        <p:spPr>
          <a:xfrm>
            <a:off x="571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329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028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39640" y="341280"/>
            <a:ext cx="7380360" cy="613728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68360" y="5580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b1f6f"/>
                </a:solidFill>
                <a:latin typeface="Times New Roman"/>
              </a:rPr>
              <a:t>Но не долго отдыхали от ратных дел русские солдаты.</a:t>
            </a:r>
            <a:r>
              <a:rPr b="1" lang="ru-RU" sz="2000" spc="-1" strike="noStrike">
                <a:solidFill>
                  <a:srgbClr val="4b1f6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71640" y="2421000"/>
            <a:ext cx="5256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900000" y="1260360"/>
            <a:ext cx="6096240" cy="4500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60360" y="179280"/>
            <a:ext cx="80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О подвиге солдат и русского дворянства во время Отечественной войны 1812 года рассказал великий русский писатель Лев Толстой в романе “Война и мир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267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4103640" cy="306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4392360" cy="281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4788000" y="476280"/>
            <a:ext cx="4356000" cy="2754360"/>
          </a:xfrm>
          <a:prstGeom prst="rect">
            <a:avLst/>
          </a:prstGeom>
          <a:ln w="0">
            <a:noFill/>
          </a:ln>
        </p:spPr>
      </p:pic>
      <p:pic>
        <p:nvPicPr>
          <p:cNvPr id="170" name="Священная война.mp3" descr=""/>
          <p:cNvPicPr/>
          <p:nvPr/>
        </p:nvPicPr>
        <p:blipFill>
          <a:blip r:embed="rId5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534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73040" y="179280"/>
            <a:ext cx="708660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орок первый! Июнь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Год и месяц борьбы всенародной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Даже пылью времен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Затянуть эту дату нельзя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Поднималась страна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И на фронт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уходила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поротно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умачевые звез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На полотнах знамен уно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сканирование0001.jpg"/>
          <p:cNvPicPr/>
          <p:nvPr/>
        </p:nvPicPr>
        <p:blipFill>
          <a:blip r:embed="rId1"/>
          <a:stretch/>
        </p:blipFill>
        <p:spPr>
          <a:xfrm>
            <a:off x="185724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200" y="214200"/>
            <a:ext cx="867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сять страшных лет продолжалась война в Афганиста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 мы знаем, сколько наших ребят полегло на афганской земле. Они свой долг выполнили с че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ончилась война в Афганистане, но вновь не спят матери, провожая своих сыновей на службу в армию. Все новые и новые “горячие точки” вспыхивают на карте нашей страны, и среди них ставшее для многих страшным слово “Чечня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йские солдаты, вернувшиеся с чеченской войны, принесли с собой как бы обновленную любовь к Роди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Есть только миг.mp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939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29:57Z</dcterms:created>
  <dc:creator>SeryjVolhv</dc:creator>
  <dc:description/>
  <dc:language>en-US</dc:language>
  <cp:lastModifiedBy>User</cp:lastModifiedBy>
  <dcterms:modified xsi:type="dcterms:W3CDTF">2011-02-21T15:21:15Z</dcterms:modified>
  <cp:revision>14</cp:revision>
  <dc:subject/>
  <dc:title>Слайд 1</dc:title>
</cp:coreProperties>
</file>