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13.jpeg" ContentType="image/jpeg"/>
  <Override PartName="/ppt/media/image14.jpeg" ContentType="image/jpeg"/>
  <Override PartName="/ppt/media/image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10.jpeg" ContentType="image/jpeg"/>
  <Override PartName="/ppt/media/image30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617-F952-4989-BF16-3AD1FB38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953-BF72-492D-8FAE-33EE4564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45A-9F0C-482E-A330-A2993389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0F7-6C3E-4869-8590-9340C1F5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E4B6-99E6-49F0-8DF1-F8737980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7B98-E547-4B33-AE68-B9075E91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2F23-9564-48F1-AA17-07BD0565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2D37-8654-4D57-8CC4-714635F4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895D-0BA5-45E6-B096-C8FC953E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3891-7F16-4B56-8E1F-2AF18B07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B8D0-4734-477D-A192-4822DAAD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C12-F54A-4175-A422-72501791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36E7-959A-4B60-96CA-3C06AEB8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7103-503B-4F00-9D58-C9EDCFB3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CA9C-48B0-4819-BCB4-97E7C083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9018-5EF0-4E44-801B-980E3B94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AF76-F9C8-46BC-8DCE-69F76FD1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8FA1-D6C6-4B42-81EC-3D0671E9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BE5D-675C-4ABF-935D-08461F3C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C6365-9998-44A5-9E17-F1180840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597D-F865-47BF-8D47-B02FF3B8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59A70-B942-4804-A827-B79060D3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C94-F07C-49B4-9AAE-1840FB37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7099-2E35-4107-8D46-9B156207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2F319-39A7-4E8C-AD45-6A265DFC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2FEB-3E2B-4845-8902-5936B82C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73C7-2FBC-439B-8B5B-08D8F458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4EECA-41FD-4910-9D8A-624ACB09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5A8D-FDB3-4989-BCAD-79CF65C1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7E9D1-416F-4D5B-A09F-06701444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F3A89-C411-4FC3-B61B-D045A5FA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A2D68-8AE2-4300-9BB7-12F6DE23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AA8F9-43B3-4513-9DD1-D99EE616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909-284A-449F-9E78-84D6166D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ABF50-7BB5-496E-A93C-27BA5139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5B19B-CA44-4155-987B-318A36D8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D670B-BB0C-4824-A1F4-4DE5B474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0704D-7987-43C3-A214-10CA9BD0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222C5-8B04-4FBF-9508-6007DB8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2E725-DC94-4B1D-9FB7-01FF32B2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FD5A-BADA-45B3-B9D8-693CA550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096C-3E89-42FB-9939-0AC693DC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8C9EB-B989-4158-8A64-6E69EA6F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5EC87-BB3A-4AED-8A96-53391D34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965-6BBB-4E99-8817-485CE078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6C8F-D1AD-4B0A-9355-78E43C51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EA1E7-CE07-4E3E-A369-9843EAF3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8428B-B642-42DA-8757-D3ABA3E1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5203E-7103-455B-B5BE-BF6FACCD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C14BA-208C-478E-B1C6-6D55B5EC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3A13D-D52E-4B48-9835-FF25360B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03247-035F-4005-AD27-08152D89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EB70A-184D-47B1-BE6D-904B9E10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58717-DA22-41E2-B9DE-F1484DC4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3B7FD-0571-4091-BD44-BD2D8281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6A7-038D-41AC-A82E-A0C09A41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2E6E6-97E4-40AF-B35A-71F46AA5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0E940-C6CD-4EEF-84DE-4333F8EB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92C75-6C75-4D5A-92D4-843DF3AB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69F66-9648-404F-8C6E-803F510A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56D63-0F2E-478C-BC5E-62BDDCF6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B57B6-4F1D-4D2F-B99E-008D13D6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069EC-181C-420E-ACF6-C38F5A5E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AA779-BF54-4781-838C-177EF24D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EBAF6-2FAB-4333-A94F-1D07B305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84C0D-E1D4-4230-A89D-4E15D1CF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5CC-6F25-412D-AFD8-04D5B5E6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F7BF4-514D-4E58-B548-491401B8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3CF57-266B-489F-860D-AF8296DA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1AFA9-3A1A-45C0-9E5C-DFE2F810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EAD51-9BBF-4EC8-BD4A-D7E4A41F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B3A80-7576-4017-9FF0-6A22123E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F2A40-F700-46D1-9D67-11058770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78F40-3637-47C1-8B44-F534AC89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44DF1-CC7E-41E0-AAC4-2E695FDE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922F4-6CF5-450F-9D1B-B22D5260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83407-5C21-494A-8ED5-577F0F8F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56C-BDB7-46A9-8D4B-CCDF14F0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40BD0-118C-4E6E-9A16-2B80359C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386D3-D065-45C8-9433-E7973F0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C3397-3A91-43BE-A6DB-E7D16B74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A21B3-D17F-4946-9D66-05ED02A2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E5B6A-AB30-4AFB-89EB-95EAE896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ABCD8-CF7C-437C-8044-8108489D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25361-89B0-48E6-85AC-3DA21154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FB8D8-D854-4BC6-B29A-EB7A4753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DABEE-1B74-45F3-BEB9-77BF8835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3B303-91FD-4355-848F-5D442A94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168-4A96-4E16-B077-A916FC3F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22315-1F2C-4A39-942F-E6774520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45664-6EB4-4E67-B810-D6CD8F74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6C154-E9DC-48D8-9386-DE2A5A01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C7749-E2EB-434A-BBBE-D496EB09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F53AA-BDB9-4775-B556-757C8DDA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41020-131D-4262-933A-8BB2EFDD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308E9-6E12-408E-9FDD-5BE1933E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E839-ACB6-464A-9985-BC552010FBD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3C7A-207A-47D7-A761-F2BEE718404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FFFF-A9FF-4A53-8D20-F3AA0BE1B96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E76E-972E-4E35-A4BB-BB6A288C11A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8767-6382-4245-9E20-9E6D12441AF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042F-0C70-4D03-9831-65FA9BA9680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DA3B-340C-46C4-BC91-9730165F856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608A-73B7-4385-ADD0-39C4B01F7C4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3" descr="2 бараб.jpeg"/>
          <p:cNvPicPr/>
          <p:nvPr/>
        </p:nvPicPr>
        <p:blipFill>
          <a:blip r:embed="rId1"/>
          <a:stretch/>
        </p:blipFill>
        <p:spPr>
          <a:xfrm>
            <a:off x="571680" y="428760"/>
            <a:ext cx="8001000" cy="6232320"/>
          </a:xfrm>
          <a:prstGeom prst="rect">
            <a:avLst/>
          </a:prstGeom>
          <a:ln w="0">
            <a:noFill/>
          </a:ln>
        </p:spPr>
      </p:pic>
      <p:pic>
        <p:nvPicPr>
          <p:cNvPr id="371" name="Заголовок 1" descr=""/>
          <p:cNvPicPr/>
          <p:nvPr/>
        </p:nvPicPr>
        <p:blipFill>
          <a:blip r:embed="rId2"/>
          <a:stretch/>
        </p:blipFill>
        <p:spPr>
          <a:xfrm>
            <a:off x="682560" y="420840"/>
            <a:ext cx="8332920" cy="31939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56760" y="3785760"/>
            <a:ext cx="821556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Реферат выполне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ученицей 10 А клас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МБОУ Барвихинская СОШ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Ружицкой Мари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Содержимое 3" descr="2 бараб.jpeg"/>
          <p:cNvPicPr/>
          <p:nvPr/>
        </p:nvPicPr>
        <p:blipFill>
          <a:blip r:embed="rId1"/>
          <a:stretch/>
        </p:blipFill>
        <p:spPr>
          <a:xfrm>
            <a:off x="3000240" y="1714680"/>
            <a:ext cx="5319720" cy="4394160"/>
          </a:xfrm>
          <a:prstGeom prst="rect">
            <a:avLst/>
          </a:prstGeom>
          <a:ln w="0">
            <a:noFill/>
          </a:ln>
        </p:spPr>
      </p:pic>
      <p:pic>
        <p:nvPicPr>
          <p:cNvPr id="393" name="Заголовок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Содержимое 3" descr="20.jpeg"/>
          <p:cNvPicPr/>
          <p:nvPr/>
        </p:nvPicPr>
        <p:blipFill>
          <a:blip r:embed="rId1"/>
          <a:stretch/>
        </p:blipFill>
        <p:spPr>
          <a:xfrm>
            <a:off x="1714680" y="1714680"/>
            <a:ext cx="6381720" cy="4246560"/>
          </a:xfrm>
          <a:prstGeom prst="rect">
            <a:avLst/>
          </a:prstGeom>
          <a:ln w="0">
            <a:noFill/>
          </a:ln>
        </p:spPr>
      </p:pic>
      <p:pic>
        <p:nvPicPr>
          <p:cNvPr id="395" name="Заголовок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Содержимое 3" descr="15 бараб.jpg"/>
          <p:cNvPicPr/>
          <p:nvPr/>
        </p:nvPicPr>
        <p:blipFill>
          <a:blip r:embed="rId1"/>
          <a:stretch/>
        </p:blipFill>
        <p:spPr>
          <a:xfrm>
            <a:off x="2428920" y="1714680"/>
            <a:ext cx="6215040" cy="4216320"/>
          </a:xfrm>
          <a:prstGeom prst="rect">
            <a:avLst/>
          </a:prstGeom>
          <a:ln w="0">
            <a:noFill/>
          </a:ln>
        </p:spPr>
      </p:pic>
      <p:pic>
        <p:nvPicPr>
          <p:cNvPr id="397" name="Заголовок 2" descr=""/>
          <p:cNvPicPr/>
          <p:nvPr/>
        </p:nvPicPr>
        <p:blipFill>
          <a:blip r:embed="rId2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2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1384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Lucida Sans Unicode"/>
              </a:rPr>
              <a:t>В барабанах дремлет эхо синих шквалов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Lucida Sans Unicode"/>
              </a:rPr>
              <a:t>Что над нашими носились парусами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Lucida Sans Unicode"/>
              </a:rPr>
              <a:t>В гулкой памяти у них живет немал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Lucida Sans Unicode"/>
              </a:rPr>
              <a:t>Звонких песен, что придумали мы са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13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2" name="Рисунок 4" descr="21.jpeg"/>
          <p:cNvPicPr/>
          <p:nvPr/>
        </p:nvPicPr>
        <p:blipFill>
          <a:blip r:embed="rId1"/>
          <a:stretch/>
        </p:blipFill>
        <p:spPr>
          <a:xfrm>
            <a:off x="2286000" y="2143080"/>
            <a:ext cx="602460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3" descr="4 бараб.jpeg"/>
          <p:cNvPicPr/>
          <p:nvPr/>
        </p:nvPicPr>
        <p:blipFill>
          <a:blip r:embed="rId1"/>
          <a:stretch/>
        </p:blipFill>
        <p:spPr>
          <a:xfrm>
            <a:off x="2286000" y="1643040"/>
            <a:ext cx="6276960" cy="4403880"/>
          </a:xfrm>
          <a:prstGeom prst="rect">
            <a:avLst/>
          </a:prstGeom>
          <a:ln w="0">
            <a:noFill/>
          </a:ln>
        </p:spPr>
      </p:pic>
      <p:pic>
        <p:nvPicPr>
          <p:cNvPr id="404" name="Заголовок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ить историю бараба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знакомиться с видами и конструкциями барабанных установ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знать, как рождается звук при игре на барабанной установк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обраться в особом языке музыкантов-барабанщик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знать о лучших барабанщиках ми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Содержимое 3" descr="8 бараб.jpeg"/>
          <p:cNvPicPr/>
          <p:nvPr/>
        </p:nvPicPr>
        <p:blipFill>
          <a:blip r:embed="rId1"/>
          <a:stretch/>
        </p:blipFill>
        <p:spPr>
          <a:xfrm>
            <a:off x="1857240" y="1428840"/>
            <a:ext cx="6234120" cy="4668840"/>
          </a:xfrm>
          <a:prstGeom prst="rect">
            <a:avLst/>
          </a:prstGeom>
          <a:ln w="0">
            <a:noFill/>
          </a:ln>
        </p:spPr>
      </p:pic>
      <p:pic>
        <p:nvPicPr>
          <p:cNvPr id="376" name="Заголовок 2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о каждый народ вносил свою лепту в создание современных барабанных установок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3" descr="3 бараб.jpeg"/>
          <p:cNvPicPr/>
          <p:nvPr/>
        </p:nvPicPr>
        <p:blipFill>
          <a:blip r:embed="rId2"/>
          <a:stretch/>
        </p:blipFill>
        <p:spPr>
          <a:xfrm>
            <a:off x="3000240" y="2571840"/>
            <a:ext cx="5367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3" descr="800px-Orquesta_Filarmonica_de_Jalisco.jpg"/>
          <p:cNvPicPr/>
          <p:nvPr/>
        </p:nvPicPr>
        <p:blipFill>
          <a:blip r:embed="rId1"/>
          <a:stretch/>
        </p:blipFill>
        <p:spPr>
          <a:xfrm>
            <a:off x="1643040" y="1500120"/>
            <a:ext cx="6792840" cy="4525920"/>
          </a:xfrm>
          <a:prstGeom prst="rect">
            <a:avLst/>
          </a:prstGeom>
          <a:ln w="0">
            <a:noFill/>
          </a:ln>
        </p:spPr>
      </p:pic>
      <p:pic>
        <p:nvPicPr>
          <p:cNvPr id="381" name="Заголовок 2" descr=""/>
          <p:cNvPicPr/>
          <p:nvPr/>
        </p:nvPicPr>
        <p:blipFill>
          <a:blip r:embed="rId2"/>
          <a:stretch/>
        </p:blipFill>
        <p:spPr>
          <a:xfrm>
            <a:off x="291960" y="268200"/>
            <a:ext cx="8450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Содержимое 5" descr="3 м.jpeg"/>
          <p:cNvPicPr/>
          <p:nvPr/>
        </p:nvPicPr>
        <p:blipFill>
          <a:blip r:embed="rId2"/>
          <a:stretch/>
        </p:blipFill>
        <p:spPr>
          <a:xfrm>
            <a:off x="1000080" y="178596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6" descr="2 м.jpeg"/>
          <p:cNvPicPr/>
          <p:nvPr/>
        </p:nvPicPr>
        <p:blipFill>
          <a:blip r:embed="rId3"/>
          <a:stretch/>
        </p:blipFill>
        <p:spPr>
          <a:xfrm>
            <a:off x="4786200" y="2786040"/>
            <a:ext cx="399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Содержимое 3" descr="14 палочки.jpg"/>
          <p:cNvPicPr/>
          <p:nvPr/>
        </p:nvPicPr>
        <p:blipFill>
          <a:blip r:embed="rId1"/>
          <a:stretch/>
        </p:blipFill>
        <p:spPr>
          <a:xfrm>
            <a:off x="1714680" y="1857240"/>
            <a:ext cx="6232320" cy="3989520"/>
          </a:xfrm>
          <a:prstGeom prst="rect">
            <a:avLst/>
          </a:prstGeom>
          <a:ln w="0">
            <a:noFill/>
          </a:ln>
        </p:spPr>
      </p:pic>
      <p:pic>
        <p:nvPicPr>
          <p:cNvPr id="386" name="Заголовок 2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узыкант-барабанщик - драме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3" descr="13 бараб.jpeg"/>
          <p:cNvPicPr/>
          <p:nvPr/>
        </p:nvPicPr>
        <p:blipFill>
          <a:blip r:embed="rId2"/>
          <a:stretch/>
        </p:blipFill>
        <p:spPr>
          <a:xfrm>
            <a:off x="3143160" y="2214720"/>
            <a:ext cx="5295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Содержимое 3" descr="207a79dea6fb.jpg"/>
          <p:cNvPicPr/>
          <p:nvPr/>
        </p:nvPicPr>
        <p:blipFill>
          <a:blip r:embed="rId1"/>
          <a:stretch/>
        </p:blipFill>
        <p:spPr>
          <a:xfrm>
            <a:off x="2500200" y="1785960"/>
            <a:ext cx="6305760" cy="4525920"/>
          </a:xfrm>
          <a:prstGeom prst="rect">
            <a:avLst/>
          </a:prstGeom>
          <a:ln w="0">
            <a:noFill/>
          </a:ln>
        </p:spPr>
      </p:pic>
      <p:pic>
        <p:nvPicPr>
          <p:cNvPr id="391" name="Заголовок 2" descr=""/>
          <p:cNvPicPr/>
          <p:nvPr/>
        </p:nvPicPr>
        <p:blipFill>
          <a:blip r:embed="rId2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7:56:35Z</dcterms:created>
  <dc:creator>Customer</dc:creator>
  <dc:description/>
  <dc:language>en-US</dc:language>
  <cp:lastModifiedBy>Customer</cp:lastModifiedBy>
  <dcterms:modified xsi:type="dcterms:W3CDTF">2012-02-24T14:36:11Z</dcterms:modified>
  <cp:revision>9</cp:revision>
  <dc:subject/>
  <dc:title>Музыка рожденная ударом</dc:title>
</cp:coreProperties>
</file>