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11.wmf" ContentType="image/x-wmf"/>
  <Override PartName="/ppt/media/image23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6.jpeg" ContentType="image/jpeg"/>
  <Override PartName="/ppt/media/image14.wmf" ContentType="image/x-wmf"/>
  <Override PartName="/ppt/media/image9.wmf" ContentType="image/x-wmf"/>
  <Override PartName="/ppt/media/image2.wmf" ContentType="image/x-wmf"/>
  <Override PartName="/ppt/media/image5.wmf" ContentType="image/x-wmf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ED8-54E6-4DB7-8F2A-E56F8F2D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0CF-DF98-4429-BC3E-F22F85B3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F8F-1A7F-4D06-982E-B8F27123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450-D33B-43A8-AFEC-C38F02DA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29703-0E21-4F1B-A6CC-79D7E3C2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056D5-3F3C-42B2-9F8C-EFED0260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1E47-BA27-43C4-876B-12BCB428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E3C2A-70E0-48EB-961C-BCA9A18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D44CF-BA0E-47DB-982B-D533EBB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45E3D-7DB0-4711-ACC2-FA6AF9F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C4A10-E4BE-4EEA-905A-6063D1C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79F-AFD3-4EBF-B1CF-79F1225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161A6-25B5-4E77-8E53-39DE84C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7E80-B63A-4F77-836E-F19358CA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B447C-EF95-4B74-8DDF-32188188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FAEE5-4448-4CFF-9514-898E156E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D8EBA-E1F3-4F7F-80B3-68CEDB19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E9F-4475-44C8-91EE-7144CD46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80A-6C7A-467B-9DBD-499AAB3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777-295C-4676-9E60-5DF7EB7F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F32-158A-454B-BD42-A7F280CF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A9E-9899-4361-B577-D5118C3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108-1385-48E5-BB65-9A485BF3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6AD-2753-443E-8B26-B6FD485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AAC6-74F7-4011-B1F0-4E74B1FA7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E004-3690-4FB7-93E5-4B9FBC81F5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2421000"/>
            <a:ext cx="8785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Мы - за здоровый образ жизни".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 безбожья до Бога-мгновенье од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 нуля до итога -мгновенье од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ги драгоценное это мгновень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изнь ни мало, ни много - мгновенье одно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260280"/>
            <a:ext cx="864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bb0b24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ь - это самое дорогое,что есть у человека.</a:t>
            </a:r>
            <a:endParaRPr b="0" lang="en-US" sz="3200" spc="1" strike="noStrike">
              <a:ln w="19080">
                <a:solidFill>
                  <a:srgbClr val="bb0b24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64360" y="198900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1692360" cy="1513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148360" y="4292640"/>
            <a:ext cx="1904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549360"/>
            <a:ext cx="230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1" lang="en-US" sz="44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35280" y="1916280"/>
            <a:ext cx="144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95640" y="2852640"/>
            <a:ext cx="58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ый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1280" y="4221000"/>
            <a:ext cx="388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067280" y="5661000"/>
            <a:ext cx="4322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зни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601200">
            <a:off x="6084720" y="475920"/>
            <a:ext cx="2843280" cy="22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19338000">
            <a:off x="8244000" y="691920"/>
            <a:ext cx="409320" cy="352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1194000">
            <a:off x="539640" y="2133720"/>
            <a:ext cx="1068480" cy="64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 rot="20772600">
            <a:off x="5076360" y="5157720"/>
            <a:ext cx="1068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5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59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6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3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6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6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3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7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0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83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7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2920" y="189000"/>
            <a:ext cx="7850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a1f7b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выбор . . .</a:t>
            </a:r>
            <a:endParaRPr b="1" lang="en-US" sz="2800" spc="1" strike="noStrike">
              <a:ln w="9360">
                <a:solidFill>
                  <a:srgbClr val="2a1f7b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5661000"/>
            <a:ext cx="32418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. . .</a:t>
            </a:r>
            <a:endParaRPr b="0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86696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51280" y="206064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16720" y="242100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084720" y="4437000"/>
            <a:ext cx="1932120" cy="136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348000" y="4076640"/>
            <a:ext cx="287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иночество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3429000"/>
            <a:ext cx="298944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исходност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77080" y="364500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стот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867280" y="5734080"/>
            <a:ext cx="2952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избежност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" nodeType="after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1584000" cy="216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567000">
            <a:off x="6423120" y="3571560"/>
            <a:ext cx="1815840" cy="251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 rot="1164600">
            <a:off x="6516720" y="549000"/>
            <a:ext cx="177804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 rot="20281800">
            <a:off x="525240" y="414000"/>
            <a:ext cx="2381040" cy="244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79280" y="256536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бод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516720" y="2565360"/>
            <a:ext cx="2303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юбов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84720" y="5950080"/>
            <a:ext cx="2360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00360" y="328464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астливое детство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 rot="20939400">
            <a:off x="610920" y="3644640"/>
            <a:ext cx="1944720" cy="2592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9640" y="5950080"/>
            <a:ext cx="2664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красно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 rot="315600">
            <a:off x="0" y="0"/>
            <a:ext cx="84596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-это борьба, а в борьбе должен быть победитель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40384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ркот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икот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5580000" y="249228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79280" y="6093000"/>
            <a:ext cx="698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едным привычкам скажем </a:t>
            </a:r>
            <a:endParaRPr b="0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08720" y="5983200"/>
            <a:ext cx="144000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НЕТ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1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1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10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потребление наркотиков ведет к психозу и бессонниц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ди подвергают себя риску заражения ВИ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сходит деградация личности и крушение семь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бой наркотик-это яд, опасный для здоров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864216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коман-не человек,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бо он потерял то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тличает человека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скотины-разум.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84280"/>
            <a:ext cx="5040360" cy="20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4724280"/>
            <a:ext cx="4643280" cy="19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645000"/>
            <a:ext cx="4932360" cy="19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492280"/>
            <a:ext cx="464328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844640"/>
            <a:ext cx="38894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коголь разрушает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ачала души,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потом тела людей.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260280"/>
            <a:ext cx="856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еленый змий - миф или реальность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292720" y="285264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ьяный несчастен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 и приносит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е другому.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640" y="4005360"/>
            <a:ext cx="324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коголь вызывает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ллюцинации и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алы в памяти.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35640" y="5084640"/>
            <a:ext cx="27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ьянство - это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ровольное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асшедсвие.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302000" y="2997360"/>
            <a:ext cx="870120" cy="2303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 rot="1484400">
            <a:off x="4192560" y="3473280"/>
            <a:ext cx="122400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 rot="19212000">
            <a:off x="4167360" y="3472200"/>
            <a:ext cx="1191960" cy="7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11280" y="333360"/>
            <a:ext cx="79200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нздрав  предупреждает . . .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844640"/>
            <a:ext cx="3888000" cy="10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3068640"/>
            <a:ext cx="3816360" cy="1008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4149720"/>
            <a:ext cx="3889440" cy="1008000"/>
          </a:xfrm>
          <a:prstGeom prst="rect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5229360"/>
            <a:ext cx="3959280" cy="1081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59280" y="198900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бак и верзилу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едет в могилу.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0" y="306864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бачный дым полон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х ядов.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40360" y="4149720"/>
            <a:ext cx="36716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кращается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льность жизни.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0000" y="5445000"/>
            <a:ext cx="38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рить - здоровью вредить.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2589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 rot="21312000">
            <a:off x="293760" y="333360"/>
            <a:ext cx="73166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10199"/>
                  </a:solidFill>
                  <a:miter/>
                </a:ln>
                <a:solidFill>
                  <a:srgbClr val="ff33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знь - это . . .</a:t>
            </a:r>
            <a:endParaRPr b="1" lang="en-US" sz="2800" spc="1" strike="noStrike">
              <a:ln w="12600">
                <a:solidFill>
                  <a:srgbClr val="010199"/>
                </a:solidFill>
                <a:miter/>
              </a:ln>
              <a:solidFill>
                <a:srgbClr val="ff33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1844640"/>
            <a:ext cx="51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ь-это горение,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в огне что-то сгорает.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24360" y="5157720"/>
            <a:ext cx="49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ь-это свет,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свет кого-то ослепит.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3068640"/>
            <a:ext cx="896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ь непроста, она не может быть ровной и гладкой.</a:t>
            </a:r>
            <a:endParaRPr b="1" lang="en-US" sz="2400" spc="1" strike="noStrike">
              <a:ln w="12600">
                <a:solidFill>
                  <a:srgbClr val="cc0099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1276200">
            <a:off x="6102360" y="1804680"/>
            <a:ext cx="2062080" cy="1325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9969800">
            <a:off x="1193400" y="4539960"/>
            <a:ext cx="2160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0b24"/>
                                      </p:to>
                                    </p:animClr>
                                    <p:animClr clrSpc="rgb">
                                      <p:cBhvr>
                                        <p:cTn id="4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0b24"/>
                                      </p:to>
                                    </p:animClr>
                                    <p:set>
                                      <p:cBhvr>
                                        <p:cTn id="41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260280"/>
            <a:ext cx="878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cc00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ь. В этом слове немало значений.</a:t>
            </a:r>
            <a:endParaRPr b="1" lang="en-US" sz="2800" spc="1" strike="noStrike">
              <a:ln w="12600">
                <a:solidFill>
                  <a:srgbClr val="cc00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700280"/>
            <a:ext cx="57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ь цветка,которому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пущено на веку одно лето.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95640" y="3500280"/>
            <a:ext cx="49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ь птицы, живущей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и весны.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5229360"/>
            <a:ext cx="4537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ь человека.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жизнь страны.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rot="764400">
            <a:off x="5651280" y="4869000"/>
            <a:ext cx="2374920" cy="160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 rot="871800">
            <a:off x="6012000" y="1591920"/>
            <a:ext cx="2313000" cy="1666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 rot="20835600">
            <a:off x="965160" y="2892240"/>
            <a:ext cx="2016000" cy="180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3:31:19Z</dcterms:created>
  <dc:creator>малкова</dc:creator>
  <dc:description/>
  <dc:language>en-US</dc:language>
  <cp:lastModifiedBy>Admin</cp:lastModifiedBy>
  <dcterms:modified xsi:type="dcterms:W3CDTF">2012-02-24T06:36:02Z</dcterms:modified>
  <cp:revision>16</cp:revision>
  <dc:subject/>
  <dc:title>Слайд 1</dc:title>
</cp:coreProperties>
</file>