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076-4D27-4358-9C35-AB148BC2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698-F54E-42BC-A962-DBF303D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275-1338-4D75-979F-2AC321FC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7B4-7BB4-41CD-B6A1-F55EFBA1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FCF-D35F-40D4-A288-0DF1C549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C8C-2AB1-4195-A32E-670A2BB5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EDC-614A-48C6-9F1F-6E00387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5FA-A71F-4697-BFE0-B8E82E23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63B-7AE6-4426-905E-217FE2C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B62-421A-4FD1-8DE7-172B4B1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B7C-2834-4D7F-883F-427213F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ABF-EA05-48A0-B08C-6528C73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387-672A-477E-8C58-8EFAF7C8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9000"/>
            <a:ext cx="842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Николай Николаевич Носов: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«…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Детским писателем я стал по тому, ч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когда я вырос, мне вообще захотелось 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16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исателем, потому что у меня была инте –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есная жизнь и было о чём порас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076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К тому времени я уже заметил, что люди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многого ещё не понимают, а поскольку дети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онимают ещё меньше, то лучше писать для детей. Дети гораздо серьёзнее взрос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6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и они </a:t>
            </a:r>
            <a:r>
              <a:rPr b="0" i="1" lang="en-US" sz="3200" spc="-1" strike="noStrike">
                <a:solidFill>
                  <a:srgbClr val="333399"/>
                </a:solidFill>
                <a:latin typeface="Georgia"/>
              </a:rPr>
              <a:t>не думают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, что они всё на свете уж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остигли и им ничему не надо учи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15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92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189000"/>
            <a:ext cx="86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Почему я стал юмористом?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68280"/>
            <a:ext cx="9144000" cy="88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Когда я, совсем ещё младенцем, ездил в трам-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вае , то очень любил, сидя на ручках у матери,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смотреть в окно и вести репортаж о том, что я видел. Эти мои репортажи, или 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оммен-</a:t>
            </a:r>
            <a:br>
              <a:rPr sz="30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тарии, почему-то очень смешили пассажиров,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ехавших с нами в трамвае. Когда это у меня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началось, я никак не могу </a:t>
            </a: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припомнить. По-мое-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му, я так и родился, то есть это у меня от природы, как сказал поэт: «Дар природный,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дар случайный…» и моей лично заслуги в этом</a:t>
            </a:r>
            <a:br>
              <a:rPr sz="3100"/>
            </a:b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никакой не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25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22320"/>
            <a:ext cx="6912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3676680" cy="537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9978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56000" y="260280"/>
            <a:ext cx="3066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ча № 63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ельницу доставили 450 мешков ржи, п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кг в каж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07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ельницу доставили 450 мешков ржи, п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кг в каждом. Рожь смололи, причём из 6 к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рна вышло 5 кг м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ельницу доставили 450 мешков ржи, п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кг в каждом. Рожь смололи, причём из 6 к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рна вышло 5 кг муки. Сколько понадобилос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шин для перевозки всей муки, если н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й машине помещалось по 3 тонны м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47640" y="333360"/>
            <a:ext cx="5496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люблю книги Н.Носов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тому что они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1628640"/>
            <a:ext cx="2695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нтересн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43280" y="2421000"/>
            <a:ext cx="26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гадочн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40000" y="3213000"/>
            <a:ext cx="36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знавательн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360" y="3933720"/>
            <a:ext cx="3162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учительн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16360" y="4653000"/>
            <a:ext cx="26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икольн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348000" y="522936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обр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71640" y="6021360"/>
            <a:ext cx="317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мешные и д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flipH="1">
            <a:off x="1979640" y="-387360"/>
            <a:ext cx="5400720" cy="443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9640" y="3860640"/>
            <a:ext cx="83534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3722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исова Галина Николаев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НШ № 4 г.п.Фёдоровски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ргут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4:09:22Z</dcterms:created>
  <dc:creator>Борисовы</dc:creator>
  <dc:description/>
  <dc:language>en-US</dc:language>
  <cp:lastModifiedBy>Галина</cp:lastModifiedBy>
  <dcterms:modified xsi:type="dcterms:W3CDTF">2011-05-01T12:47:41Z</dcterms:modified>
  <cp:revision>11</cp:revision>
  <dc:subject/>
  <dc:title>Слайд 1</dc:title>
</cp:coreProperties>
</file>