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1D67-0EE6-4E09-93EA-D9683D6A6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40132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3520" y="3879360"/>
            <a:ext cx="40132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A3D7-20D7-4DB5-A044-74DC76C0A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73020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55AF-E4A2-4991-A42A-1B2DC664F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030720" y="292752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7387560" y="292752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3520" y="387936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6030720" y="387936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7387560" y="387936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0C57-1EAE-492F-88B3-44D5BBE95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C6D15-C499-4AB6-B52B-B2D7165EC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BA2A3-FEFC-4854-AF88-33E16A155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7C999-E3FF-4618-B773-EA9C88D0B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0B349-F41B-4499-8CA7-DC509F011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6B5B1-A369-4F88-A293-968025D4F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964800" y="1269360"/>
            <a:ext cx="7671600" cy="62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4ABF7-38DC-423D-B28F-3742BCB07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5B14A-2E4F-4E9D-8623-58C817FF6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C238-8674-42A1-8122-99C01BD45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73020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1D36A-A170-4EA7-ABFB-777ED9897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40132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48D7F-FB8D-4B2A-8097-6AA2AC38C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40132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3520" y="3879360"/>
            <a:ext cx="40132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955AA-F610-4A03-80A9-8D4AB44A9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73020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51E58-351B-475B-9134-21E5B8670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030720" y="292752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7387560" y="292752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3520" y="387936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6030720" y="387936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7387560" y="387936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40ED3-E5E4-43A9-B585-8DFD69B52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5D68-1972-4EFE-8DDF-580D55E45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62EE-3873-41EB-8319-61FD04036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6D4D-3524-49A9-9DA1-49A9A526D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64800" y="1269360"/>
            <a:ext cx="7671600" cy="62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CDD3-A6E1-4D91-9059-BBD64902C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98B4-29F3-4F57-A0FC-D5D78B904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73020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3546-451B-4827-8D57-4DA084BA5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40132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EBCB-9D8C-462A-AC4D-685A1380E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F00A5-7855-47AC-8646-25899500E90A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D1942-15A9-4F96-A4A0-97403830A6B5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809800" y="981000"/>
            <a:ext cx="60832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Meiryo UI"/>
              </a:rPr>
              <a:t>Педагогическая концепция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859280" y="3068640"/>
            <a:ext cx="401328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Meiryo UI"/>
              </a:rPr>
              <a:t>Дубининой 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Meiryo UI"/>
              </a:rPr>
              <a:t>Татьяны Алексеевны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187280" y="2060640"/>
            <a:ext cx="206388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403280" y="2492280"/>
            <a:ext cx="7128000" cy="38545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 txBox="1"/>
          <p:nvPr/>
        </p:nvSpPr>
        <p:spPr>
          <a:xfrm>
            <a:off x="12913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Расставаться всегда тяжело…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1611000" y="1221480"/>
            <a:ext cx="7292160" cy="11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Meiryo UI"/>
              </a:rPr>
              <a:t>УСПЕХОВ ВАМ, УВАЖАЕМЫЕ КОЛЛЕГИ!!!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276720" y="2746440"/>
            <a:ext cx="5867280" cy="38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0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«Детство – важнейший период человеческой жизни, не подготовка к будущей жизни, а настоящая, яркая, самобытная, неповторимая жизнь. И от того, как прошло детство, кто вёл ребёнка за руку в детские годы, что вошло в его разум и сердце из окружающего мира – от этого в решающей степени зависит, каким человеком станет сегодняшний малыш».</a:t>
            </a:r>
            <a:br>
              <a:rPr sz="2400"/>
            </a:b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                                                В.А.Сухомлинский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0" name="suchomlinsky" descr=""/>
          <p:cNvPicPr/>
          <p:nvPr/>
        </p:nvPicPr>
        <p:blipFill>
          <a:blip r:embed="rId1"/>
          <a:stretch/>
        </p:blipFill>
        <p:spPr>
          <a:xfrm>
            <a:off x="6443640" y="189000"/>
            <a:ext cx="230508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Дошкольный период – это период активного усвоения ребёнком разговорного языка, становления и развития всех сторон речи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761000" y="2809800"/>
            <a:ext cx="3770280" cy="28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2538360" y="961920"/>
            <a:ext cx="558000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Meiryo UI"/>
              </a:rPr>
              <a:t>Учитель – логопед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0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Артист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Музыкант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Дизайнер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Дипломат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Психолог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6" name="Рисунок 1" descr="Описание: http://dg18.odnoklassniki.ru/getImage?photoId=160959197563&amp;photoType=2"/>
          <p:cNvPicPr/>
          <p:nvPr/>
        </p:nvPicPr>
        <p:blipFill>
          <a:blip r:embed="rId1"/>
          <a:stretch/>
        </p:blipFill>
        <p:spPr>
          <a:xfrm>
            <a:off x="5148360" y="3213000"/>
            <a:ext cx="2808360" cy="23227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3622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3131640" y="837000"/>
            <a:ext cx="575280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Раздвигая рамки общения, ребёнок становится более эмоциональным, любознательным и отзывчивым…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124000" y="2492280"/>
            <a:ext cx="5470560" cy="410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2913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Любовь к детям – главный язык 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в общении с ними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26920" y="2781360"/>
            <a:ext cx="7693200" cy="29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  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Дети помогают нам, взрослым, видеть мир каждый раз по-новому: подмечать детали, не переставать удивляться, а значит, не стареть и чувствовать себя счастливыми!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3643920" y="556200"/>
            <a:ext cx="4879800" cy="11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Элементы технологий проблемного и развивающего обучения  позволяют развивать оригинальность мышления, изобретательность и инициативность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268360" y="2565360"/>
            <a:ext cx="5461200" cy="40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2565360" y="702000"/>
            <a:ext cx="6030360" cy="112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Meiryo UI"/>
              </a:rPr>
              <a:t>Здоровьесберегающие технологи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211640" y="2565360"/>
            <a:ext cx="3313080" cy="24861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900000" y="3789360"/>
            <a:ext cx="3770280" cy="28274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7596360" y="4292640"/>
            <a:ext cx="120636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1548720" y="908640"/>
            <a:ext cx="741672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Meiryo UI"/>
              </a:rPr>
              <a:t>Логоритмика, элементы песочной терапии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076720" y="2421000"/>
            <a:ext cx="3122640" cy="41623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971640" y="2997360"/>
            <a:ext cx="3770280" cy="28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7T16:10:27Z</dcterms:created>
  <dc:creator>user</dc:creator>
  <dc:description/>
  <dc:language>en-US</dc:language>
  <cp:lastModifiedBy>user</cp:lastModifiedBy>
  <dcterms:modified xsi:type="dcterms:W3CDTF">2012-02-21T15:48:39Z</dcterms:modified>
  <cp:revision>40</cp:revision>
  <dc:subject/>
  <dc:title>Педагогическая концепция</dc:title>
</cp:coreProperties>
</file>