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4C70-92FC-423D-BBBE-44A1BE9C5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6CC7-367E-4392-87AC-BD9A4629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A98F-D262-48A1-92A0-8046CA3D5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7C66-7433-444F-B359-E505DE15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01AD-9AE4-4417-A586-DD23D58E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59EA-D8E3-4524-BB90-B96EF68B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8701-3D4C-4541-A7B5-54D5FFED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D54A-16E6-4DDD-AE33-F289B4AC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8F38-A058-45F7-8F4C-5207CCCD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B901-6687-4A0C-89A0-965E3B0E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2B55-C7DC-4BC2-A03E-731FF5EF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2775-1287-4165-8ADC-C0CDCE53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EB50-DEAF-425F-96E1-BBB0D130B2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hoto Album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Жизнь молодого педаго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5" descr="IMG_1767.JPG"/>
          <p:cNvPicPr/>
          <p:nvPr/>
        </p:nvPicPr>
        <p:blipFill>
          <a:blip r:embed="rId1"/>
          <a:stretch/>
        </p:blipFill>
        <p:spPr>
          <a:xfrm>
            <a:off x="4427640" y="1628640"/>
            <a:ext cx="2089080" cy="26640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6" descr="IMG_74191.JPG"/>
          <p:cNvPicPr/>
          <p:nvPr/>
        </p:nvPicPr>
        <p:blipFill>
          <a:blip r:embed="rId2"/>
          <a:stretch/>
        </p:blipFill>
        <p:spPr>
          <a:xfrm>
            <a:off x="1332000" y="3357720"/>
            <a:ext cx="3390840" cy="226188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7" descr="1943 (2).png"/>
          <p:cNvPicPr/>
          <p:nvPr/>
        </p:nvPicPr>
        <p:blipFill>
          <a:blip r:embed="rId3"/>
          <a:stretch/>
        </p:blipFill>
        <p:spPr>
          <a:xfrm>
            <a:off x="1258920" y="1557360"/>
            <a:ext cx="3270240" cy="226224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8" descr="DSCN2971.JPG"/>
          <p:cNvPicPr/>
          <p:nvPr/>
        </p:nvPicPr>
        <p:blipFill>
          <a:blip r:embed="rId4"/>
          <a:stretch/>
        </p:blipFill>
        <p:spPr>
          <a:xfrm>
            <a:off x="4643280" y="3573360"/>
            <a:ext cx="3017880" cy="2260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468360" y="1268280"/>
            <a:ext cx="2590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Что такое школа - это детств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зовое детство за плеч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забыть нам врем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де всегда мы были вмес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ядом с домом и учителями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324000" y="404640"/>
            <a:ext cx="28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«Школьные годы чудесные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3" descr="img061.jpg"/>
          <p:cNvPicPr/>
          <p:nvPr/>
        </p:nvPicPr>
        <p:blipFill>
          <a:blip r:embed="rId1"/>
          <a:stretch/>
        </p:blipFill>
        <p:spPr>
          <a:xfrm>
            <a:off x="6443640" y="1197000"/>
            <a:ext cx="2376360" cy="17445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img062.jpg"/>
          <p:cNvPicPr/>
          <p:nvPr/>
        </p:nvPicPr>
        <p:blipFill>
          <a:blip r:embed="rId2"/>
          <a:stretch/>
        </p:blipFill>
        <p:spPr>
          <a:xfrm>
            <a:off x="3564000" y="5013360"/>
            <a:ext cx="2549520" cy="17287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Изображение 003.jpg"/>
          <p:cNvPicPr/>
          <p:nvPr/>
        </p:nvPicPr>
        <p:blipFill>
          <a:blip r:embed="rId3"/>
          <a:stretch/>
        </p:blipFill>
        <p:spPr>
          <a:xfrm>
            <a:off x="6732720" y="3213000"/>
            <a:ext cx="2265120" cy="3456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6" descr="img060.jpg"/>
          <p:cNvPicPr/>
          <p:nvPr/>
        </p:nvPicPr>
        <p:blipFill>
          <a:blip r:embed="rId4"/>
          <a:stretch/>
        </p:blipFill>
        <p:spPr>
          <a:xfrm>
            <a:off x="3924360" y="1413000"/>
            <a:ext cx="2430360" cy="3456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Глава 1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школа № 19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5" descr="IMG_0064.jpg"/>
          <p:cNvPicPr/>
          <p:nvPr/>
        </p:nvPicPr>
        <p:blipFill>
          <a:blip r:embed="rId1"/>
          <a:stretch/>
        </p:blipFill>
        <p:spPr>
          <a:xfrm>
            <a:off x="5267160" y="2060640"/>
            <a:ext cx="3876840" cy="25844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3" descr="IMG_1767.JPG"/>
          <p:cNvPicPr/>
          <p:nvPr/>
        </p:nvPicPr>
        <p:blipFill>
          <a:blip r:embed="rId2"/>
          <a:stretch/>
        </p:blipFill>
        <p:spPr>
          <a:xfrm>
            <a:off x="3203640" y="1989000"/>
            <a:ext cx="1884240" cy="2735280"/>
          </a:xfrm>
          <a:prstGeom prst="rect">
            <a:avLst/>
          </a:prstGeom>
          <a:ln w="0">
            <a:noFill/>
          </a:ln>
        </p:spPr>
      </p:pic>
      <p:pic>
        <p:nvPicPr>
          <p:cNvPr id="55" name="Содержимое 9" descr="m_63c0bfa038.jpg"/>
          <p:cNvPicPr/>
          <p:nvPr/>
        </p:nvPicPr>
        <p:blipFill>
          <a:blip r:embed="rId3"/>
          <a:stretch/>
        </p:blipFill>
        <p:spPr>
          <a:xfrm>
            <a:off x="4140360" y="476280"/>
            <a:ext cx="1871640" cy="14032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7" descr="Сессия.jpg"/>
          <p:cNvPicPr/>
          <p:nvPr/>
        </p:nvPicPr>
        <p:blipFill>
          <a:blip r:embed="rId4"/>
          <a:stretch/>
        </p:blipFill>
        <p:spPr>
          <a:xfrm>
            <a:off x="6443640" y="189000"/>
            <a:ext cx="2471760" cy="1854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8" descr="DSC02389.JPG"/>
          <p:cNvPicPr/>
          <p:nvPr/>
        </p:nvPicPr>
        <p:blipFill>
          <a:blip r:embed="rId5"/>
          <a:stretch/>
        </p:blipFill>
        <p:spPr>
          <a:xfrm>
            <a:off x="4356000" y="4986360"/>
            <a:ext cx="3264120" cy="187164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9"/>
          <p:cNvSpPr/>
          <p:nvPr/>
        </p:nvSpPr>
        <p:spPr>
          <a:xfrm>
            <a:off x="0" y="1779480"/>
            <a:ext cx="3149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…Институт подпишет последний приказ:</a:t>
            </a:r>
            <a:br>
              <a:rPr sz="1800"/>
            </a:b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ли Забайкалья, Сахалин иль Кавказ.</a:t>
            </a:r>
            <a:br>
              <a:rPr sz="1800"/>
            </a:b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мае или в марте </a:t>
            </a:r>
            <a:br>
              <a:rPr sz="1800"/>
            </a:b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зглянешь ты на карту,</a:t>
            </a:r>
            <a:br>
              <a:rPr sz="1800"/>
            </a:b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помнишь ты друзей, а значит, нас.</a:t>
            </a:r>
            <a:br>
              <a:rPr sz="1800"/>
            </a:b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 пока не кончен студенческий год,</a:t>
            </a:r>
            <a:br>
              <a:rPr sz="1800"/>
            </a:b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дет нас не один еще серьезный зачет.</a:t>
            </a:r>
            <a:br>
              <a:rPr sz="1800"/>
            </a:b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песней кончил день ты, - </a:t>
            </a:r>
            <a:br>
              <a:rPr sz="1800"/>
            </a:b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к поют студенты, -</a:t>
            </a:r>
            <a:br>
              <a:rPr sz="1800"/>
            </a:b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значит, молодость поет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(ГИМН МГП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7"/>
          <p:cNvSpPr/>
          <p:nvPr/>
        </p:nvSpPr>
        <p:spPr>
          <a:xfrm>
            <a:off x="0" y="333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 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Глава 2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    МПГ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6" descr="IMG_7120.JPG"/>
          <p:cNvPicPr/>
          <p:nvPr/>
        </p:nvPicPr>
        <p:blipFill>
          <a:blip r:embed="rId1"/>
          <a:stretch/>
        </p:blipFill>
        <p:spPr>
          <a:xfrm>
            <a:off x="3564000" y="4221000"/>
            <a:ext cx="3251160" cy="243864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8"/>
          <p:cNvSpPr/>
          <p:nvPr/>
        </p:nvSpPr>
        <p:spPr>
          <a:xfrm>
            <a:off x="468360" y="1484280"/>
            <a:ext cx="2143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дорово оказаться в своей школе, но уже в другом статусе! Серьезные учителя стали моими дорогими коллегами! И все мероприятия, в которых я участвовала еще школьницей, теперь организуются с моим участием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3" descr="IMG_2150.JPG"/>
          <p:cNvPicPr/>
          <p:nvPr/>
        </p:nvPicPr>
        <p:blipFill>
          <a:blip r:embed="rId2"/>
          <a:stretch/>
        </p:blipFill>
        <p:spPr>
          <a:xfrm>
            <a:off x="3203640" y="1413000"/>
            <a:ext cx="3324240" cy="24937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5" descr="IMG_74191.JPG"/>
          <p:cNvPicPr/>
          <p:nvPr/>
        </p:nvPicPr>
        <p:blipFill>
          <a:blip r:embed="rId3"/>
          <a:stretch/>
        </p:blipFill>
        <p:spPr>
          <a:xfrm>
            <a:off x="5940360" y="2492280"/>
            <a:ext cx="3092400" cy="20638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5"/>
          <p:cNvSpPr/>
          <p:nvPr/>
        </p:nvSpPr>
        <p:spPr>
          <a:xfrm>
            <a:off x="468360" y="11592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Глава 3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     И снова в школ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одержимое 6" descr="фотик 329.jpg"/>
          <p:cNvPicPr/>
          <p:nvPr/>
        </p:nvPicPr>
        <p:blipFill>
          <a:blip r:embed="rId1"/>
          <a:stretch/>
        </p:blipFill>
        <p:spPr>
          <a:xfrm>
            <a:off x="3276720" y="1844640"/>
            <a:ext cx="2817720" cy="21128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5" descr="фотик 794.jpg"/>
          <p:cNvPicPr/>
          <p:nvPr/>
        </p:nvPicPr>
        <p:blipFill>
          <a:blip r:embed="rId2"/>
          <a:stretch/>
        </p:blipFill>
        <p:spPr>
          <a:xfrm>
            <a:off x="6299280" y="1844640"/>
            <a:ext cx="2844720" cy="21319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фотик 987.jpg"/>
          <p:cNvPicPr/>
          <p:nvPr/>
        </p:nvPicPr>
        <p:blipFill>
          <a:blip r:embed="rId3"/>
          <a:stretch/>
        </p:blipFill>
        <p:spPr>
          <a:xfrm>
            <a:off x="4716360" y="4365720"/>
            <a:ext cx="3132360" cy="23493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7"/>
          <p:cNvSpPr/>
          <p:nvPr/>
        </p:nvSpPr>
        <p:spPr>
          <a:xfrm>
            <a:off x="324000" y="620640"/>
            <a:ext cx="2862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просто обожаю путешествовать! Лично для меня это самый лучший способ расслабиться и отдохнуть от насыщенного трудового года. Путешествия – это новые впечатления, встреча с новыми людьми, погружение в их культуру, посещение необыкновенного прелестных мест! И конечно как для преподавателя иностранного языка -  это замечательная возможность по практиковать свои знания истории, культуры и разговорного языка!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6"/>
          <p:cNvSpPr/>
          <p:nvPr/>
        </p:nvSpPr>
        <p:spPr>
          <a:xfrm>
            <a:off x="4067280" y="404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                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Глава 4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               Всем нужно отдых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23:39:30Z</dcterms:created>
  <dc:creator>OOO</dc:creator>
  <dc:description/>
  <dc:language>en-US</dc:language>
  <cp:lastModifiedBy>Сева</cp:lastModifiedBy>
  <dcterms:modified xsi:type="dcterms:W3CDTF">2012-02-24T15:05:28Z</dcterms:modified>
  <cp:revision>33</cp:revision>
  <dc:subject/>
  <dc:title>Слайд 1</dc:title>
</cp:coreProperties>
</file>