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47.png" ContentType="image/png"/>
  <Override PartName="/ppt/media/image54.gif" ContentType="image/gif"/>
  <Override PartName="/ppt/media/image2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33.png" ContentType="image/png"/>
  <Override PartName="/ppt/media/image36.png" ContentType="image/png"/>
  <Override PartName="/ppt/media/image42.png" ContentType="image/pn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46.png" ContentType="image/png"/>
  <Override PartName="/ppt/media/image49.jpeg" ContentType="image/jpeg"/>
  <Override PartName="/ppt/media/image51.png" ContentType="image/png"/>
  <Override PartName="/ppt/media/image53.png" ContentType="image/png"/>
  <Override PartName="/ppt/media/image3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55.gif" ContentType="image/gif"/>
  <Override PartName="/ppt/media/image48.png" ContentType="image/png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E159-86F9-4703-8BB1-D3E092C3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C700-3F9F-46D6-AF4B-61A207C1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8C04-57A8-49B6-B19C-8A0A34B5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E31E-DA0D-4D98-9680-15F7989F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2539-1212-41BD-8814-F90F8E15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BBF2-0202-450B-AABE-3DD61FEB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A3D3-379E-45E5-87DA-CDBB0311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70A8-29C3-4E33-98D2-323CD329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2E1A-97EB-4BE8-83AE-2B1EF4A9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C29C-ADB8-4764-AA4A-EF9424F9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19BB-E7B4-4C2E-A515-8A7648A5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268BA-2C0C-4FDB-A593-828EECF5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066F-F6EB-4ED0-97D2-E765715A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DF4C-AA74-4F7F-843B-C540C139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4856-221A-4AD7-8054-DF3DA2B5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167F-1A49-4E00-91B8-644F7C7C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45B7-7237-4969-A53C-CB917B4B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88E3-DDEE-4E2E-9AEE-62A52A04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CE64-0113-4B1D-8A53-694B5C60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96D4-BBFA-426A-A51B-58C79C4C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C4CB-0A52-4118-B920-E6E058C0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251C-28C5-4AD8-AC30-518D83C8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B922-192B-49F6-81F3-CE3AA739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FA1F-F4B8-4696-986F-D0BC532E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127F-CD6D-4EBF-B81A-64E469D7A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8FDC-B199-4FCF-A309-27F130CF78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hyperlink" Target="http://idrakosha.narod.ru/sovety/50-e.jpg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image" Target="../media/image16.jpeg"/><Relationship Id="rId5" Type="http://schemas.openxmlformats.org/officeDocument/2006/relationships/image" Target="../media/image28.jpeg"/><Relationship Id="rId6" Type="http://schemas.openxmlformats.org/officeDocument/2006/relationships/image" Target="../media/image30.png"/><Relationship Id="rId7" Type="http://schemas.openxmlformats.org/officeDocument/2006/relationships/image" Target="../media/image33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onolittex.ru/ms/odezha/forma/form9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zdr-gazeta.ru/uploads/posts/2008-06/1212995385_02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hyperlink" Target="http://www.gostpro.ru/i/images/16_17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260280"/>
            <a:ext cx="601992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5 класс.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Модуль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.Данилов, МОУ СОШ №1, учитель технологии высшей категории Иванова Н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733480" cy="465804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sp>
        <p:nvSpPr>
          <p:cNvPr id="109" name=""/>
          <p:cNvSpPr txBox="1"/>
          <p:nvPr/>
        </p:nvSpPr>
        <p:spPr>
          <a:xfrm>
            <a:off x="3276720" y="1700280"/>
            <a:ext cx="5616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струиров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иров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067280" y="4365720"/>
            <a:ext cx="410508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вей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л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360" y="404640"/>
            <a:ext cx="7920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ортивная одежд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2774880" cy="4104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rcRect l="11842" t="0" r="11842" b="12843"/>
          <a:stretch/>
        </p:blipFill>
        <p:spPr>
          <a:xfrm>
            <a:off x="3564000" y="1587600"/>
            <a:ext cx="2649600" cy="4217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647040" y="1916280"/>
            <a:ext cx="19508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1628640"/>
            <a:ext cx="8893080" cy="13737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Широко распространенная и почти не изменяющаяся часть одежды с древнейших времен до наших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1840" y="3141720"/>
            <a:ext cx="2779560" cy="3456000"/>
          </a:xfrm>
          <a:prstGeom prst="rect">
            <a:avLst/>
          </a:prstGeom>
          <a:ln w="38160">
            <a:solidFill>
              <a:srgbClr val="cccce6"/>
            </a:solidFill>
            <a:miter/>
          </a:ln>
          <a:effectLst>
            <a:outerShdw dist="107932" dir="8100000" blurRad="0" rotWithShape="0">
              <a:srgbClr val="00007d">
                <a:alpha val="50000"/>
              </a:srgbClr>
            </a:outerShdw>
          </a:effectLst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755800" y="3429000"/>
            <a:ext cx="1816200" cy="302436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716360" y="2997360"/>
            <a:ext cx="1900440" cy="364464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pic>
        <p:nvPicPr>
          <p:cNvPr id="161" name="" descr="Картинка 6 из 1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2997360"/>
            <a:ext cx="2459160" cy="3600360"/>
          </a:xfrm>
          <a:prstGeom prst="rect">
            <a:avLst/>
          </a:prstGeom>
          <a:ln w="38160">
            <a:solidFill>
              <a:srgbClr val="cccce6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Схема 1" descr=""/>
          <p:cNvPicPr/>
          <p:nvPr/>
        </p:nvPicPr>
        <p:blipFill>
          <a:blip r:embed="rId1"/>
          <a:srcRect l="0" t="-21846" r="0" b="-12165"/>
          <a:stretch/>
        </p:blipFill>
        <p:spPr>
          <a:xfrm>
            <a:off x="324000" y="692280"/>
            <a:ext cx="8496000" cy="6410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50920" y="260280"/>
            <a:ext cx="8569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фартуков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ик, или занавеска, деталь народного костюма, закрывающая женскую фигуру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ая декоративная и богато украшенная часть женского костю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ик обычно делали из хол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рашали вышивкой, тканым узором, цветными отделочными вставками, шелковыми узорными лен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й передника оформляли зубцами, белым или цветным кружевом, бахромой из шелковых или шерстяных ниток, оборкой разной ши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Русский народный крестьянский костюм"/>
          <p:cNvPicPr/>
          <p:nvPr/>
        </p:nvPicPr>
        <p:blipFill>
          <a:blip r:embed="rId1"/>
          <a:stretch/>
        </p:blipFill>
        <p:spPr>
          <a:xfrm>
            <a:off x="2379600" y="1530360"/>
            <a:ext cx="4003560" cy="492300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680160" y="2492280"/>
            <a:ext cx="2233800" cy="417672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pic>
        <p:nvPicPr>
          <p:cNvPr id="167" name="" descr="Картинка 1 из 14"/>
          <p:cNvPicPr/>
          <p:nvPr/>
        </p:nvPicPr>
        <p:blipFill>
          <a:blip r:embed="rId3"/>
          <a:stretch/>
        </p:blipFill>
        <p:spPr>
          <a:xfrm>
            <a:off x="3059280" y="1413000"/>
            <a:ext cx="3309840" cy="381636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Фартук как элемент </a:t>
            </a:r>
            <a:br>
              <a:rPr sz="4400"/>
            </a:b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рабочей оде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5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3598560" cy="37893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6" descr="D:\Документы\технология\мои картинки\Изображение 010.jpg"/>
          <p:cNvPicPr/>
          <p:nvPr/>
        </p:nvPicPr>
        <p:blipFill>
          <a:blip r:embed="rId2"/>
          <a:stretch/>
        </p:blipFill>
        <p:spPr>
          <a:xfrm>
            <a:off x="5724360" y="2033640"/>
            <a:ext cx="3419640" cy="33303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D:\Документы\технология\мои картинки\Изображение 008.jpg"/>
          <p:cNvPicPr/>
          <p:nvPr/>
        </p:nvPicPr>
        <p:blipFill>
          <a:blip r:embed="rId3"/>
          <a:stretch/>
        </p:blipFill>
        <p:spPr>
          <a:xfrm>
            <a:off x="324000" y="1916280"/>
            <a:ext cx="374328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артук как элемент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украшения одежды </a:t>
            </a:r>
            <a:br>
              <a:rPr sz="4000"/>
            </a:br>
            <a:r>
              <a:rPr b="0" i="1" lang="en-US" sz="4000" spc="-1" strike="noStrike">
                <a:solidFill>
                  <a:srgbClr val="00007d"/>
                </a:solidFill>
                <a:latin typeface="Arial"/>
              </a:rPr>
              <a:t>при сервировке стола обслуживании г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7" descr=""/>
          <p:cNvPicPr/>
          <p:nvPr/>
        </p:nvPicPr>
        <p:blipFill>
          <a:blip r:embed="rId1"/>
          <a:stretch/>
        </p:blipFill>
        <p:spPr>
          <a:xfrm>
            <a:off x="5508720" y="1916280"/>
            <a:ext cx="3576600" cy="46814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1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3252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1581120" cy="2952720"/>
          </a:xfrm>
          <a:prstGeom prst="rect">
            <a:avLst/>
          </a:prstGeom>
          <a:ln w="38160">
            <a:solidFill>
              <a:srgbClr val="cccce6"/>
            </a:solidFill>
            <a:miter/>
          </a:ln>
          <a:effectLst>
            <a:outerShdw dist="107932" dir="13500000" blurRad="0" rotWithShape="0">
              <a:srgbClr val="00007d">
                <a:alpha val="50000"/>
              </a:srgbClr>
            </a:outerShdw>
          </a:effectLst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1584360" cy="298152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1833840" cy="295128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659640" y="2565360"/>
            <a:ext cx="2232000" cy="1868400"/>
          </a:xfrm>
          <a:prstGeom prst="rect">
            <a:avLst/>
          </a:prstGeom>
          <a:ln w="38160">
            <a:solidFill>
              <a:srgbClr val="cccce6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  <p:sp>
        <p:nvSpPr>
          <p:cNvPr id="179" name=""/>
          <p:cNvSpPr/>
          <p:nvPr/>
        </p:nvSpPr>
        <p:spPr>
          <a:xfrm>
            <a:off x="250920" y="5084640"/>
            <a:ext cx="2232000" cy="119124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81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резной фартук с нагруд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5157720"/>
            <a:ext cx="2736720" cy="82548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нокроеные фарт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88000" y="5013360"/>
            <a:ext cx="2266920" cy="82548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ртук без нагру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Модели фарт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12" descr=""/>
          <p:cNvPicPr/>
          <p:nvPr/>
        </p:nvPicPr>
        <p:blipFill>
          <a:blip r:embed="rId1"/>
          <a:stretch/>
        </p:blipFill>
        <p:spPr>
          <a:xfrm>
            <a:off x="68400" y="907920"/>
            <a:ext cx="2774880" cy="54738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3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926080" cy="54007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4" descr=""/>
          <p:cNvPicPr/>
          <p:nvPr/>
        </p:nvPicPr>
        <p:blipFill>
          <a:blip r:embed="rId3"/>
          <a:stretch/>
        </p:blipFill>
        <p:spPr>
          <a:xfrm>
            <a:off x="3348000" y="1413000"/>
            <a:ext cx="256716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Модели фарт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5" descr=""/>
          <p:cNvPicPr/>
          <p:nvPr/>
        </p:nvPicPr>
        <p:blipFill>
          <a:blip r:embed="rId1"/>
          <a:stretch/>
        </p:blipFill>
        <p:spPr>
          <a:xfrm>
            <a:off x="5435640" y="404640"/>
            <a:ext cx="3051000" cy="64533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6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26226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095720" cy="5867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267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4872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одуля</a:t>
            </a:r>
            <a:br>
              <a:rPr sz="3200"/>
            </a:b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«Конструирование и моделирование одежды», 5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7993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знакомить с разновидностями   одеж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учить конструировать фарт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00000" y="4149720"/>
            <a:ext cx="208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d"/>
                </a:solidFill>
                <a:latin typeface="Impact"/>
              </a:rPr>
              <a:t>1-2 уро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7d"/>
              </a:solidFill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708360" y="4797360"/>
            <a:ext cx="18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Impact"/>
              </a:rPr>
              <a:t>3-4 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516720" y="436572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5-6 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швейных издели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остроени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ертежа издел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изготовлени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крой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скроя тка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шива оде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выполнить чертеж издел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ужно зна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ер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для одежды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ме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для предметов бы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547640" y="260280"/>
            <a:ext cx="65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струирование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3" descr=""/>
          <p:cNvPicPr/>
          <p:nvPr/>
        </p:nvPicPr>
        <p:blipFill>
          <a:blip r:embed="rId1"/>
          <a:srcRect l="0" t="0" r="8224" b="0"/>
          <a:stretch/>
        </p:blipFill>
        <p:spPr>
          <a:xfrm>
            <a:off x="0" y="1341360"/>
            <a:ext cx="2411280" cy="5112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10920" y="1413000"/>
            <a:ext cx="2374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ния ш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ния гру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ния т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ния бед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ния ко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rcRect l="30734" t="8401" r="6249" b="8982"/>
          <a:stretch/>
        </p:blipFill>
        <p:spPr>
          <a:xfrm>
            <a:off x="4788000" y="1700280"/>
            <a:ext cx="4214880" cy="424980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sp>
        <p:nvSpPr>
          <p:cNvPr id="200" name=""/>
          <p:cNvSpPr txBox="1"/>
          <p:nvPr/>
        </p:nvSpPr>
        <p:spPr>
          <a:xfrm>
            <a:off x="1187280" y="260280"/>
            <a:ext cx="720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ловные линии: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340000" y="1628280"/>
            <a:ext cx="680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теж строится тольк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 половину фигуры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 как вторая половина такая ж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рки обхва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исывают в половинном размере и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полуобхват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словно обозначают букво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С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оловина от буквы «О»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рки дл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исывают полностью и обозначают букво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15141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обрел в 1810 году французский порт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готавливается лента из полотна или кле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а – 150 см, ширина – 1,5-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ах ленты имеются металлические заклепки, предохраняющие ее от износа.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избежать неточности при измерении, нужно пользоваться од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той же сантиметр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н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Картинка 40 из 189"/>
          <p:cNvPicPr/>
          <p:nvPr/>
        </p:nvPicPr>
        <p:blipFill>
          <a:blip r:embed="rId1"/>
          <a:stretch/>
        </p:blipFill>
        <p:spPr>
          <a:xfrm>
            <a:off x="5580000" y="4505400"/>
            <a:ext cx="3564000" cy="235260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рки снимают по правой стороне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ачала снимают мерки обхватов, затем мерки д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ять надо прямо без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ежда должна быть лег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лию предварительно опоясать  шнур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измерении сантиметровую ленту не                                натягивать и не ослабл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рки длины записывают полностью,                                       мерки ширины и обхватов в половин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мере, так как чертеж строят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ину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Картинка 143 из 189"/>
          <p:cNvPicPr/>
          <p:nvPr/>
        </p:nvPicPr>
        <p:blipFill>
          <a:blip r:embed="rId1"/>
          <a:stretch/>
        </p:blipFill>
        <p:spPr>
          <a:xfrm>
            <a:off x="6715080" y="2924280"/>
            <a:ext cx="2428920" cy="33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для построения чертежа фарт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5280" y="476280"/>
            <a:ext cx="48261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рки,  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1514520" cy="4762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8360" y="342900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обхват талии  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400536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Сб</a:t>
            </a: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луобхват бе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8000" y="4724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ина нижней части  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Дн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1280" y="3645000"/>
            <a:ext cx="576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708000" y="4149720"/>
            <a:ext cx="792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11640" y="3645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ятие мерок для построения чертежа фарту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сь мерок в тетр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00000" y="333360"/>
            <a:ext cx="777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ктическая работ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одразделяется одежда по своему  назначе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акие 3 класса делится фарту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мерки надо знать, чтобы построить чертеж фартука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акому месту фигуры проходит                                                            пояс и  что надо обмерить для                                                          определения его  дл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2254320" cy="3456000"/>
          </a:xfrm>
          <a:prstGeom prst="rect">
            <a:avLst/>
          </a:prstGeom>
          <a:ln w="38160">
            <a:solidFill>
              <a:srgbClr val="9999ff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77080" y="3284640"/>
            <a:ext cx="2106720" cy="324000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3"/>
          <a:srcRect l="11842" t="0" r="11842" b="12843"/>
          <a:stretch/>
        </p:blipFill>
        <p:spPr>
          <a:xfrm>
            <a:off x="4879800" y="2997360"/>
            <a:ext cx="2197440" cy="3497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4" descr="povar_big.jpg"/>
          <p:cNvPicPr/>
          <p:nvPr/>
        </p:nvPicPr>
        <p:blipFill>
          <a:blip r:embed="rId4"/>
          <a:srcRect l="2996" t="0" r="0" b="0"/>
          <a:stretch/>
        </p:blipFill>
        <p:spPr>
          <a:xfrm>
            <a:off x="3348000" y="549360"/>
            <a:ext cx="2309760" cy="3673440"/>
          </a:xfrm>
          <a:prstGeom prst="rect">
            <a:avLst/>
          </a:prstGeom>
          <a:ln w="38160">
            <a:solidFill>
              <a:srgbClr val="cccce6"/>
            </a:solidFill>
            <a:miter/>
          </a:ln>
          <a:effectLst>
            <a:outerShdw dist="107932" dir="8100000" blurRad="0" rotWithShape="0">
              <a:srgbClr val="00007d">
                <a:alpha val="50000"/>
              </a:srgbClr>
            </a:outerShdw>
          </a:effectLst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6659640" y="333360"/>
            <a:ext cx="2425680" cy="453564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pic>
        <p:nvPicPr>
          <p:cNvPr id="225" name="Рисунок 5" descr=""/>
          <p:cNvPicPr/>
          <p:nvPr/>
        </p:nvPicPr>
        <p:blipFill>
          <a:blip r:embed="rId6"/>
          <a:stretch/>
        </p:blipFill>
        <p:spPr>
          <a:xfrm>
            <a:off x="3276720" y="2708280"/>
            <a:ext cx="3598920" cy="378936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7" descr=""/>
          <p:cNvPicPr/>
          <p:nvPr/>
        </p:nvPicPr>
        <p:blipFill>
          <a:blip r:embed="rId7"/>
          <a:stretch/>
        </p:blipFill>
        <p:spPr>
          <a:xfrm>
            <a:off x="0" y="260280"/>
            <a:ext cx="3576600" cy="4681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6659640" y="765000"/>
            <a:ext cx="1514520" cy="4762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164360" y="2637000"/>
            <a:ext cx="576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020000" y="314172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24720" y="2637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04000" y="1844640"/>
            <a:ext cx="1766880" cy="4543560"/>
          </a:xfrm>
          <a:prstGeom prst="rect">
            <a:avLst/>
          </a:prstGeom>
          <a:ln w="38160">
            <a:solidFill>
              <a:srgbClr val="cccce6"/>
            </a:solidFill>
            <a:miter/>
          </a:ln>
          <a:effectLst>
            <a:outerShdw dist="107932" dir="8100000" blurRad="0" rotWithShape="0">
              <a:srgbClr val="00007d">
                <a:alpha val="50000"/>
              </a:srgbClr>
            </a:outerShdw>
          </a:effectLst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932360" y="2492280"/>
            <a:ext cx="1484280" cy="259236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979640" y="2565360"/>
            <a:ext cx="1357200" cy="252108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sp>
        <p:nvSpPr>
          <p:cNvPr id="234" name=""/>
          <p:cNvSpPr/>
          <p:nvPr/>
        </p:nvSpPr>
        <p:spPr>
          <a:xfrm flipH="1">
            <a:off x="1908000" y="3645000"/>
            <a:ext cx="612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5373720"/>
            <a:ext cx="5832360" cy="147240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81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падают ли условные линии на фигуре человека с линиями на готовом фартуке?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выкройке?</a:t>
            </a:r>
            <a:r>
              <a:rPr b="0" lang="en-US" sz="2000" spc="-1" strike="noStrike">
                <a:solidFill>
                  <a:srgbClr val="cccce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1280" y="2060280"/>
            <a:ext cx="3394080" cy="63828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3500000" blurRad="0" rotWithShape="0">
              <a:srgbClr val="00007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о интересн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3303000"/>
            <a:ext cx="318636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4311000"/>
            <a:ext cx="290016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я могу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2151720"/>
            <a:ext cx="331308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научилась…</a:t>
            </a:r>
            <a:r>
              <a:rPr b="0" lang="en-US" sz="2000" spc="-1" strike="noStrike">
                <a:solidFill>
                  <a:srgbClr val="cccce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3243960"/>
            <a:ext cx="331344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1755720" cy="1887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Большие смайлики"/>
          <p:cNvPicPr/>
          <p:nvPr/>
        </p:nvPicPr>
        <p:blipFill>
          <a:blip r:embed="rId2"/>
          <a:stretch/>
        </p:blipFill>
        <p:spPr>
          <a:xfrm>
            <a:off x="6877080" y="4797360"/>
            <a:ext cx="1441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95640" y="4266720"/>
            <a:ext cx="679608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7d"/>
                </a:solidFill>
                <a:latin typeface="Arial"/>
              </a:rPr>
              <a:t>Классификация фартуков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3400" spc="-1" strike="noStrike">
                <a:solidFill>
                  <a:srgbClr val="9999ff"/>
                </a:solidFill>
                <a:latin typeface="Arial"/>
              </a:rPr>
              <a:t>Мерки для построения чертежа фартука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2489040"/>
            <a:ext cx="1295280" cy="436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5400" cy="335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00720" y="476280"/>
            <a:ext cx="2008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1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: Учебник для учащихся 5 класса общеобразовательных учреждений (вариант для девочек)/Под ред.В.Д.Симоненко. – 2-еизд., перераб. – М.: Вентана-Граф.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ezhva-licey.ru/teachers/nmr/metodich_razrabotki/itogi_urok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amnesia.pavelbers.com/the%20mod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detki-74.ru/magazine/magazine_glav_2005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eep4u.ru/imgs/s/070806/2787b1f50771262c96.jpg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комиться с классификацией  одежды по назначени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комить с классификацией фартука, его ви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комить со значением фартука в русском народном костю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комить с понятием «конструирование швейных издели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комить с условными линиями на фигу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ить правильно снимать мерки для построения фарту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епить полученные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137160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Чем является одежда для человека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Какую функцию она нес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3645000"/>
            <a:ext cx="7236000" cy="29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дели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(или несколько изделий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еваемое человеком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и несуще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тилитарные  или эстетические                функции</a:t>
            </a:r>
            <a:r>
              <a:rPr b="1" i="1" lang="en-US" sz="2800" spc="-1" strike="noStrike">
                <a:solidFill>
                  <a:srgbClr val="cccce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139160" y="2276640"/>
            <a:ext cx="20048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989000"/>
            <a:ext cx="2243160" cy="72720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3500000" blurRad="0" rotWithShape="0">
              <a:srgbClr val="00007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т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2637000"/>
            <a:ext cx="259236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р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3068640"/>
            <a:ext cx="251964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0" y="2133720"/>
            <a:ext cx="360072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извод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5" descr="kirasa_bop.jpg"/>
          <p:cNvPicPr/>
          <p:nvPr/>
        </p:nvPicPr>
        <p:blipFill>
          <a:blip r:embed="rId1"/>
          <a:stretch/>
        </p:blipFill>
        <p:spPr>
          <a:xfrm>
            <a:off x="6877080" y="3789360"/>
            <a:ext cx="1946160" cy="2793960"/>
          </a:xfrm>
          <a:prstGeom prst="rect">
            <a:avLst/>
          </a:prstGeom>
          <a:ln w="38160">
            <a:solidFill>
              <a:srgbClr val="cccce6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</p:pic>
      <p:pic>
        <p:nvPicPr>
          <p:cNvPr id="130" name="" descr="Картинка 2 из 1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4076640"/>
            <a:ext cx="2058840" cy="248148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pic>
        <p:nvPicPr>
          <p:cNvPr id="131" name="Рисунок 5" descr="1969.jpg"/>
          <p:cNvPicPr/>
          <p:nvPr/>
        </p:nvPicPr>
        <p:blipFill>
          <a:blip r:embed="rId4"/>
          <a:stretch/>
        </p:blipFill>
        <p:spPr>
          <a:xfrm>
            <a:off x="2195640" y="4005360"/>
            <a:ext cx="1998360" cy="256212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50920" y="3429000"/>
            <a:ext cx="1655640" cy="3168720"/>
          </a:xfrm>
          <a:prstGeom prst="rect">
            <a:avLst/>
          </a:prstGeom>
          <a:ln w="38160">
            <a:solidFill>
              <a:srgbClr val="cccce6"/>
            </a:solidFill>
            <a:miter/>
          </a:ln>
          <a:effectLst>
            <a:outerShdw dist="107932" dir="8100000" blurRad="0" rotWithShape="0">
              <a:srgbClr val="00007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2663640" cy="71892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3500000" blurRad="0" rotWithShape="0">
              <a:srgbClr val="00007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омаш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2349360"/>
            <a:ext cx="3456000" cy="58140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35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вседне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1844640"/>
            <a:ext cx="2592360" cy="58140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35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ря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2160360" cy="3313080"/>
          </a:xfrm>
          <a:prstGeom prst="rect">
            <a:avLst/>
          </a:prstGeom>
          <a:ln w="38160">
            <a:solidFill>
              <a:srgbClr val="cccce6"/>
            </a:solidFill>
            <a:miter/>
          </a:ln>
          <a:effectLst>
            <a:outerShdw dist="107932" dir="8100000" blurRad="0" rotWithShape="0">
              <a:srgbClr val="00007d">
                <a:alpha val="50000"/>
              </a:srgbClr>
            </a:outerShdw>
          </a:effectLst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253960" cy="3456000"/>
          </a:xfrm>
          <a:prstGeom prst="rect">
            <a:avLst/>
          </a:prstGeom>
          <a:ln w="38160">
            <a:solidFill>
              <a:srgbClr val="9999ff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516720" y="2852640"/>
            <a:ext cx="2074680" cy="3745080"/>
          </a:xfrm>
          <a:prstGeom prst="rect">
            <a:avLst/>
          </a:prstGeom>
          <a:ln w="3816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4186080" cy="58428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3500000" blurRad="0" rotWithShape="0">
              <a:srgbClr val="00007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елезнодоро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2708280"/>
            <a:ext cx="273528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35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ет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0360" y="2637000"/>
            <a:ext cx="230364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35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о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1916280"/>
            <a:ext cx="273708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35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ил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Картинка 3 из 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1936800" cy="3457440"/>
          </a:xfrm>
          <a:prstGeom prst="rect">
            <a:avLst/>
          </a:prstGeom>
          <a:ln w="38160">
            <a:solidFill>
              <a:srgbClr val="cccce6"/>
            </a:solidFill>
            <a:miter/>
          </a:ln>
          <a:effectLst>
            <a:outerShdw dist="107932" dir="8100000" blurRad="0" rotWithShape="0">
              <a:srgbClr val="00007d">
                <a:alpha val="50000"/>
              </a:srgbClr>
            </a:outerShdw>
          </a:effectLst>
        </p:spPr>
      </p:pic>
      <p:pic>
        <p:nvPicPr>
          <p:cNvPr id="144" name="Рисунок 5" descr="37.jpg"/>
          <p:cNvPicPr/>
          <p:nvPr/>
        </p:nvPicPr>
        <p:blipFill>
          <a:blip r:embed="rId3"/>
          <a:stretch/>
        </p:blipFill>
        <p:spPr>
          <a:xfrm>
            <a:off x="2484360" y="3573360"/>
            <a:ext cx="1933560" cy="263700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7242120" y="3645000"/>
            <a:ext cx="1901880" cy="292392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1989360" cy="2521080"/>
          </a:xfrm>
          <a:prstGeom prst="rect">
            <a:avLst/>
          </a:prstGeom>
          <a:ln w="38160">
            <a:solidFill>
              <a:srgbClr val="cccce6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7570800" cy="94284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3500000" blurRad="0" rotWithShape="0">
              <a:srgbClr val="00007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пециальная одежда для выполнения разли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4" descr="povar_big.jpg"/>
          <p:cNvPicPr/>
          <p:nvPr/>
        </p:nvPicPr>
        <p:blipFill>
          <a:blip r:embed="rId1"/>
          <a:stretch/>
        </p:blipFill>
        <p:spPr>
          <a:xfrm>
            <a:off x="324000" y="2708280"/>
            <a:ext cx="2381040" cy="3673440"/>
          </a:xfrm>
          <a:prstGeom prst="rect">
            <a:avLst/>
          </a:prstGeom>
          <a:ln w="38160">
            <a:solidFill>
              <a:srgbClr val="cccce6"/>
            </a:solidFill>
            <a:miter/>
          </a:ln>
          <a:effectLst>
            <a:outerShdw dist="107932" dir="8100000" blurRad="0" rotWithShape="0">
              <a:srgbClr val="00007d">
                <a:alpha val="50000"/>
              </a:srgbClr>
            </a:outerShdw>
          </a:effectLst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24360" y="2708280"/>
            <a:ext cx="1042920" cy="3860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</p:pic>
      <p:pic>
        <p:nvPicPr>
          <p:cNvPr id="150" name="" descr="Картинка 1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2708280"/>
            <a:ext cx="1663560" cy="3500280"/>
          </a:xfrm>
          <a:prstGeom prst="rect">
            <a:avLst/>
          </a:prstGeom>
          <a:ln w="38160">
            <a:solidFill>
              <a:srgbClr val="cccce6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5:47:37Z</dcterms:created>
  <dc:creator>1</dc:creator>
  <dc:description/>
  <dc:language>en-US</dc:language>
  <cp:lastModifiedBy>Buks3</cp:lastModifiedBy>
  <dcterms:modified xsi:type="dcterms:W3CDTF">2012-02-24T06:57:59Z</dcterms:modified>
  <cp:revision>58</cp:revision>
  <dc:subject/>
  <dc:title>Построение чертежа фартука</dc:title>
</cp:coreProperties>
</file>