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BBD-8DA4-47C9-9E8E-B41B51B6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5DD-9207-446A-B251-2C091E0D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8B5-9832-4EFE-89A3-B73B2C67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9C0-B745-4DDE-BA62-A0305E97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C137-4F2B-4B8B-9A5F-1A499824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E85-8AB6-44D3-B27A-50F11AF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0C1-F75A-426D-BBFE-3BD92003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BB8F-A106-4BE0-B9D7-E4FADB3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3727-32A0-4362-9140-43DF425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E10D-8185-4F91-B009-EAB5CE4B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F665-F866-41EF-9676-CF2D234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EDB-C62D-4D87-A6C4-08FB65F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7BC-4038-4E7C-B39E-C007E3B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5397-DFEB-4C3B-AE26-8B038D0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F69-40D2-43F2-BDE5-AF44AD25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D6FF-D97C-421F-9A3B-7C271AF6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10B-3F3E-436D-AED1-EC4C0A81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A0C-270E-4F3E-B08F-74CA240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5D0-6153-4850-A5BF-F1AC28C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726-C87D-429E-A30F-AC5C292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2BB-E961-4690-B07A-E8BEFDCE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F04-E274-45E0-BA66-81C71026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E08-767D-4F0C-B503-CC00ACB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888-6D2B-4906-9DB2-5352A1B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C82-C00C-407D-B6F4-00907FF2CE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6E07-1775-4CD3-8CA6-45209357CF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ecff"/>
                </a:solidFill>
                <a:latin typeface="Arial"/>
              </a:rPr>
              <a:t>Наши ошибки в воспитании детей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618920" y="2420640"/>
            <a:ext cx="727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ова Н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46083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Навязанная роль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Мой ребенок – мой лучший друг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нение родителе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бенок – главное в нашей жизни, он такой смышленый, с ним можно говорить обо вс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понимает нас, прямо как взрослый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24000" y="1341360"/>
            <a:ext cx="5219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вет родителям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и готовы сделать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тобы понравиться своим родителям, ведь родители главнейшие люди на св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и даже готовы погрузиться в сложный мир взрослых проблем, вместо того чтобы обсуждать свои интересы со сверст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о при этом их собственные проблемы так и остаются нереше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Наполеоновские планы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Мой ребенок будет заниматься музыкой, я не позволю ему упустить свой шанс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8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ение родит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ие взрослые мечтали в детстве заниматься чем-то, но у них не было возмо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теперь главная цель мам и пап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ать детям самое лучшее обра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важно, если детям этого не очень–то хочется, пройдет время, и они оценят старания взрослых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51280" y="1483920"/>
            <a:ext cx="5292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вет родителям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сожалению, дети не всегда оценивают усилия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часто блестящее будущее, нарисованное взрослыми в своем воображении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азбивается о полное нежелание ребен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заниматься, скажем, музык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ка ребенок еще маленький и слушается взрослых, но зате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ая вырваться из клетки родительской любви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ачинает выражать протест доступными ему способ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может быть прием наркотиков, алкого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этому, заполняя день ребенка нужными и полезными занятиями, не забывайте оставить ему немного времени и для личных де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Ваше настроение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жет или нет. Это зависит от настроени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780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ение родителей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ости на работе, плохие отношения в семье, как часто взрослые «выпускают пар» на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ие уверены, что в этом нет ничего страшного. Достаточно потом пригласить малыша и купить давно обещанную игрушку, и все будет в поря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779640" y="1341000"/>
            <a:ext cx="511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вет родителям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 должны показывать ребенку, что их радует его хорошие поступки, и расстраивают плохие. Это создает у детей сознани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поколебимости ценност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взрослые в угоду своему эгоизму и настроению сегодня разрешают что-то, а завтра это же запрещают, ребенок может понять только одно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 равно, что я делаю, главное, какое у родителей настро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если вы чувствуете, что себя не переделать, лучше заранее договориться с ребенком: «Итак, когда у меня хорошее настроение, тебе не будет позволено делать все, что ты захочешь. А если плохое – постарайся быть ко мне снисходительны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лишком мало времени для воспитания ребенка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К сожалению, у меня совсем нет времени на теб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140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ение родител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ие взрослые очень загружены на работе, но каждую свободную минутку стараются проводить с детьми: они отводят их в сад, готовят для них, стирают, покупают все, что им нуж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и должны сами понимать, что у родителей просто нет времени поиграть и почитать с н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40360" y="1699920"/>
            <a:ext cx="4752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вет родителям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ослые часто забывают простую истину – если уж родили ребенка, надо и время для него най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, который все время слышит, что у взрослых нет на него времени, будет искать среди чужих людей родственные ду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если ваш день расписан по минутам, найдите вечером полчаса (в этом вопросе качество важнее количества) поговорите с ним, расскажите сказку или почитайте книж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бенку это необходимо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Где любят нас - лишь там очаг родим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.Н.Бай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5905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авный смысл и цель семейной жизни - воспитание д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авная школа воспитания детей — это взаимоотношения мужа и жены, отца и мат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. 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Обещание больше не любить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«Если ты не будешь таким, как я хочу, я больше не буду тебя любить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ение родител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чему дети так часто спорят по поводу любой нашей просьб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быть, они делают нам наз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быть? Призывать к здравому смысл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 они просто не слышат, что взрослые им говоря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рожать? Это больше не действу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Мамочка больше не будет любить тебя». Как часто многие из нас произносят эту фраз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35600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вет родителя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ещание больше не любить своего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одно из сильнейших средств вос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ко, эта угроза, как правило, не осуществляется. А дети прекрасно чувствуют фальшь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Единожды обману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вы может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 долгое время потерять доверие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ребенок будет воспринимать вас как людей лжи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640" y="2348640"/>
            <a:ext cx="422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Я люблю теб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 твое повед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 не одобряю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Безразличие.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Делай что хочешь, мне все равно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6352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нение родителей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ем напрягаться? Спорить, искать аргументы, доказывать что-то ребенку, нервничать? Ребенок сам должен научиться решать свои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вообще, ребенка надо готовить к взрослой жизни, пусть он скорее станет взросл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492000" y="1196640"/>
            <a:ext cx="5651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вет родителя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икогда не надо показывать ребенку, что вам все равно, чем он занимаетс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н, почувствовав ваше безразличие, немедленно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чнет проверять, насколько оно «настоящее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рка будет заключатьс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совершении поступков изначально плохих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ебенок ждет, последует ли за проступок критика или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му лучше вместо показного безразличи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стараться наладить с ребенком дружеские отнош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даже если его поведение вас совершенно не устраив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1263240"/>
            <a:ext cx="374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Знаешь, в этом вопро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я с тобой соверш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глас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о я хочу помочь теб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тому что люблю теб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 в любой момен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огда тебе это понадоби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ы можешь спрос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 меня совет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отец значит больше, чем сто учи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. Гербе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4932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лишком много строгости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Ты должен делать то, что я тебе сказала, потому что я в доме главна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ение родител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и должны слушаться взрослых беспрекословно – это самый важный в воспитании принцип. Неважно, сколько ребенку – 6 или 16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ям нельзя давать поблажек, иначе они окончательно сядут нам на ше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вет родителям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и обязательно должны понимать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чему и зачем они что-то делаю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лишком строгое воспит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основанное на принципах, которые не всегда понятны ребенку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поминает дрессиров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ебенок может беспрекословно исполнять все, когда вы рядом, и «плевать» на все запреты, когда вас рядом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беждение лучше строг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492280"/>
            <a:ext cx="619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Ты сейчас делаеш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ак, как я говор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 вечером мы спокой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се обсудим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чему и заче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трогость рождает страх, но грубость рождает ненави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эк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етей надо баловать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Пожалуй, я сделаю это сама. Моему ребенку это пока не по силам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нение родител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 готовы все сделать для нашего ребенка, ведь дети всегда должны получать самое лучш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тво – самая короткая пора, поэтому оно должно быть прекрас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приятно угадывать и исполнять любое желание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51280" y="1599840"/>
            <a:ext cx="529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вет родителям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балованным детям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чень тяжело приходится в жизн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льзя держать единственное чадо под колпаком родительской любви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дальнейше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это может привести к множеству пробл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родители убирают буквально каждый камушек с дороги малыша, от этого ребенок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чувствует себя счастлив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оборот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н ощущает себя совершенно беспомощным и одинок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720" y="263412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«Попробуй-ка сдел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то сам, а ес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 получи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 те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 удовольств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мог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Больше денег – лучше воспит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92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нение родителей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слишком стеснены в средствах, поэтому не можем себе позволить даже побаловать ребенка, постоянно приходится ему во всем отказывать, он донашивает старые вещи и т.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Будь у нас больше денег, мы были бы лучшими род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76720" y="1341360"/>
            <a:ext cx="5867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вет родителям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юбовь не купить за день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о бывает, что в семьях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 невысоким достатком взрослые делают все, чтобы ребенок ни в чем не нуждал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вы не должны чувствовать угрызений совести за то, что не можете исполнять все его жел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 самом дел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юбовь, ласка, совместные игры и проведенный вместе досуг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для ребенка намного важнее содержимого вашего кошельк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, разобраться, совсем не деньги делают ребенка счастливы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 осознание того, что он для вас самый-сам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1:00:45Z</dcterms:created>
  <dc:creator>Buks3</dc:creator>
  <dc:description/>
  <dc:language>en-US</dc:language>
  <cp:lastModifiedBy>Buks3</cp:lastModifiedBy>
  <dcterms:modified xsi:type="dcterms:W3CDTF">2012-02-24T04:42:57Z</dcterms:modified>
  <cp:revision>9</cp:revision>
  <dc:subject/>
  <dc:title>Слайд 1</dc:title>
</cp:coreProperties>
</file>