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4713-0421-493B-93A4-AB278F80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507-5493-4D21-8E3A-0160068E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AA9-3EDF-443C-9280-72D0F9A2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E53-1E9A-464E-B373-4E2ABEFD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EF72-7F9B-4689-8707-EE24D1A0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DB37-1C25-4B51-8A4E-79AFB917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20D8-3D34-4E52-84A2-CD9A009A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1D2A-8187-4018-9E68-68EAAFB4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D929-9093-4527-8F0E-6A081EE4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4604-BCBF-4114-990D-C7DB2551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B53F-763A-4EC3-84F2-43319496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C33-5B87-4EB0-94A7-A3B90CCA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046C-92C1-41C2-BB8E-73F9DACB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1D4B-5136-4E46-B270-D0E3017D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408C-F485-4FA7-BD38-71B242C2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0DB7-1FE0-4B2F-AC7D-67AB4F69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05ED-41ED-4A48-9DC0-F369CA07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8AEE-91B3-40BF-AC99-786CA6B2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2BDB-7951-41A3-98EA-D7312CF1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B349-F6FA-4960-BD03-22D4B0DF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F0A-7622-4925-B66F-AADE123B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E89-EB37-434E-8777-BFD53E14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3B48-7263-4F5F-80C8-9B39E7AF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2632-2941-452E-BB73-12251B6D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AD09-9A2C-4280-9382-1099D05E6B3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E208-7CE9-4006-B667-9212E706564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&#1072;&#1076;&#1088;&#1077;&#1089;&#1072;.doc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&#1082;&#1088;&#1086;&#1089;&#1089;&#1074;&#1086;&#1088;&#1076;.xls" TargetMode="External"/><Relationship Id="rId2" Type="http://schemas.openxmlformats.org/officeDocument/2006/relationships/hyperlink" Target="&#1082;&#1088;&#1086;&#1089;&#1089;&#1074;&#1086;&#1088;&#1076;.xls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Белгородский Региональный институт повышения квалификации и профессиональной подготовки специалистов переподготовки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Исследовательский проек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Революция 1917 года: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современный взгляд и оценк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дготовил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лушатели курсов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Бычкова Т.Р 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Еремина Т.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Белгоро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4797360"/>
            <a:ext cx="1224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бъективные противоречия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между городом и деревн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между центром и окраинам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между русскими и инородцам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между государством и монополия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убъективные (временные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еудачи на фронт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олод и разрух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испропорции в экономик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силение враждебной пропаганды со стороны Герман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арушение работы транспор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силение критики либералами царского правительств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аралич вла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ктивизация революционных сил а армии и на флоте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отиворечия, связанные с нерешенными проблемами модернизаци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хранение помещичьего землевладения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езавершенность индустриализации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формирование национальной элиты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сутствие власти у буржуазии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сутствие социальной адаптации населения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сутствие либеральных и парламентских традиц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аким образом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объективные, и временные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противоречия, связанные с нерешенными проблемами модернизации и послужили основой февральской революции.  Но поскольку они  были существенно обострены именно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Первой Мировой войной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на и явилась главным детонатором общественного взрыва и сделала революцию свершившимся факт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635280" y="4149720"/>
            <a:ext cx="209520" cy="2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еволюция 1917 г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Кроссворд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отве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876240" cy="1371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236000" y="4221000"/>
            <a:ext cx="914400" cy="1279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700360" y="1989000"/>
            <a:ext cx="3311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Основополагающий вопрос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какие причины стали главными для перерастания революционной ситуации в революцию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Гипотез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ероятно,  именно Первая мировая война стала катализатором, который сделал революцию свершившимся факто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ценка событий с трех позиций: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териалистическо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аправле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193480" y="3719520"/>
            <a:ext cx="404028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Технологическое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аправле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716000" y="1483920"/>
            <a:ext cx="40388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Либеральное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аправле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ериалистическ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ктябрьская революция -  закономерность, так как Февральская революция была незаверше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В.И. Ленина и воспоминания большевиков: В.А. Антонов-Овсеенко, Н.И. Бухарин, Н.А. Батурин, Г.Е. Зиновьев, М.И. Лядов, Л.Б. Каменев,  Ф.Ф. Раскольников, Л.Д. Троцкий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451640" y="5734080"/>
            <a:ext cx="93528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беральное направл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Февральская, и Октябрьская революции – случайность, государственный переворо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Милюков П.Н.,Струве П.Б.,И. Гессен,  Маклаков В.А.,)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209520" cy="20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хнологическое направлен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евральская революция 1917 года носит прозападный характер - это попытка перенять западные политические институ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 Булдаков В.П.)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732720" y="4076640"/>
            <a:ext cx="209520" cy="2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тиворечия револю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бъективны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484000" y="3287880"/>
            <a:ext cx="40388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ротиворечия, связанные с нерешенными проблемами модерниз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48320" y="1599840"/>
            <a:ext cx="403848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убъективные (временные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8:16:23Z</dcterms:created>
  <dc:creator>user</dc:creator>
  <dc:description/>
  <dc:language>en-US</dc:language>
  <cp:lastModifiedBy>user</cp:lastModifiedBy>
  <dcterms:modified xsi:type="dcterms:W3CDTF">2012-02-03T08:58:53Z</dcterms:modified>
  <cp:revision>10</cp:revision>
  <dc:subject/>
  <dc:title>      Революция 1917 года: современные взгляды и оценки</dc:title>
</cp:coreProperties>
</file>