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552-6916-489F-8D6D-342BFB33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B1CC-3008-4E6E-823D-ABE97EDB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D46C-13E0-47C1-A497-2838217B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85ED-02C9-4052-9645-AA39A2FA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F38B-6F59-41FE-9692-20772F6D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165-6B8B-48CF-A961-28DBAF90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54A8-70F2-4B7A-8FA7-541C7BB8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8255-B1CA-4E17-A8F0-A7C9107D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B28-E3C7-4C9F-A556-0C4996B0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DDE-6346-4732-B899-A72E6E8F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76C0-70D9-412D-BD09-EA7FB18F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2F07-5CB4-4CDD-B2D5-00058D89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72CA-9E08-40C6-8FD4-F68633AE2D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771640" y="2060640"/>
            <a:ext cx="3745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әхмәт сиңа, 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ӘЛИФБАМ!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Безнең дуслык нык булсын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388800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Сез иң гүзәл кеше икәнс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Бүген зур бәйрәм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266920" y="2276640"/>
            <a:ext cx="413244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Без бәхетле, шат балалар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211640" y="256536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660240" y="3284640"/>
            <a:ext cx="32641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Рәхмәт сиңа мәктәбем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Йолдызчыклар” дуэ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826920" y="2913120"/>
            <a:ext cx="3670560" cy="2752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Гөлләр” дуэ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Users\Лейсан\Desktop\100PHOTO\SAM_0151.JPG"/>
          <p:cNvPicPr/>
          <p:nvPr/>
        </p:nvPicPr>
        <p:blipFill>
          <a:blip r:embed="rId2"/>
          <a:stretch/>
        </p:blipFill>
        <p:spPr>
          <a:xfrm>
            <a:off x="5003640" y="2905200"/>
            <a:ext cx="35290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5"/>
          <p:cNvSpPr txBox="1"/>
          <p:nvPr/>
        </p:nvSpPr>
        <p:spPr>
          <a:xfrm>
            <a:off x="2195640" y="2421000"/>
            <a:ext cx="5616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ау бул, 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ӘЛИФБА!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Әлиф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2376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И туган тел, и матур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987640" y="220500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1143000"/>
            <a:ext cx="8435880" cy="37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SL Baskerville Light Italic"/>
              </a:rPr>
              <a:t>Тел дигән дә</a:t>
            </a:r>
            <a:r>
              <a:rPr b="1" lang="ru-RU" sz="2000" spc="-1" strike="noStrike">
                <a:solidFill>
                  <a:srgbClr val="000000"/>
                </a:solidFill>
                <a:latin typeface="SL Baskerville Light Italic"/>
              </a:rPr>
              <a:t>рь</a:t>
            </a:r>
            <a:r>
              <a:rPr b="1" lang="tt-RU" sz="2000" spc="-1" strike="noStrike">
                <a:solidFill>
                  <a:srgbClr val="000000"/>
                </a:solidFill>
                <a:latin typeface="SL Baskerville Light Italic"/>
              </a:rPr>
              <a:t>я бар,</a:t>
            </a:r>
            <a:br>
              <a:rPr sz="2000"/>
            </a:br>
            <a:r>
              <a:rPr b="1" lang="tt-RU" sz="2000" spc="-1" strike="noStrike">
                <a:solidFill>
                  <a:srgbClr val="000000"/>
                </a:solidFill>
                <a:latin typeface="SL Baskerville Light Italic"/>
              </a:rPr>
              <a:t>        Дәрья төбендә мәрҗән бар.</a:t>
            </a:r>
            <a:br>
              <a:rPr sz="2000"/>
            </a:br>
            <a:r>
              <a:rPr b="1" lang="tt-RU" sz="2000" spc="-1" strike="noStrike">
                <a:solidFill>
                  <a:srgbClr val="000000"/>
                </a:solidFill>
                <a:latin typeface="SL Baskerville Light Italic"/>
              </a:rPr>
              <a:t>  Белгәннәр чумып алыр,</a:t>
            </a:r>
            <a:br>
              <a:rPr sz="2000"/>
            </a:br>
            <a:r>
              <a:rPr b="1" lang="tt-RU" sz="2000" spc="-1" strike="noStrike">
                <a:solidFill>
                  <a:srgbClr val="000000"/>
                </a:solidFill>
                <a:latin typeface="SL Baskerville Light Italic"/>
              </a:rPr>
              <a:t>  Белмәгән карап калыр.</a:t>
            </a:r>
            <a:br>
              <a:rPr sz="2000"/>
            </a:br>
            <a:r>
              <a:rPr b="1" lang="tt-RU" sz="2000" spc="-1" strike="noStrike">
                <a:solidFill>
                  <a:srgbClr val="000000"/>
                </a:solidFill>
                <a:latin typeface="SL Baskerville Light Italic"/>
              </a:rPr>
              <a:t>                    Нәкый Исәнбә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Өйрәтәләр мәктәпләрдә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744640" y="2492280"/>
            <a:ext cx="37720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Йолдызчыклар” дуэ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Лейсан\Desktop\фото-семья\184_PANA\P1840848.JPG"/>
          <p:cNvPicPr/>
          <p:nvPr/>
        </p:nvPicPr>
        <p:blipFill>
          <a:blip r:embed="rId1"/>
          <a:stretch/>
        </p:blipFill>
        <p:spPr>
          <a:xfrm>
            <a:off x="1217520" y="1773360"/>
            <a:ext cx="3498840" cy="2624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3168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нең дуслык нык булсын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Лейсан\Desktop\лейсан\101SSCAM\S6301801.JPG"/>
          <p:cNvPicPr/>
          <p:nvPr/>
        </p:nvPicPr>
        <p:blipFill>
          <a:blip r:embed="rId1"/>
          <a:stretch/>
        </p:blipFill>
        <p:spPr>
          <a:xfrm>
            <a:off x="2627280" y="195264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Һәрвакыт булсын ән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395928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ҮЗ җырыбыз булсын ә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Лейсан\Desktop\100PHOTO\SAM_0151.JPG"/>
          <p:cNvPicPr/>
          <p:nvPr/>
        </p:nvPicPr>
        <p:blipFill>
          <a:blip r:embed="rId1"/>
          <a:stretch/>
        </p:blipFill>
        <p:spPr>
          <a:xfrm>
            <a:off x="2195640" y="1600200"/>
            <a:ext cx="4032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5:41:39Z</dcterms:created>
  <dc:creator>Comp</dc:creator>
  <dc:description/>
  <dc:language>en-US</dc:language>
  <cp:lastModifiedBy>Лейсан</cp:lastModifiedBy>
  <dcterms:modified xsi:type="dcterms:W3CDTF">2012-02-24T08:27:44Z</dcterms:modified>
  <cp:revision>23</cp:revision>
  <dc:subject/>
  <dc:title>Слайд 1</dc:title>
</cp:coreProperties>
</file>