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98DB-1D59-4459-AE0A-5B6B8732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FC9A-E4C1-412A-B94F-612422B7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27C7-2B01-4D7C-8E47-9BA187BB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200D-6BA1-4E8F-97D5-9F2826066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1EA3-8AA3-43E2-8442-F30AE4A8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3DE0-7723-40E1-8AAA-A3D899BD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3AF7-AE2B-4885-9203-FEB7D4B8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A555-DD1A-48B2-9B85-46C56814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38B4-CA04-4340-8D63-E829B7CC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A33E-6775-4138-83A7-17D489C2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0684-2E79-4F91-84A3-6247FC29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F23A-3B89-45A6-9A6C-91F8D8EA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64F9-7EF4-4EF9-A0B8-9A5C3593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C5B9-1B39-4756-A78F-1A6992FE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38B1-5EED-4D1E-8CA1-E0E5DB74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AABE-6CA4-433E-9DAE-F19F6E68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2CEB-E2EA-4331-AE9B-79EE31BD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A4EEA-D0FE-498A-A7A4-19653522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15873-8E6B-4042-97B0-E77E034E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050B7-808C-463F-9054-91955FCA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F364D-C991-41D2-89FD-005485E5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87C96-7968-4ECF-807D-426AD078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AAB-8102-4376-9B8F-2FA2119F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02874-0CA0-4058-BE58-52170709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1FC10-DFC5-4C90-8EA0-B6A05078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3931E-657A-4093-B00F-B814FC9D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8335D-4278-4CAB-8469-5415EBB8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10E9D-9090-4357-8DF2-F5E60D5D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A7A0E-A9E7-41F8-8E18-A62C8153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1466D-DFB7-412A-A64D-45AF8A84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11FB-84C9-492E-A6F4-214AD9FC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874E-A553-4619-A60E-3738EAD0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822-D1A6-45FC-BEB6-FB02BBD4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9600-FE9B-4001-940A-5770F472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C1F2-8F5E-4266-A6E7-43C32BCE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D28E-8FC0-4161-B29C-E7B499D9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2174-9BE6-47CB-A47E-83B0C2B77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0DE0-16E5-4372-A655-D559322CE4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296D-802C-4503-9681-D265C1AC23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6f6a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, 8 – Women’s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,1 – April Fool’s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, 1 – Ma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, 9 – Victo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6f6a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GLISH-SPEAK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, 17 – St. Patrick’s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– Mother’s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,1 – April Fool’s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nday of May – Ma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627280" y="333360"/>
            <a:ext cx="374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ring Holiday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100" spc="-1" strike="noStrike">
                <a:solidFill>
                  <a:srgbClr val="3366ff"/>
                </a:solidFill>
                <a:latin typeface="Vijaya"/>
                <a:ea typeface="Vijaya"/>
              </a:rPr>
              <a:t>Happy</a:t>
            </a:r>
            <a:r>
              <a:rPr b="0" lang="en-US" sz="7600" spc="-1" strike="noStrike">
                <a:solidFill>
                  <a:srgbClr val="3366ff"/>
                </a:solidFill>
                <a:latin typeface="Vijaya"/>
                <a:ea typeface="Vijaya"/>
              </a:rPr>
              <a:t> </a:t>
            </a:r>
            <a:r>
              <a:rPr b="0" lang="en-US" sz="10100" spc="-1" strike="noStrike">
                <a:solidFill>
                  <a:srgbClr val="3366ff"/>
                </a:solidFill>
                <a:latin typeface="Vijaya"/>
                <a:ea typeface="Vijaya"/>
              </a:rPr>
              <a:t>Easter!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40719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Monotype Corsiva"/>
              </a:rPr>
              <a:t>EAST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136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Gungsuh"/>
              </a:rPr>
              <a:t>The name Easter comes from Eostre, an ancient Anglo-Saxon goddes of spr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00720" y="404640"/>
            <a:ext cx="42256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8360" y="217440"/>
            <a:ext cx="3382920" cy="3251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932360" y="260280"/>
            <a:ext cx="3006720" cy="3006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84360" y="3716280"/>
            <a:ext cx="3311280" cy="2576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932360" y="3357720"/>
            <a:ext cx="300672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3097440" cy="3097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39640" y="3540240"/>
            <a:ext cx="3456000" cy="2500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292720" y="333360"/>
            <a:ext cx="2865600" cy="3481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562720" y="3933720"/>
            <a:ext cx="18842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176720" cy="4111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392720" cy="3744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1042920" y="549360"/>
            <a:ext cx="69138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Easter para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240360" cy="3529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284720" y="333360"/>
            <a:ext cx="3959280" cy="3240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55640" y="3860640"/>
            <a:ext cx="2808360" cy="24051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4788000" y="3645000"/>
            <a:ext cx="265104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5003640" cy="4897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580000" y="907920"/>
            <a:ext cx="3168720" cy="2459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580000" y="3500280"/>
            <a:ext cx="316872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4:56:44Z</dcterms:created>
  <dc:creator>1</dc:creator>
  <dc:description/>
  <dc:language>en-US</dc:language>
  <cp:lastModifiedBy>1</cp:lastModifiedBy>
  <dcterms:modified xsi:type="dcterms:W3CDTF">2012-01-17T18:50:48Z</dcterms:modified>
  <cp:revision>6</cp:revision>
  <dc:subject/>
  <dc:title>Слайд 1</dc:title>
</cp:coreProperties>
</file>