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0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1.jpeg" ContentType="image/jpeg"/>
  <Override PartName="/ppt/media/image4.wmf" ContentType="image/x-wmf"/>
  <Override PartName="/ppt/media/image13.png" ContentType="image/png"/>
  <Override PartName="/ppt/media/image3.jpeg" ContentType="image/jpeg"/>
  <Override PartName="/ppt/media/image37.jpeg" ContentType="image/jpeg"/>
  <Override PartName="/ppt/media/image39.jpeg" ContentType="image/jpeg"/>
  <Override PartName="/ppt/media/image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29F-6F67-4621-AB6B-1F14A4F9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864-3B4D-4DCC-A9FB-AB02916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47E-A629-4138-A3D6-674CE6DE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7B1-825C-4CFA-9CA8-84176709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145-65A8-47B8-99A1-CF02DAC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6A9-D4C8-4992-9579-1FBA27B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A2C-E135-417B-9B86-9A4B3F4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FDE-F832-48DD-AE8E-3FD56E1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454-9CEF-4A4C-8F22-80CC845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39B-FA3A-418F-8DC0-1C3042E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ACF-6116-4208-B0AF-7082C40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BB8-4E89-4D4B-A007-16CF03B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99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1FFF-E8CA-4932-98B8-CC8FC7EAC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Monotype Corsiva"/>
              </a:rPr>
              <a:t>Деловой имидж - залог профессионального успех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z1-banner"/>
          <p:cNvPicPr/>
          <p:nvPr/>
        </p:nvPicPr>
        <p:blipFill>
          <a:blip r:embed="rId1"/>
          <a:srcRect l="42142" t="0" r="6866" b="0"/>
          <a:stretch/>
        </p:blipFill>
        <p:spPr>
          <a:xfrm>
            <a:off x="1571760" y="2786040"/>
            <a:ext cx="6116400" cy="35798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13372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едназначение одежды – не только защитить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т холода, дождя, но и вызвать к себе инте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bussman"/>
          <p:cNvPicPr/>
          <p:nvPr/>
        </p:nvPicPr>
        <p:blipFill>
          <a:blip r:embed="rId1"/>
          <a:stretch/>
        </p:blipFill>
        <p:spPr>
          <a:xfrm>
            <a:off x="5148360" y="404640"/>
            <a:ext cx="37875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050480" y="333000"/>
            <a:ext cx="71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стю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зитная карточка делового человека.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95280" y="54432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ккуратность и подтянутость в одеж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асто ассоциир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 организованностью в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294687547452c060"/>
          <p:cNvPicPr/>
          <p:nvPr/>
        </p:nvPicPr>
        <p:blipFill>
          <a:blip r:embed="rId1"/>
          <a:stretch/>
        </p:blipFill>
        <p:spPr>
          <a:xfrm>
            <a:off x="2556000" y="1773360"/>
            <a:ext cx="29509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488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Мужской деловой ко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0920" y="14839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ужском гардеробе должно быть минимум четыре костюма: для торжественных случаев, два на каждый день, для светских коктейлей или выста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5280" y="4142160"/>
            <a:ext cx="810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колько 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етлые костюмы носите днём, вечером – тём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ржите выходной костюм в полном порядке все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всегда следуйте за модой. Лучше выглядеть не модно, но хорошо, чем модно и плох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ли галстук сшит из качественного материала, то узел можно не развязывать, снимать галстук через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alkosvoboda.by.ru/img-for-trening/variant9.gif"/>
          <p:cNvPicPr/>
          <p:nvPr/>
        </p:nvPicPr>
        <p:blipFill>
          <a:blip r:embed="rId1"/>
          <a:stretch/>
        </p:blipFill>
        <p:spPr>
          <a:xfrm>
            <a:off x="3492360" y="2924280"/>
            <a:ext cx="1809720" cy="123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alkosvoboda.by.ru/img-for-trening/variant10.gif"/>
          <p:cNvPicPr/>
          <p:nvPr/>
        </p:nvPicPr>
        <p:blipFill>
          <a:blip r:embed="rId2"/>
          <a:stretch/>
        </p:blipFill>
        <p:spPr>
          <a:xfrm>
            <a:off x="468360" y="189000"/>
            <a:ext cx="1809720" cy="123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alkosvoboda.by.ru/img-for-trening/variant11.gif"/>
          <p:cNvPicPr/>
          <p:nvPr/>
        </p:nvPicPr>
        <p:blipFill>
          <a:blip r:embed="rId3"/>
          <a:stretch/>
        </p:blipFill>
        <p:spPr>
          <a:xfrm>
            <a:off x="900000" y="2349360"/>
            <a:ext cx="1809720" cy="123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alkosvoboda.by.ru/img-for-trening/variant6.gif"/>
          <p:cNvPicPr/>
          <p:nvPr/>
        </p:nvPicPr>
        <p:blipFill>
          <a:blip r:embed="rId4"/>
          <a:stretch/>
        </p:blipFill>
        <p:spPr>
          <a:xfrm>
            <a:off x="6372360" y="2349360"/>
            <a:ext cx="180972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79280" y="120240"/>
            <a:ext cx="5472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СТЮ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ЕЛОВОЙ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68360" y="57340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е правило, которое следует соблюдать при выборе одеж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это соответствие времени и обстан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97313"/>
          <p:cNvPicPr/>
          <p:nvPr/>
        </p:nvPicPr>
        <p:blipFill>
          <a:blip r:embed="rId1"/>
          <a:stretch/>
        </p:blipFill>
        <p:spPr>
          <a:xfrm>
            <a:off x="324000" y="1341360"/>
            <a:ext cx="2371680" cy="266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331_1"/>
          <p:cNvPicPr/>
          <p:nvPr/>
        </p:nvPicPr>
        <p:blipFill>
          <a:blip r:embed="rId2"/>
          <a:stretch/>
        </p:blipFill>
        <p:spPr>
          <a:xfrm>
            <a:off x="5667480" y="260280"/>
            <a:ext cx="3327120" cy="496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354"/>
          <p:cNvPicPr/>
          <p:nvPr/>
        </p:nvPicPr>
        <p:blipFill>
          <a:blip r:embed="rId3"/>
          <a:srcRect l="27165" t="-1151" r="14567" b="50369"/>
          <a:stretch/>
        </p:blipFill>
        <p:spPr>
          <a:xfrm>
            <a:off x="1908000" y="3284640"/>
            <a:ext cx="1916280" cy="2232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78" name="Picture 12" descr="2"/>
          <p:cNvPicPr/>
          <p:nvPr/>
        </p:nvPicPr>
        <p:blipFill>
          <a:blip r:embed="rId4"/>
          <a:stretch/>
        </p:blipFill>
        <p:spPr>
          <a:xfrm>
            <a:off x="3635280" y="1844640"/>
            <a:ext cx="2303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68360" y="477360"/>
            <a:ext cx="79214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Категорические запре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фисе ни в коем случае нельзя появл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жинсовых брю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йках и футболк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зрачных, открытых  блуз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ивной обу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юбках и платьях с разрез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69"/>
          <p:cNvPicPr/>
          <p:nvPr/>
        </p:nvPicPr>
        <p:blipFill>
          <a:blip r:embed="rId1"/>
          <a:stretch/>
        </p:blipFill>
        <p:spPr>
          <a:xfrm>
            <a:off x="7308720" y="2276640"/>
            <a:ext cx="1427400" cy="3384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81" name="Picture 8" descr="53b2bcbeff847167e91d610f72e52305"/>
          <p:cNvPicPr/>
          <p:nvPr/>
        </p:nvPicPr>
        <p:blipFill>
          <a:blip r:embed="rId2"/>
          <a:stretch/>
        </p:blipFill>
        <p:spPr>
          <a:xfrm>
            <a:off x="2987640" y="4941720"/>
            <a:ext cx="2044800" cy="15321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2" name="Picture 10" descr="1193849504_0455"/>
          <p:cNvPicPr/>
          <p:nvPr/>
        </p:nvPicPr>
        <p:blipFill>
          <a:blip r:embed="rId3"/>
          <a:srcRect l="0" t="0" r="0" b="32376"/>
          <a:stretch/>
        </p:blipFill>
        <p:spPr>
          <a:xfrm>
            <a:off x="5508720" y="4724280"/>
            <a:ext cx="1904760" cy="1932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3" name="Picture 12" descr="686"/>
          <p:cNvPicPr/>
          <p:nvPr/>
        </p:nvPicPr>
        <p:blipFill>
          <a:blip r:embed="rId4"/>
          <a:stretch/>
        </p:blipFill>
        <p:spPr>
          <a:xfrm>
            <a:off x="539640" y="4869000"/>
            <a:ext cx="1714680" cy="1714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Мужские деловые прически"/>
          <p:cNvPicPr/>
          <p:nvPr/>
        </p:nvPicPr>
        <p:blipFill>
          <a:blip r:embed="rId1"/>
          <a:stretch/>
        </p:blipFill>
        <p:spPr>
          <a:xfrm>
            <a:off x="2340000" y="404640"/>
            <a:ext cx="200808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man_image_09"/>
          <p:cNvPicPr/>
          <p:nvPr/>
        </p:nvPicPr>
        <p:blipFill>
          <a:blip r:embed="rId2"/>
          <a:stretch/>
        </p:blipFill>
        <p:spPr>
          <a:xfrm>
            <a:off x="4211640" y="1341360"/>
            <a:ext cx="17334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ужские деловые прически"/>
          <p:cNvPicPr/>
          <p:nvPr/>
        </p:nvPicPr>
        <p:blipFill>
          <a:blip r:embed="rId3"/>
          <a:stretch/>
        </p:blipFill>
        <p:spPr>
          <a:xfrm>
            <a:off x="7116840" y="4437000"/>
            <a:ext cx="179712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51573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Главное требование к деловой причёске - аккура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30807_hairdresses_women_offises006"/>
          <p:cNvPicPr/>
          <p:nvPr/>
        </p:nvPicPr>
        <p:blipFill>
          <a:blip r:embed="rId4"/>
          <a:stretch/>
        </p:blipFill>
        <p:spPr>
          <a:xfrm>
            <a:off x="250920" y="836640"/>
            <a:ext cx="220176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30807_hairdresses_women_offises008"/>
          <p:cNvPicPr/>
          <p:nvPr/>
        </p:nvPicPr>
        <p:blipFill>
          <a:blip r:embed="rId5"/>
          <a:stretch/>
        </p:blipFill>
        <p:spPr>
          <a:xfrm>
            <a:off x="5867280" y="260280"/>
            <a:ext cx="192888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230807_hairdresses_women_offises017"/>
          <p:cNvPicPr/>
          <p:nvPr/>
        </p:nvPicPr>
        <p:blipFill>
          <a:blip r:embed="rId6"/>
          <a:stretch/>
        </p:blipFill>
        <p:spPr>
          <a:xfrm>
            <a:off x="5364000" y="3068640"/>
            <a:ext cx="158148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200_23"/>
          <p:cNvPicPr/>
          <p:nvPr/>
        </p:nvPicPr>
        <p:blipFill>
          <a:blip r:embed="rId7"/>
          <a:stretch/>
        </p:blipFill>
        <p:spPr>
          <a:xfrm>
            <a:off x="2556000" y="2708280"/>
            <a:ext cx="13986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an_image_10"/>
          <p:cNvPicPr/>
          <p:nvPr/>
        </p:nvPicPr>
        <p:blipFill>
          <a:blip r:embed="rId8"/>
          <a:stretch/>
        </p:blipFill>
        <p:spPr>
          <a:xfrm>
            <a:off x="7020000" y="249228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 имидже фирмы нет мелоч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www.antura.ru/rm/im/formula/04b.jpg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364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ost_r"/>
          <p:cNvPicPr/>
          <p:nvPr/>
        </p:nvPicPr>
        <p:blipFill>
          <a:blip r:embed="rId2"/>
          <a:stretch/>
        </p:blipFill>
        <p:spPr>
          <a:xfrm>
            <a:off x="4284720" y="3429000"/>
            <a:ext cx="4570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693360" y="568440"/>
            <a:ext cx="777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РАМОТНАЯ РЕЧ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оставляющая привлекательного имид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987640" y="209592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Без принужденья в разгов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нуться до всего слег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ёным видом знат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ить молчание в важном сп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збуждать улыбку 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ём нежданных эпиграм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5"/>
          <p:cNvPicPr/>
          <p:nvPr/>
        </p:nvPicPr>
        <p:blipFill>
          <a:blip r:embed="rId1"/>
          <a:stretch/>
        </p:blipFill>
        <p:spPr>
          <a:xfrm>
            <a:off x="4643280" y="4724280"/>
            <a:ext cx="2160720" cy="165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6[1]"/>
          <p:cNvPicPr/>
          <p:nvPr/>
        </p:nvPicPr>
        <p:blipFill>
          <a:blip r:embed="rId2"/>
          <a:stretch/>
        </p:blipFill>
        <p:spPr>
          <a:xfrm>
            <a:off x="324000" y="1700280"/>
            <a:ext cx="2201760" cy="2663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parrot_as_orator"/>
          <p:cNvPicPr/>
          <p:nvPr/>
        </p:nvPicPr>
        <p:blipFill>
          <a:blip r:embed="rId1"/>
          <a:stretch/>
        </p:blipFill>
        <p:spPr>
          <a:xfrm>
            <a:off x="7164360" y="260280"/>
            <a:ext cx="183348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-541440" y="2786760"/>
            <a:ext cx="87138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найте предмет разгов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Относитесь к собеседнику с уваже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ладейте мастерством логических ударений, пауз и  языком же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льзуйтесь живой речью: метафорами, образами, сравн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збегайте языковых шаблонов и затасканных выражений, а также сло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зи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спользуйте личное обая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збегайте акцента и смешения яз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Не обманывайте собеседника, не искажайте  ист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спользуйте технику драматизации речи: ускорение и замедление её темп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голоса, изменения его темб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мните, что ваш ум и человечность обладают большой силой воз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61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ДЕСЯТЬ  ЗАПОВЕДЕЙ 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ГРАМОТНОЙ  РЕЧ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092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395280" y="584280"/>
            <a:ext cx="8353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ивлечь внимание других, человек должен не только хорошо одеваться и быть всегда опрятным, но и должен обладать хорошими качествами – быть интересным собеседником,  улыбаться, сдерживать эмоции и быть приветливым. А главное быть компетентным, образованным, достигать поставленных целей и обязательно сам человек  должен развивать в себе таланты, ведь в каждом человеке есть своя изюминк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Если  человек сам себя оценит и найдёт правильный путь, он всегда будет уверен в себе и успешен как в профессиональной сфере, так и в ли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76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800000"/>
                </a:solidFill>
                <a:latin typeface="Monotype Corsiva"/>
              </a:rPr>
              <a:t>"Имидж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Monotype Corsiva"/>
              </a:rPr>
              <a:t>это искусств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Monotype Corsiva"/>
              </a:rPr>
              <a:t>управлять впечатление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817160" y="542880"/>
            <a:ext cx="37864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рвин Гофма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ериканский соци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61006_1"/>
          <p:cNvPicPr/>
          <p:nvPr/>
        </p:nvPicPr>
        <p:blipFill>
          <a:blip r:embed="rId1"/>
          <a:stretch/>
        </p:blipFill>
        <p:spPr>
          <a:xfrm>
            <a:off x="684360" y="404640"/>
            <a:ext cx="6300720" cy="59612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 rot="5400000">
            <a:off x="5104080" y="2851920"/>
            <a:ext cx="6237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нижная по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KS2007_b"/>
          <p:cNvPicPr/>
          <p:nvPr/>
        </p:nvPicPr>
        <p:blipFill>
          <a:blip r:embed="rId1"/>
          <a:stretch/>
        </p:blipFill>
        <p:spPr>
          <a:xfrm rot="20275200">
            <a:off x="684000" y="404640"/>
            <a:ext cx="1927080" cy="273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ook-29"/>
          <p:cNvPicPr/>
          <p:nvPr/>
        </p:nvPicPr>
        <p:blipFill>
          <a:blip r:embed="rId2"/>
          <a:stretch/>
        </p:blipFill>
        <p:spPr>
          <a:xfrm rot="21192000">
            <a:off x="2920680" y="201600"/>
            <a:ext cx="1434960" cy="241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7398827070a1"/>
          <p:cNvPicPr/>
          <p:nvPr/>
        </p:nvPicPr>
        <p:blipFill>
          <a:blip r:embed="rId3"/>
          <a:stretch/>
        </p:blipFill>
        <p:spPr>
          <a:xfrm rot="20735400">
            <a:off x="2203200" y="2077560"/>
            <a:ext cx="1506600" cy="239724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10" name="Picture 8" descr="big"/>
          <p:cNvPicPr/>
          <p:nvPr/>
        </p:nvPicPr>
        <p:blipFill>
          <a:blip r:embed="rId4"/>
          <a:stretch/>
        </p:blipFill>
        <p:spPr>
          <a:xfrm rot="983400">
            <a:off x="4427640" y="404280"/>
            <a:ext cx="1722240" cy="2662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1" name="Picture 9" descr="images"/>
          <p:cNvPicPr/>
          <p:nvPr/>
        </p:nvPicPr>
        <p:blipFill>
          <a:blip r:embed="rId5"/>
          <a:stretch/>
        </p:blipFill>
        <p:spPr>
          <a:xfrm>
            <a:off x="4071960" y="2214720"/>
            <a:ext cx="1428840" cy="2313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214200" y="50007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наше время можно найти разнообразную информацию по формированию имиджа, она поможет вам создать свой неповторимый образ и добиться жизненны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6%5C250435"/>
          <p:cNvPicPr/>
          <p:nvPr/>
        </p:nvPicPr>
        <p:blipFill>
          <a:blip r:embed="rId6"/>
          <a:stretch/>
        </p:blipFill>
        <p:spPr>
          <a:xfrm rot="21083400">
            <a:off x="172800" y="2098800"/>
            <a:ext cx="1495440" cy="243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panasuk_image"/>
          <p:cNvPicPr/>
          <p:nvPr/>
        </p:nvPicPr>
        <p:blipFill>
          <a:blip r:embed="rId7"/>
          <a:stretch/>
        </p:blipFill>
        <p:spPr>
          <a:xfrm rot="212400">
            <a:off x="6524640" y="254160"/>
            <a:ext cx="192096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imidg_del_zhensh"/>
          <p:cNvPicPr/>
          <p:nvPr/>
        </p:nvPicPr>
        <p:blipFill>
          <a:blip r:embed="rId8"/>
          <a:stretch/>
        </p:blipFill>
        <p:spPr>
          <a:xfrm rot="951600">
            <a:off x="6000480" y="2447640"/>
            <a:ext cx="198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Успехов в формировании имидж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4716360" y="170064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 переводе с английского слово «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mage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»  означает «образ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ale_suite"/>
          <p:cNvPicPr/>
          <p:nvPr/>
        </p:nvPicPr>
        <p:blipFill>
          <a:blip r:embed="rId1"/>
          <a:stretch/>
        </p:blipFill>
        <p:spPr>
          <a:xfrm>
            <a:off x="826920" y="836640"/>
            <a:ext cx="3640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857160" y="128592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сокой конкуренции на рынке труда в настоящее время недостаточно быть квалифицированным специалистом, необходимо создать свой собственный привлекательный имид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039680" y="403200"/>
            <a:ext cx="713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идж  предприятия зависи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вашего личного имидж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же верно и обратное утвер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идж предприятия влияет на им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сотруд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196946428_ofis3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244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WHATNOW"/>
          <p:cNvPicPr/>
          <p:nvPr/>
        </p:nvPicPr>
        <p:blipFill>
          <a:blip r:embed="rId2"/>
          <a:stretch/>
        </p:blipFill>
        <p:spPr>
          <a:xfrm>
            <a:off x="6435720" y="2060640"/>
            <a:ext cx="2525760" cy="3601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9"/>
          <p:cNvSpPr/>
          <p:nvPr/>
        </p:nvSpPr>
        <p:spPr>
          <a:xfrm>
            <a:off x="4071960" y="3857760"/>
            <a:ext cx="3214800" cy="650880"/>
          </a:xfrm>
          <a:prstGeom prst="leftRightArrow">
            <a:avLst>
              <a:gd name="adj1" fmla="val 50000"/>
              <a:gd name="adj2" fmla="val 80101"/>
            </a:avLst>
          </a:prstGeom>
          <a:gradFill rotWithShape="0">
            <a:gsLst>
              <a:gs pos="0">
                <a:srgbClr val="339966"/>
              </a:gs>
              <a:gs pos="50000">
                <a:srgbClr val="ffff00"/>
              </a:gs>
              <a:gs pos="100000">
                <a:srgbClr val="339966"/>
              </a:gs>
            </a:gsLst>
            <a:lin ang="189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5805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итет, уважение, доверие, культура обслуживания, упаковка товаров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енная доставка, кредиты малоим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rcRect l="15805" t="32249" r="19939" b="1588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39640" y="722880"/>
            <a:ext cx="79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орму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оздействия имиджа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IDA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ttention)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terest)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a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потре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-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o-00001915-n-00000250"/>
          <p:cNvPicPr/>
          <p:nvPr/>
        </p:nvPicPr>
        <p:blipFill>
          <a:blip r:embed="rId1"/>
          <a:stretch/>
        </p:blipFill>
        <p:spPr>
          <a:xfrm>
            <a:off x="4716360" y="3068640"/>
            <a:ext cx="4176720" cy="307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395280" y="3713400"/>
            <a:ext cx="4176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мидж необходим, так как 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92%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производи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печат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ависит от того, как человек выгля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Мужские деловые прически"/>
          <p:cNvPicPr/>
          <p:nvPr/>
        </p:nvPicPr>
        <p:blipFill>
          <a:blip r:embed="rId2"/>
          <a:stretch/>
        </p:blipFill>
        <p:spPr>
          <a:xfrm>
            <a:off x="611280" y="404640"/>
            <a:ext cx="2421000" cy="295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50920" y="1196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Для чего 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нужен имидж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Имиджмейкеры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-специалисты по созданию образа, помогают людям создать свой неповторимый имид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1f9b98312d182eeb0239ed5f51779d4"/>
          <p:cNvPicPr/>
          <p:nvPr/>
        </p:nvPicPr>
        <p:blipFill>
          <a:blip r:embed="rId1"/>
          <a:stretch/>
        </p:blipFill>
        <p:spPr>
          <a:xfrm>
            <a:off x="1835280" y="2997360"/>
            <a:ext cx="5472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9:29:57Z</dcterms:created>
  <dc:creator>U-RakeOFF</dc:creator>
  <dc:description/>
  <dc:language>en-US</dc:language>
  <cp:lastModifiedBy>Admin</cp:lastModifiedBy>
  <dcterms:modified xsi:type="dcterms:W3CDTF">2010-05-13T04:07:10Z</dcterms:modified>
  <cp:revision>26</cp:revision>
  <dc:subject/>
  <dc:title>Слайд 1</dc:title>
</cp:coreProperties>
</file>