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png" ContentType="image/png"/>
  <Override PartName="/ppt/media/image9.gif" ContentType="image/gif"/>
  <Override PartName="/ppt/media/image8.jpeg" ContentType="image/jpeg"/>
  <Override PartName="/ppt/media/image2.gif" ContentType="image/gif"/>
  <Override PartName="/ppt/media/image18.gif" ContentType="image/gif"/>
  <Override PartName="/ppt/media/image17.jpeg" ContentType="image/jpeg"/>
  <Override PartName="/ppt/media/image5.gif" ContentType="image/gif"/>
  <Override PartName="/ppt/media/image16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6.png" ContentType="image/png"/>
  <Override PartName="/ppt/media/image3.gif" ContentType="image/gif"/>
  <Override PartName="/ppt/media/image4.jpeg" ContentType="image/jpeg"/>
  <Override PartName="/ppt/media/image13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D947-0963-41DD-B37B-B5D0DC6A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E497-701C-4192-A8D4-5323D67C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0EEC-465C-4238-BDF4-2AE5C5F8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DCD9-9605-43C7-B6D3-6DA98401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A040-BDBF-47EE-A2DB-5327568D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08AC-5942-4F9E-92A0-88AC707F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F8EF-953F-40D2-9BC0-67F96FF1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5508-485B-4516-8551-A72D1E0A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937-39BA-4554-83CE-40436203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DC30-80AA-4FDE-B357-2A55D2EC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A12D-0F34-40E5-9A20-B907366C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86C7-70DA-4529-86E0-AFC4827E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6C82-E552-4729-88C3-9CF59FD47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" Target="slide2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47640" y="836640"/>
            <a:ext cx="63374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ление на двузначные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трёхзначные  числа,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канчивающиеся нулями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закрепление).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40000" y="4869000"/>
            <a:ext cx="4572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уленко Елена Владимиро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бщеобразовательной санатор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шк.-инт. «Солнечный» ГОУ «Балтийский берег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урортного района г.Санкт - Петербург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87000" y="522720"/>
            <a:ext cx="658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 * х =320       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40-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0 – х = 14      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13-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х * 30 = 270    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9-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7 + х = 20        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21-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4 : х = 4         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91-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х : 15 = 4        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60-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х – 41 = 50     …            36-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124000" y="5013360"/>
          <a:ext cx="5256000" cy="1217520"/>
        </p:xfrm>
        <a:graphic>
          <a:graphicData uri="http://schemas.openxmlformats.org/drawingml/2006/table">
            <a:tbl>
              <a:tblPr/>
              <a:tblGrid>
                <a:gridCol w="750600"/>
                <a:gridCol w="750960"/>
                <a:gridCol w="750600"/>
                <a:gridCol w="750960"/>
                <a:gridCol w="751320"/>
                <a:gridCol w="750600"/>
                <a:gridCol w="750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2328120" y="515772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    13     21     36     40     60     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53160" y="5680080"/>
            <a:ext cx="49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      л      г       е       б       р      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55640" y="3933720"/>
            <a:ext cx="1612800" cy="1935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148360" y="0"/>
            <a:ext cx="3564000" cy="23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еб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Если множитель умножить   на  … ,  то получится произ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87280" y="2331720"/>
            <a:ext cx="504036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Arial"/>
                <a:hlinkClick r:id="rId1" action="ppaction://hlinksldjump"/>
              </a:rPr>
              <a:t>умножаем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лагаем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нож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1280" y="4508640"/>
            <a:ext cx="1552320" cy="18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317080" y="6021360"/>
            <a:ext cx="576000" cy="6494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52">
                <a:moveTo>
                  <a:pt x="0" y="0"/>
                </a:moveTo>
                <a:lnTo>
                  <a:pt x="21600" y="0"/>
                </a:lnTo>
                <a:lnTo>
                  <a:pt x="21600" y="24352"/>
                </a:lnTo>
                <a:lnTo>
                  <a:pt x="0" y="24352"/>
                </a:lnTo>
                <a:close/>
              </a:path>
              <a:path fill="lightenLess" w="21600" h="243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52">
                <a:moveTo>
                  <a:pt x="21600" y="0"/>
                </a:moveTo>
                <a:lnTo>
                  <a:pt x="21600" y="24352"/>
                </a:lnTo>
                <a:lnTo>
                  <a:pt x="20200" y="22952"/>
                </a:lnTo>
                <a:lnTo>
                  <a:pt x="20200" y="1400"/>
                </a:lnTo>
                <a:close/>
              </a:path>
              <a:path fill="darkenLess" w="21600" h="24352">
                <a:moveTo>
                  <a:pt x="21600" y="24352"/>
                </a:moveTo>
                <a:lnTo>
                  <a:pt x="0" y="24352"/>
                </a:lnTo>
                <a:lnTo>
                  <a:pt x="1400" y="22952"/>
                </a:lnTo>
                <a:lnTo>
                  <a:pt x="20200" y="22952"/>
                </a:lnTo>
                <a:close/>
              </a:path>
              <a:path fill="lighten" w="21600" h="24352">
                <a:moveTo>
                  <a:pt x="0" y="243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52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708360" y="2924280"/>
            <a:ext cx="1959120" cy="16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Разность показывает, на сколько уменьшаемое … вычитаем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Arial"/>
                <a:hlinkClick r:id="rId1" action="ppaction://hlinksldjump"/>
              </a:rPr>
              <a:t>больш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меньш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Arial"/>
                <a:hlinkClick r:id="rId3" action="ppaction://hlinksldjump"/>
              </a:rPr>
              <a:t>лучш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467400" y="4365720"/>
            <a:ext cx="1433520" cy="171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опробуй ещё раз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8172360" y="59500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Отличн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635280" y="2852640"/>
            <a:ext cx="1855800" cy="22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Деление – это действие, обратно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76360" y="1557360"/>
            <a:ext cx="489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Arial"/>
                <a:hlinkClick r:id="rId1" action="ppaction://hlinksldjump"/>
              </a:rPr>
              <a:t>сложен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af67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af67ff"/>
                </a:solidFill>
                <a:latin typeface="Arial"/>
              </a:rPr>
              <a:t>вычитан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множен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8360" y="4581360"/>
            <a:ext cx="1493640" cy="17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208080"/>
            <a:ext cx="8642160" cy="6100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627280" y="189000"/>
            <a:ext cx="6265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арство математик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00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9640" cy="1581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227640" y="2852640"/>
            <a:ext cx="2400480" cy="28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80000" y="5229360"/>
            <a:ext cx="2087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рифм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6720" y="2060640"/>
            <a:ext cx="19447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11280" y="3213000"/>
            <a:ext cx="1584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Будь внимателен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244000" y="6093000"/>
            <a:ext cx="647640" cy="5745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346" h="21600">
                <a:moveTo>
                  <a:pt x="0" y="0"/>
                </a:moveTo>
                <a:lnTo>
                  <a:pt x="24346" y="0"/>
                </a:lnTo>
                <a:lnTo>
                  <a:pt x="24346" y="21600"/>
                </a:lnTo>
                <a:lnTo>
                  <a:pt x="0" y="21600"/>
                </a:lnTo>
                <a:close/>
              </a:path>
              <a:path fill="lightenLess" w="24346" h="21600">
                <a:moveTo>
                  <a:pt x="0" y="0"/>
                </a:moveTo>
                <a:lnTo>
                  <a:pt x="24346" y="0"/>
                </a:lnTo>
                <a:lnTo>
                  <a:pt x="22946" y="1400"/>
                </a:lnTo>
                <a:lnTo>
                  <a:pt x="1400" y="1400"/>
                </a:lnTo>
                <a:close/>
              </a:path>
              <a:path fill="darken" w="24346" h="21600">
                <a:moveTo>
                  <a:pt x="24346" y="0"/>
                </a:moveTo>
                <a:lnTo>
                  <a:pt x="24346" y="21600"/>
                </a:lnTo>
                <a:lnTo>
                  <a:pt x="22946" y="20200"/>
                </a:lnTo>
                <a:lnTo>
                  <a:pt x="22946" y="1400"/>
                </a:lnTo>
                <a:close/>
              </a:path>
              <a:path fill="darkenLess" w="24346" h="21600">
                <a:moveTo>
                  <a:pt x="24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46" y="20200"/>
                </a:lnTo>
                <a:close/>
              </a:path>
              <a:path fill="lighten" w="24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Умниц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708360" y="2852640"/>
            <a:ext cx="17398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Если делимое разделить на частное, то получит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из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ел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читаем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743880" y="4724280"/>
            <a:ext cx="1373040" cy="16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Не спеши с ответом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44000" y="602136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Хорош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492360" y="2924280"/>
            <a:ext cx="2082960" cy="208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Делить на … нельз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767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4365720"/>
            <a:ext cx="1612800" cy="193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Не верн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17080" y="602136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Ура! Побед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780000" y="2924280"/>
            <a:ext cx="1662120" cy="163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16120" y="942480"/>
            <a:ext cx="4206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 * 30 = 810 :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 : 8 = 280 :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 – 60 = 63 *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00 : Х  = 15 *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76 – Х = 7 *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 : 20 = 420 :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95280" y="4365720"/>
            <a:ext cx="1612800" cy="193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27280" y="4500720"/>
            <a:ext cx="2243160" cy="2357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492360" y="5516640"/>
            <a:ext cx="59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84720" y="4500720"/>
            <a:ext cx="2243160" cy="2357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300720" y="4500720"/>
            <a:ext cx="2243160" cy="2357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1619280" y="4500720"/>
            <a:ext cx="2243160" cy="2357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1116000" y="4500720"/>
            <a:ext cx="2243160" cy="2357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5076720" y="4500720"/>
            <a:ext cx="2243160" cy="2357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718520" y="551664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1080" y="566100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9440" y="5516640"/>
            <a:ext cx="142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34520" y="573408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70520" y="566100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7" action="ppaction://hlinksldjump"/>
          </p:cNvPr>
          <p:cNvSpPr/>
          <p:nvPr/>
        </p:nvSpPr>
        <p:spPr>
          <a:xfrm>
            <a:off x="8317080" y="6093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lastslide"/>
          </p:cNvPr>
          <p:cNvSpPr/>
          <p:nvPr/>
        </p:nvSpPr>
        <p:spPr>
          <a:xfrm>
            <a:off x="179280" y="602136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0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3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8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2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7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6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0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 rot="20859600">
            <a:off x="4932000" y="0"/>
            <a:ext cx="3862440" cy="17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4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рифметика</a:t>
            </a:r>
            <a:endParaRPr b="0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9640" y="4437000"/>
            <a:ext cx="1744920" cy="20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4520" y="55440"/>
            <a:ext cx="9069480" cy="6802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2843280" y="333360"/>
            <a:ext cx="5905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еометр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8360" y="4149720"/>
            <a:ext cx="2093760" cy="25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Узнай фигур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40360" y="2060640"/>
            <a:ext cx="1726920" cy="15843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48360" y="2205000"/>
            <a:ext cx="1297080" cy="1346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4437000"/>
            <a:ext cx="2449440" cy="12970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3789360"/>
            <a:ext cx="1419120" cy="2016000"/>
          </a:xfrm>
          <a:prstGeom prst="rtTriangl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2133720"/>
            <a:ext cx="2305080" cy="1201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32720" y="4221000"/>
            <a:ext cx="1726920" cy="1584360"/>
          </a:xfrm>
          <a:prstGeom prst="hexagon">
            <a:avLst>
              <a:gd name="adj" fmla="val 27249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кова площадь зелёной территор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71640" y="2205000"/>
            <a:ext cx="5905800" cy="3600360"/>
          </a:xfrm>
          <a:prstGeom prst="rect">
            <a:avLst/>
          </a:prstGeom>
          <a:solidFill>
            <a:srgbClr val="0cb4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3645000"/>
            <a:ext cx="230328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93800" y="2948040"/>
            <a:ext cx="11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 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65440" y="162396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 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81440" y="3639960"/>
            <a:ext cx="11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68720" y="3063960"/>
            <a:ext cx="11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 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8244000" y="602136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2093760" cy="25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2411280" y="189000"/>
            <a:ext cx="62661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арство математик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00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9640" cy="158112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endshow"/>
          </p:cNvPr>
          <p:cNvSpPr/>
          <p:nvPr/>
        </p:nvSpPr>
        <p:spPr>
          <a:xfrm>
            <a:off x="4067280" y="2708280"/>
            <a:ext cx="1657080" cy="865080"/>
          </a:xfrm>
          <a:custGeom>
            <a:avLst/>
            <a:gdLst>
              <a:gd name="textAreaLeft" fmla="*/ 55800 w 1657080"/>
              <a:gd name="textAreaRight" fmla="*/ 1601280 w 16570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41367" h="21600">
                <a:moveTo>
                  <a:pt x="0" y="0"/>
                </a:moveTo>
                <a:lnTo>
                  <a:pt x="41367" y="0"/>
                </a:lnTo>
                <a:lnTo>
                  <a:pt x="41367" y="21600"/>
                </a:lnTo>
                <a:lnTo>
                  <a:pt x="0" y="21600"/>
                </a:lnTo>
                <a:close/>
              </a:path>
              <a:path fill="lightenLess" w="41367" h="21600">
                <a:moveTo>
                  <a:pt x="0" y="0"/>
                </a:moveTo>
                <a:lnTo>
                  <a:pt x="41367" y="0"/>
                </a:lnTo>
                <a:lnTo>
                  <a:pt x="39967" y="1400"/>
                </a:lnTo>
                <a:lnTo>
                  <a:pt x="1400" y="1400"/>
                </a:lnTo>
                <a:close/>
              </a:path>
              <a:path fill="darken" w="41367" h="21600">
                <a:moveTo>
                  <a:pt x="41367" y="0"/>
                </a:moveTo>
                <a:lnTo>
                  <a:pt x="41367" y="21600"/>
                </a:lnTo>
                <a:lnTo>
                  <a:pt x="39967" y="20200"/>
                </a:lnTo>
                <a:lnTo>
                  <a:pt x="39967" y="1400"/>
                </a:lnTo>
                <a:close/>
              </a:path>
              <a:path fill="darkenLess" w="41367" h="21600">
                <a:moveTo>
                  <a:pt x="41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67" y="20200"/>
                </a:lnTo>
                <a:close/>
              </a:path>
              <a:path fill="lighten" w="41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 встре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227640" y="3213000"/>
            <a:ext cx="24004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Архимед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7120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дающийся математик и физ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евней Греци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ил более 2000 лет наза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646440" y="4365720"/>
            <a:ext cx="1743120" cy="20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Джордано Бруно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312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тальянский учёный 16 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тверждал , что Зе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ащается вокруг Солнца,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ленная бесконечна,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жизнь возможна не только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35280" y="4292640"/>
            <a:ext cx="1743120" cy="20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Леонардо да Винчи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ликий итальянский учёны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ульптор, живописец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рхитектор и инженер.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708360" y="4437000"/>
            <a:ext cx="1743120" cy="20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55640" y="260280"/>
            <a:ext cx="7632720" cy="427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едлог стоит в моём начале,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конце же загородный дом.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 целое мы все решали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у доски, и за столом.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732720" y="4653000"/>
            <a:ext cx="1743120" cy="20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68360" y="1844640"/>
            <a:ext cx="1871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788000" y="1844640"/>
            <a:ext cx="3816360" cy="17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ач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19640" y="4581360"/>
            <a:ext cx="1618920" cy="188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99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411280" y="14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8000" y="1628640"/>
            <a:ext cx="61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908000" y="1341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8000" y="134136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8028000" y="1341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596000" y="134136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32360" y="765000"/>
            <a:ext cx="431640" cy="505080"/>
          </a:xfrm>
          <a:prstGeom prst="triangle">
            <a:avLst>
              <a:gd name="adj" fmla="val 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932360" y="12679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5518080"/>
            <a:ext cx="611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979640" y="487008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9640" y="5157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79640" y="48704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028000" y="4653000"/>
            <a:ext cx="431640" cy="504720"/>
          </a:xfrm>
          <a:prstGeom prst="triangle">
            <a:avLst>
              <a:gd name="adj" fmla="val 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8028000" y="5157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8000" y="3645000"/>
            <a:ext cx="6120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32360" y="3357720"/>
            <a:ext cx="5032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500360" y="3357720"/>
            <a:ext cx="4316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932360" y="3357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2360" y="2492280"/>
            <a:ext cx="431640" cy="505080"/>
          </a:xfrm>
          <a:prstGeom prst="triangle">
            <a:avLst>
              <a:gd name="adj" fmla="val 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932360" y="29239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8000" y="3573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28000" y="3573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1773360"/>
            <a:ext cx="6120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5661000"/>
            <a:ext cx="611964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3789360"/>
            <a:ext cx="6120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4720" y="285264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60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1964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979640" y="3789360"/>
            <a:ext cx="6048360" cy="287280"/>
            <a:chOff x="1979640" y="3789360"/>
            <a:chExt cx="6048360" cy="287280"/>
          </a:xfrm>
        </p:grpSpPr>
        <p:sp>
          <p:nvSpPr>
            <p:cNvPr id="96" name=""/>
            <p:cNvSpPr/>
            <p:nvPr/>
          </p:nvSpPr>
          <p:spPr>
            <a:xfrm>
              <a:off x="1979640" y="3789360"/>
              <a:ext cx="295272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932360" y="3789360"/>
              <a:ext cx="309564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141440" y="400356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 к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6200" y="4052880"/>
            <a:ext cx="13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= 3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5800" y="400356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15.00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1560" cy="27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6:37:47Z</dcterms:created>
  <dc:creator>Kovhova Tatiana</dc:creator>
  <dc:description/>
  <dc:language>en-US</dc:language>
  <cp:lastModifiedBy>Admin</cp:lastModifiedBy>
  <dcterms:modified xsi:type="dcterms:W3CDTF">2012-02-24T15:04:04Z</dcterms:modified>
  <cp:revision>26</cp:revision>
  <dc:subject/>
  <dc:title>Слайд 1</dc:title>
</cp:coreProperties>
</file>