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.gif" ContentType="image/gif"/>
  <Override PartName="/ppt/media/image7.gif" ContentType="image/gif"/>
  <Override PartName="/ppt/media/image26.jpeg" ContentType="image/jpeg"/>
  <Override PartName="/ppt/media/image6.gif" ContentType="image/gif"/>
  <Override PartName="/ppt/media/image5.gif" ContentType="image/gif"/>
  <Override PartName="/ppt/media/image14.jpeg" ContentType="image/jpeg"/>
  <Override PartName="/ppt/media/image25.jpeg" ContentType="image/jpeg"/>
  <Override PartName="/ppt/media/image24.png" ContentType="image/png"/>
  <Override PartName="/ppt/media/image23.jpeg" ContentType="image/jpeg"/>
  <Override PartName="/ppt/media/image3.gif" ContentType="image/gif"/>
  <Override PartName="/ppt/media/image20.jpeg" ContentType="image/jpeg"/>
  <Override PartName="/ppt/media/image18.png" ContentType="image/png"/>
  <Override PartName="/ppt/media/image15.jpeg" ContentType="image/jpeg"/>
  <Override PartName="/ppt/media/image21.png" ContentType="image/png"/>
  <Override PartName="/ppt/media/image19.png" ContentType="image/png"/>
  <Override PartName="/ppt/media/image17.jpeg" ContentType="image/jpeg"/>
  <Override PartName="/ppt/media/image4.gif" ContentType="image/gif"/>
  <Override PartName="/ppt/media/image1.jpeg" ContentType="image/jpeg"/>
  <Override PartName="/ppt/media/image22.jpeg" ContentType="image/jpeg"/>
  <Override PartName="/ppt/media/image16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4D262-B8AF-41A8-B328-2B0CAA207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B0E6E-C7C9-4D6B-8262-53007C50B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38A75-C70B-47F4-8315-BD802E913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99B3B-1A5D-48CD-B7AE-D89D492AB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7B473-1D57-4525-BB67-73182C112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1275E-7C52-4F76-9E29-F2F19D562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4771D-32C7-4E45-8034-AFDCC7636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C8B17-3E51-4B33-813C-9808915A4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90BD6-196B-4A00-A049-87DAC643B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337D8-6C75-4425-B186-65A6E3752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2C8F4-C917-48BF-BADF-D0A253E2A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5C7A4-CAAA-4538-8AC8-D0878C545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6636D-9560-4256-821D-7D3AEED7DC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lanzone.onet.ua/uploads/posts/2008-09/thumbs/1222603116_1195667787__8_1.jpg" TargetMode="External"/><Relationship Id="rId3" Type="http://schemas.openxmlformats.org/officeDocument/2006/relationships/image" Target="../media/image21.pn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5.gif"/><Relationship Id="rId6" Type="http://schemas.openxmlformats.org/officeDocument/2006/relationships/image" Target="../media/image6.gif"/><Relationship Id="rId7" Type="http://schemas.openxmlformats.org/officeDocument/2006/relationships/image" Target="../media/image7.gif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371600" y="1143000"/>
            <a:ext cx="6324480" cy="403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ела,</a:t>
            </a:r>
            <a:endParaRPr b="0" lang="en-US" sz="4000" spc="1" strike="noStrike">
              <a:ln w="19080">
                <a:solidFill>
                  <a:srgbClr val="ffff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ещества,</a:t>
            </a:r>
            <a:endParaRPr b="0" lang="en-US" sz="4000" spc="1" strike="noStrike">
              <a:ln w="19080">
                <a:solidFill>
                  <a:srgbClr val="ffff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частицы.</a:t>
            </a:r>
            <a:endParaRPr b="0" lang="en-US" sz="4000" spc="1" strike="noStrike">
              <a:ln w="19080">
                <a:solidFill>
                  <a:srgbClr val="ffff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380880"/>
            <a:ext cx="73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рок окружающего мира в 1 класс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6" descr="MPj04068760000[1]"/>
          <p:cNvPicPr/>
          <p:nvPr/>
        </p:nvPicPr>
        <p:blipFill>
          <a:blip r:embed="rId2"/>
          <a:stretch/>
        </p:blipFill>
        <p:spPr>
          <a:xfrm>
            <a:off x="228600" y="457200"/>
            <a:ext cx="5334120" cy="46245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" descr=""/>
          <p:cNvPicPr/>
          <p:nvPr/>
        </p:nvPicPr>
        <p:blipFill>
          <a:blip r:embed="rId3"/>
          <a:stretch/>
        </p:blipFill>
        <p:spPr>
          <a:xfrm>
            <a:off x="3886200" y="2057400"/>
            <a:ext cx="4842000" cy="72262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380880" y="457200"/>
            <a:ext cx="8458200" cy="5952960"/>
          </a:xfrm>
          <a:prstGeom prst="rect">
            <a:avLst/>
          </a:prstGeom>
          <a:ln w="57240">
            <a:solidFill>
              <a:srgbClr val="808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3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3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17" descr="Картинка 1 из 132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962520" y="304920"/>
            <a:ext cx="4743360" cy="44780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4" descr="IMGA0651"/>
          <p:cNvPicPr/>
          <p:nvPr/>
        </p:nvPicPr>
        <p:blipFill>
          <a:blip r:embed="rId4"/>
          <a:stretch/>
        </p:blipFill>
        <p:spPr>
          <a:xfrm>
            <a:off x="609480" y="609480"/>
            <a:ext cx="2590920" cy="57150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3" descr="C:\Documents and Settings\Александр\Рабочий стол\металлы\273606293.jpg"/>
          <p:cNvPicPr/>
          <p:nvPr/>
        </p:nvPicPr>
        <p:blipFill>
          <a:blip r:embed="rId5"/>
          <a:stretch/>
        </p:blipFill>
        <p:spPr>
          <a:xfrm>
            <a:off x="380880" y="304920"/>
            <a:ext cx="8458200" cy="599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0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5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0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533520" y="457200"/>
            <a:ext cx="5790960" cy="397044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3657600" y="2438280"/>
            <a:ext cx="5178600" cy="38894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3" descr=""/>
          <p:cNvPicPr/>
          <p:nvPr/>
        </p:nvPicPr>
        <p:blipFill>
          <a:blip r:embed="rId4"/>
          <a:stretch/>
        </p:blipFill>
        <p:spPr>
          <a:xfrm>
            <a:off x="457200" y="228600"/>
            <a:ext cx="8381880" cy="626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0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7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2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7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371600" y="1219320"/>
            <a:ext cx="66294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comic"/>
              </a:rPr>
              <a:t>Пуленко  Елена  Владимиров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comic"/>
              </a:rPr>
              <a:t>    </a:t>
            </a:r>
            <a:r>
              <a:rPr b="0" lang="ru-RU" sz="3600" spc="-1" strike="noStrike">
                <a:solidFill>
                  <a:srgbClr val="333399"/>
                </a:solidFill>
                <a:latin typeface="comic"/>
              </a:rPr>
              <a:t>учитель начальных класс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comic"/>
              </a:rPr>
              <a:t>ОСШИ ГоУ «Балтийский берег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comic"/>
              </a:rPr>
              <a:t>         </a:t>
            </a:r>
            <a:r>
              <a:rPr b="0" lang="ru-RU" sz="3600" spc="-1" strike="noStrike">
                <a:solidFill>
                  <a:srgbClr val="333399"/>
                </a:solidFill>
                <a:latin typeface="comic"/>
              </a:rPr>
              <a:t>г. Санкт - Петербур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2819520" y="995400"/>
            <a:ext cx="3580920" cy="2798640"/>
            <a:chOff x="2819520" y="995400"/>
            <a:chExt cx="3580920" cy="2798640"/>
          </a:xfrm>
        </p:grpSpPr>
        <p:sp>
          <p:nvSpPr>
            <p:cNvPr id="44" name=""/>
            <p:cNvSpPr txBox="1"/>
            <p:nvPr/>
          </p:nvSpPr>
          <p:spPr>
            <a:xfrm>
              <a:off x="2819520" y="1828800"/>
              <a:ext cx="3580920" cy="1965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Тела.</a:t>
              </a:r>
              <a:endPara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689440" y="995400"/>
              <a:ext cx="3924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333399"/>
                  </a:solidFill>
                  <a:latin typeface="Arial"/>
                  <a:ea typeface="Arial"/>
                </a:rPr>
                <a:t>/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227520" y="4876920"/>
            <a:ext cx="8763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се предметы, окружающие нас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301560" y="152280"/>
            <a:ext cx="2477520" cy="131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c0000"/>
                </a:solidFill>
                <a:latin typeface="comic"/>
              </a:rPr>
              <a:t>Тела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32560" y="3124080"/>
            <a:ext cx="4138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Arial"/>
              </a:rPr>
              <a:t>естественны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98560" y="3124080"/>
            <a:ext cx="4399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искусственны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523880"/>
            <a:ext cx="1905120" cy="167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438280" y="1523880"/>
            <a:ext cx="1981440" cy="167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609480" y="3986280"/>
            <a:ext cx="1143000" cy="10206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2209680" y="3962520"/>
            <a:ext cx="1219320" cy="12189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228600" y="5029200"/>
            <a:ext cx="1077840" cy="15526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5"/>
          <a:stretch/>
        </p:blipFill>
        <p:spPr>
          <a:xfrm>
            <a:off x="1371600" y="5029200"/>
            <a:ext cx="1333440" cy="1600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6"/>
          <a:stretch/>
        </p:blipFill>
        <p:spPr>
          <a:xfrm>
            <a:off x="7391520" y="5334120"/>
            <a:ext cx="828720" cy="13046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7"/>
          <a:stretch/>
        </p:blipFill>
        <p:spPr>
          <a:xfrm>
            <a:off x="4648320" y="3886200"/>
            <a:ext cx="1466640" cy="14112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8"/>
          <a:stretch/>
        </p:blipFill>
        <p:spPr>
          <a:xfrm>
            <a:off x="4419720" y="5257800"/>
            <a:ext cx="2057400" cy="1371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9"/>
          <a:stretch/>
        </p:blipFill>
        <p:spPr>
          <a:xfrm>
            <a:off x="6629400" y="3886200"/>
            <a:ext cx="1962000" cy="14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000"/>
                            </p:stCondLst>
                            <p:childTnLst>
                              <p:par>
                                <p:cTn id="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000"/>
                            </p:stCondLst>
                            <p:childTnLst>
                              <p:par>
                                <p:cTn id="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500"/>
                            </p:stCondLst>
                            <p:childTnLst>
                              <p:par>
                                <p:cTn id="4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500"/>
                            </p:stCondLst>
                            <p:childTnLst>
                              <p:par>
                                <p:cTn id="6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838080" y="3352680"/>
            <a:ext cx="4267440" cy="32004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990720" y="1600200"/>
            <a:ext cx="3124080" cy="1353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5638680" y="3657600"/>
            <a:ext cx="2781360" cy="27813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-12600" y="366840"/>
            <a:ext cx="9056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0000"/>
                </a:solidFill>
                <a:latin typeface="comic"/>
              </a:rPr>
              <a:t>Небесные, космические тела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5"/>
          <a:stretch/>
        </p:blipFill>
        <p:spPr>
          <a:xfrm>
            <a:off x="5562720" y="1447920"/>
            <a:ext cx="2971800" cy="192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2362320" y="533520"/>
            <a:ext cx="4572000" cy="257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еществ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6" name=""/>
          <p:cNvSpPr/>
          <p:nvPr/>
        </p:nvSpPr>
        <p:spPr>
          <a:xfrm>
            <a:off x="909720" y="3398760"/>
            <a:ext cx="7226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То, из чего состоят тела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609480" y="304920"/>
          <a:ext cx="8153640" cy="6172200"/>
        </p:xfrm>
        <a:graphic>
          <a:graphicData uri="http://schemas.openxmlformats.org/drawingml/2006/table">
            <a:tbl>
              <a:tblPr/>
              <a:tblGrid>
                <a:gridCol w="4077000"/>
                <a:gridCol w="4076640"/>
              </a:tblGrid>
              <a:tr h="85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      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СТАКАН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     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СТЕКЛО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333399"/>
                          </a:solidFill>
                          <a:latin typeface="Arial Black"/>
                        </a:rPr>
                        <a:t>       </a:t>
                      </a:r>
                      <a:r>
                        <a:rPr b="0" lang="en-US" sz="3200" spc="-1" strike="noStrike">
                          <a:solidFill>
                            <a:srgbClr val="333399"/>
                          </a:solidFill>
                          <a:latin typeface="Arial Black"/>
                        </a:rPr>
                        <a:t>НОЖНИЦЫ               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333399"/>
                          </a:solidFill>
                          <a:latin typeface="Arial Black"/>
                        </a:rPr>
                        <a:t>        </a:t>
                      </a:r>
                      <a:r>
                        <a:rPr b="0" lang="en-US" sz="3200" spc="-1" strike="noStrike">
                          <a:solidFill>
                            <a:srgbClr val="333399"/>
                          </a:solidFill>
                          <a:latin typeface="Arial Black"/>
                        </a:rPr>
                        <a:t>СТАЛЬ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       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МЯЧ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     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РЕЗИН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333399"/>
                          </a:solidFill>
                          <a:latin typeface="Arial Black"/>
                        </a:rPr>
                        <a:t>          </a:t>
                      </a:r>
                      <a:r>
                        <a:rPr b="0" lang="en-US" sz="3200" spc="-1" strike="noStrike">
                          <a:solidFill>
                            <a:srgbClr val="333399"/>
                          </a:solidFill>
                          <a:latin typeface="Arial Black"/>
                        </a:rPr>
                        <a:t>РОС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333399"/>
                          </a:solidFill>
                          <a:latin typeface="Arial Black"/>
                        </a:rPr>
                        <a:t>         </a:t>
                      </a:r>
                      <a:r>
                        <a:rPr b="0" lang="en-US" sz="3200" spc="-1" strike="noStrike">
                          <a:solidFill>
                            <a:srgbClr val="333399"/>
                          </a:solidFill>
                          <a:latin typeface="Arial Black"/>
                        </a:rPr>
                        <a:t>ВОД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    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ТЕТРАДЬ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     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БУМАГ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333399"/>
                          </a:solidFill>
                          <a:latin typeface="Arial Black"/>
                        </a:rPr>
                        <a:t>          </a:t>
                      </a:r>
                      <a:r>
                        <a:rPr b="0" lang="en-US" sz="3200" spc="-1" strike="noStrike">
                          <a:solidFill>
                            <a:srgbClr val="333399"/>
                          </a:solidFill>
                          <a:latin typeface="Arial Black"/>
                        </a:rPr>
                        <a:t>ПАРТ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333399"/>
                          </a:solidFill>
                          <a:latin typeface="Arial Black"/>
                        </a:rPr>
                        <a:t>        </a:t>
                      </a:r>
                      <a:r>
                        <a:rPr b="0" lang="en-US" sz="3200" spc="-1" strike="noStrike">
                          <a:solidFill>
                            <a:srgbClr val="333399"/>
                          </a:solidFill>
                          <a:latin typeface="Arial Black"/>
                        </a:rPr>
                        <a:t>ДЕРЕВО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" name=""/>
          <p:cNvSpPr/>
          <p:nvPr/>
        </p:nvSpPr>
        <p:spPr>
          <a:xfrm>
            <a:off x="1575720" y="304920"/>
            <a:ext cx="1678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0000"/>
                </a:solidFill>
                <a:latin typeface="comic"/>
              </a:rPr>
              <a:t>ТЕЛ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89880" y="304920"/>
            <a:ext cx="3398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0000"/>
                </a:solidFill>
                <a:latin typeface="comic"/>
              </a:rPr>
              <a:t>ВЕЩЕСТВ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646920" y="1752480"/>
            <a:ext cx="2549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Твёрды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357240" y="1752480"/>
            <a:ext cx="2312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Жидк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03200" y="3983040"/>
            <a:ext cx="4114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Газообразны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437920" y="228600"/>
            <a:ext cx="4725000" cy="3657600"/>
            <a:chOff x="2437920" y="228600"/>
            <a:chExt cx="4725000" cy="3657600"/>
          </a:xfrm>
        </p:grpSpPr>
        <p:sp>
          <p:nvSpPr>
            <p:cNvPr id="74" name=""/>
            <p:cNvSpPr/>
            <p:nvPr/>
          </p:nvSpPr>
          <p:spPr>
            <a:xfrm>
              <a:off x="3164400" y="228600"/>
              <a:ext cx="30916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cc0000"/>
                  </a:solidFill>
                  <a:latin typeface="Arial Black"/>
                </a:rPr>
                <a:t>Вещества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486400" y="990720"/>
              <a:ext cx="1676520" cy="914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>
              <a:off x="2437920" y="990720"/>
              <a:ext cx="1600200" cy="761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724280" y="1600200"/>
              <a:ext cx="0" cy="228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647080" y="914400"/>
            <a:ext cx="4405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Arial Black"/>
              </a:rPr>
              <a:t>МОЛЕКУЛ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135440" y="2057400"/>
            <a:ext cx="6523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(МАЛЕНЬКАЯ МАССОЧКА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3505320" y="3048120"/>
            <a:ext cx="21510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9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9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240720" y="228600"/>
            <a:ext cx="3091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0000"/>
                </a:solidFill>
                <a:latin typeface="Arial Black"/>
              </a:rPr>
              <a:t>Веществ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46920" y="1752480"/>
            <a:ext cx="2549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Твёрды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57240" y="1752480"/>
            <a:ext cx="2312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Жидк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03200" y="3983040"/>
            <a:ext cx="4114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Газообразны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410080" y="990720"/>
            <a:ext cx="167652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2437920" y="990720"/>
            <a:ext cx="1600200" cy="7617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724280" y="16002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228600" y="2438280"/>
            <a:ext cx="3962520" cy="1676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5029200" y="2438280"/>
            <a:ext cx="3935520" cy="1676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" name="" descr=""/>
          <p:cNvPicPr/>
          <p:nvPr/>
        </p:nvPicPr>
        <p:blipFill>
          <a:blip r:embed="rId4"/>
          <a:stretch/>
        </p:blipFill>
        <p:spPr>
          <a:xfrm>
            <a:off x="2590920" y="4800600"/>
            <a:ext cx="4267080" cy="1676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6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2-02-24T15:43:30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