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E7E-A7B4-4968-BD8D-01028058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3C6-A272-413F-B8EA-9864DC6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43B-BDF6-4874-B16F-8208EBC9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FA9-BDFF-4D1B-BCCD-73EAE7FF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7C20-B65F-4D3F-B088-C4FEE75F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A9E-8851-49DE-9012-64700F6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A322-9FEE-452B-9E36-BD7DFE6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5C22-9BC9-49E2-9AD1-2EB5E64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157-F426-4A01-A497-116628D5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365-C9B0-455C-8199-E612331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E87-F36F-4A0F-BA0E-942B7F1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AE1-5650-49D7-8929-95821D6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0437-DBA8-4D43-AB8C-84B300B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50E-6B0E-44A9-9636-40B37F1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310-06D3-4823-8051-24C89B7E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DC11-DDA2-4578-8C0C-A4825623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EB1-62E5-43DB-9567-7BFE6C4A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B76-030D-446B-8C04-41663F39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152-83B7-4BE7-B26C-419AAF68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F70-F8AC-4731-82F5-F91CC87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569-A5AD-4194-8253-DFA59A3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FA8-7FD7-4307-BB20-28032517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C2E-7BBA-4D45-B5ED-0AAA40C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A44-33D5-41FD-ADE3-0720858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3A7-2C5D-4165-B725-FB843ED6EE1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87CD-2F25-4895-9236-0717E4E02A9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977400"/>
            <a:ext cx="619272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685800" y="68580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ифференциа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ставок 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едл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714680" y="5214960"/>
            <a:ext cx="69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Презентацию подготовила учитель-логопе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МОУСОШ №2  г. Пыть-Ях                                                   Кагарлыцкая Татьяна Леонидовн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Продолжи</a:t>
            </a:r>
            <a:r>
              <a:rPr b="0" lang="ru-RU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ff"/>
                </a:solidFill>
                <a:latin typeface="Verdana"/>
              </a:rPr>
              <a:t>предложение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50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Я люблю хлеб с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збушка находится за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ама испекла пирог с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Цветы стоят 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ы любите гулять по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635280" y="1557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аслом, сыром, вареньем, мёдом, колбасой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219640" y="2205000"/>
            <a:ext cx="46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(лесом, деревом, садом, школой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219640" y="328464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капустой, яблоками, грибами, мясом, картошкой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780000" y="422100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(вазе, банке, горшке, стакане, бутылке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716360" y="5229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(лесу, парку, полю, тротуару, траве, росе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Verdana"/>
              </a:rPr>
              <a:t>Заполните пропуск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Предлоги со словами                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пишутся____________,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а приставки   ____________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4211640" y="220500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здельно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4140360" y="3645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литно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WordArt 4"/>
          <p:cNvSpPr txBox="1"/>
          <p:nvPr/>
        </p:nvSpPr>
        <p:spPr>
          <a:xfrm rot="20745600">
            <a:off x="971280" y="980640"/>
            <a:ext cx="7097760" cy="18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9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9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4437000"/>
            <a:ext cx="822960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споминайте обязательно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Что учили на занятии</a:t>
            </a: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ПРЕДЛО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360" y="1219320"/>
            <a:ext cx="81532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едлог это -  часть(речи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ова) _________. Между предлогом и следующим за ним словом (можно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ельзя)   _____________ вставить вопрос или другое сло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476360" y="4054320"/>
            <a:ext cx="801216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Река Ока впадает в Волгу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</a:rPr>
              <a:t>Река Ока впадает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 реку</a:t>
            </a:r>
            <a:r>
              <a:rPr b="1" i="1" lang="ru-RU" sz="2800" spc="-1" strike="noStrike">
                <a:solidFill>
                  <a:srgbClr val="006699"/>
                </a:solidFill>
                <a:latin typeface="Times New Roman"/>
              </a:rPr>
              <a:t> Волгу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ПРИСТАВ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66760" y="16765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иставка – это часть (речи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лова) __________         и  на письме её (нельзя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ожно) ___________ отделять корн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50920" y="4365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летел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лыла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шагнул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лез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Freeform 6"/>
          <p:cNvSpPr/>
          <p:nvPr/>
        </p:nvSpPr>
        <p:spPr>
          <a:xfrm>
            <a:off x="395280" y="443700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28" h="112">
                <a:moveTo>
                  <a:pt x="0" y="16"/>
                </a:moveTo>
                <a:cubicBezTo>
                  <a:pt x="124" y="8"/>
                  <a:pt x="248" y="0"/>
                  <a:pt x="288" y="16"/>
                </a:cubicBezTo>
                <a:cubicBezTo>
                  <a:pt x="328" y="32"/>
                  <a:pt x="284" y="72"/>
                  <a:pt x="240" y="112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2340000" y="4365720"/>
            <a:ext cx="685800" cy="241200"/>
          </a:xfrm>
          <a:custGeom>
            <a:avLst/>
            <a:gdLst>
              <a:gd name="textAreaLeft" fmla="*/ 0 w 685800"/>
              <a:gd name="textAreaRight" fmla="*/ 686160 w 6858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84" h="120">
                <a:moveTo>
                  <a:pt x="0" y="16"/>
                </a:moveTo>
                <a:cubicBezTo>
                  <a:pt x="144" y="8"/>
                  <a:pt x="288" y="0"/>
                  <a:pt x="336" y="16"/>
                </a:cubicBezTo>
                <a:cubicBezTo>
                  <a:pt x="384" y="32"/>
                  <a:pt x="288" y="104"/>
                  <a:pt x="288" y="112"/>
                </a:cubicBezTo>
                <a:cubicBezTo>
                  <a:pt x="288" y="120"/>
                  <a:pt x="312" y="92"/>
                  <a:pt x="336" y="64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4643280" y="4437000"/>
            <a:ext cx="711360" cy="228600"/>
          </a:xfrm>
          <a:custGeom>
            <a:avLst/>
            <a:gdLst>
              <a:gd name="textAreaLeft" fmla="*/ 0 w 711360"/>
              <a:gd name="textAreaRight" fmla="*/ 711720 w 71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48" h="112">
                <a:moveTo>
                  <a:pt x="0" y="16"/>
                </a:moveTo>
                <a:cubicBezTo>
                  <a:pt x="160" y="8"/>
                  <a:pt x="320" y="0"/>
                  <a:pt x="384" y="16"/>
                </a:cubicBezTo>
                <a:cubicBezTo>
                  <a:pt x="448" y="32"/>
                  <a:pt x="384" y="104"/>
                  <a:pt x="384" y="112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7164360" y="4437000"/>
            <a:ext cx="355680" cy="177840"/>
          </a:xfrm>
          <a:custGeom>
            <a:avLst/>
            <a:gdLst>
              <a:gd name="textAreaLeft" fmla="*/ 0 w 355680"/>
              <a:gd name="textAreaRight" fmla="*/ 356040 w 3556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24" h="112">
                <a:moveTo>
                  <a:pt x="0" y="16"/>
                </a:moveTo>
                <a:cubicBezTo>
                  <a:pt x="80" y="8"/>
                  <a:pt x="160" y="0"/>
                  <a:pt x="192" y="16"/>
                </a:cubicBezTo>
                <a:cubicBezTo>
                  <a:pt x="224" y="32"/>
                  <a:pt x="192" y="96"/>
                  <a:pt x="192" y="112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Verdana"/>
              </a:rPr>
              <a:t>ВЫДЕЛИ</a:t>
            </a:r>
            <a:r>
              <a:rPr b="0" lang="ru-RU" sz="4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9900"/>
                </a:solidFill>
                <a:latin typeface="Verdana"/>
              </a:rPr>
              <a:t>ПРИСТАВК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Обозначьте в словах сначала корень,затем приставку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0" y="227664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шёл           зашёл         вышел              пришёл      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нёс            наклеил       вынес               подошёл    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бежал       забежал       Выбежал         прибежал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ереход         отдать        помолчать        налетя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0600" y="144360"/>
            <a:ext cx="816948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216036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шёл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ё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ежа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67480" indent="-2674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ер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од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484360" y="2060640"/>
            <a:ext cx="215892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шё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еи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бежа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т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дат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788000" y="1773360"/>
            <a:ext cx="208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ы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ше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ы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не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ы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бежа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олчат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948360" y="1773360"/>
            <a:ext cx="20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шё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до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шё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бежа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летя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WordArt 7"/>
          <p:cNvSpPr txBox="1"/>
          <p:nvPr/>
        </p:nvSpPr>
        <p:spPr>
          <a:xfrm>
            <a:off x="1835280" y="260280"/>
            <a:ext cx="511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зьмите нужные предлоги.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ставьте словосочетания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зобрался                   гор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цепился                   скатер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брести                     гор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ехали                      сел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цепился                     ру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332000" y="1628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      В Ы     ВО     ИЗ     ДО     О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З    В     О     НА     С     З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3348000" y="3284640"/>
            <a:ext cx="914400" cy="50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4211640" y="3933720"/>
            <a:ext cx="91440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3059280" y="4437000"/>
            <a:ext cx="91440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4356000" y="4941720"/>
            <a:ext cx="914400" cy="503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3203640" y="5516640"/>
            <a:ext cx="914400" cy="503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6156360" y="3284640"/>
            <a:ext cx="57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6732720" y="4365720"/>
            <a:ext cx="57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Превратите слова с приставками, в слова с предлогами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4321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Verdana"/>
              </a:rPr>
              <a:t>Н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укавная повяз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Verdana"/>
              </a:rPr>
              <a:t>Н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енный календар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Verdana"/>
              </a:rPr>
              <a:t>Под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емный перехо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Verdana"/>
              </a:rPr>
              <a:t>Под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дные камн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Verdana"/>
              </a:rPr>
              <a:t>Пред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ссветный ча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580000" y="1916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овязк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рукав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6400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алендарь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тен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148360" y="393372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ереход п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землё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219640" y="5013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амн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д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од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076720" y="59500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ча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еред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рассветом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>
            <a:off x="4572000" y="2205000"/>
            <a:ext cx="647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4643280" y="3213000"/>
            <a:ext cx="6494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427640" y="4292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4284720" y="5229360"/>
            <a:ext cx="863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4500720" y="6237360"/>
            <a:ext cx="7189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Verdana"/>
              </a:rPr>
              <a:t>Напишите без скоб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дка (от)плыла (от)берег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лнце (за)шло (за)туч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По)дорожкам сада (по)бежали мутные ручей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На)конверте (на)писан точный адре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С)горы (с)бегают пото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дк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т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ыл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т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берег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лнц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ло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туч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дорожкам сад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ежали мутные ручей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конверт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исан точный адре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горы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егают пото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чальная школа</cp:lastModifiedBy>
  <dcterms:modified xsi:type="dcterms:W3CDTF">2012-02-24T10:01:18Z</dcterms:modified>
  <cp:revision>9</cp:revision>
  <dc:subject/>
  <dc:title>PowerPoint Presentation</dc:title>
</cp:coreProperties>
</file>