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C142-A81F-456F-BE0D-65AD2B8A2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5A38-25AE-4D61-8A97-806673B6C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A3B4-1113-441D-8FDA-DF5AD4052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239B-1460-4670-BE2C-FD909756C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A16BA-5A13-4D9E-806F-A61B47DD1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3D3BA-E89C-43A5-AA66-981DC39F7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43BA5-B98D-49B8-A568-3DBEBB451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1DD63-959B-40A8-B0E7-66D5A6FC9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F686C-F49E-404B-B276-70A335C2D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90BC0-35F1-4A55-983B-AC64CFC11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8ECA3-4872-424D-90E1-777989127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A994-52BD-4C16-A45C-CEE34FFC4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06461-630C-4CEE-B7D6-7140A02BB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6F6D9-9A4A-4737-B975-50EA9A68B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E9A98-7546-4856-99E3-6E41AFAD0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710DB-1C78-4AF7-B5EA-532579E06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1216E-D386-48F0-969C-AF91DAE6D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1FDA-9398-476C-B4F0-E040F6671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F335-F6B6-474D-B180-2BC4239B7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3F83-6957-417D-8126-CD9DD893D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157C-B421-4D1C-A47E-154E4A430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9A49-5E9B-45F3-ABDB-36E834756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443E-36EB-4F3B-8145-4C913B509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BABD-A726-4BBA-A810-7FB75BD5F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8381D-1305-4143-827D-695E169813B8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AAA1E-62EA-4BD9-856E-8E6432C2567D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10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8500" spc="-1" strike="noStrike">
                <a:solidFill>
                  <a:srgbClr val="000000"/>
                </a:solidFill>
                <a:latin typeface="Times New Roman"/>
              </a:rPr>
              <a:t>РАСЦВЕТ ДЕМОКРАТИИ                В   АФИНАХ</a:t>
            </a:r>
            <a:r>
              <a:rPr b="0" lang="ru-RU" sz="96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родное собрание в Афин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7" descr="F37D684F"/>
          <p:cNvPicPr/>
          <p:nvPr/>
        </p:nvPicPr>
        <p:blipFill>
          <a:blip r:embed="rId1"/>
          <a:stretch/>
        </p:blipFill>
        <p:spPr>
          <a:xfrm>
            <a:off x="395280" y="1628640"/>
            <a:ext cx="820908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РИКЛ – </a:t>
            </a:r>
            <a:r>
              <a:rPr b="0" lang="ru-RU" sz="3900" spc="-1" strike="noStrike">
                <a:solidFill>
                  <a:srgbClr val="000000"/>
                </a:solidFill>
                <a:latin typeface="Arial"/>
              </a:rPr>
              <a:t>первый стратег (14 лет)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95DE5E15"/>
          <p:cNvPicPr/>
          <p:nvPr/>
        </p:nvPicPr>
        <p:blipFill>
          <a:blip r:embed="rId1"/>
          <a:stretch/>
        </p:blipFill>
        <p:spPr>
          <a:xfrm>
            <a:off x="2987640" y="1484280"/>
            <a:ext cx="34560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ремя правления Перикла – «Век Перикла» (афинская демократия достигла наивысшего расцвета).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3139920"/>
            <a:ext cx="8229600" cy="29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Перикл – Олимпиец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Город – порт </a:t>
            </a:r>
            <a:r>
              <a:rPr b="1" i="1" lang="ru-RU" sz="3600" spc="-1" strike="noStrike">
                <a:solidFill>
                  <a:srgbClr val="000000"/>
                </a:solidFill>
                <a:latin typeface="Tahoma"/>
              </a:rPr>
              <a:t>Пирей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ные стены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6 км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95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478 год до н.э. –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юз греческих полисов</a:t>
            </a:r>
            <a:br>
              <a:rPr sz="3600"/>
            </a:b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Казна –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- на о.Делос в Эгейском море;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- в Афинах (за 5 лет до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окончания греко-персидских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войн)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з равноправного союза полисов Афинский морской союз превратился в Афинскую морскую державу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ражданские права в Афин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Имел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Полноправные граждан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Не имел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Женщины и дети (юноши до 20 лет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Метеки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свободные люди, не имевшие афинского гражданства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Раб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38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Полисы, где у власти находились аристократы и олигархи, объединились в </a:t>
            </a: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Пелопонесский союз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во главе со Спартой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Путь Афин к демократии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11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Народное собрание в Афинах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11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«Век Перикла»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11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Афинская Морская держава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24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емократия – «власть народа».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рвая демократия в мире – афинская.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ивысший расцвет демократии наступил в конце греко-персидских войн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31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Народное собрание</a:t>
            </a: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созывалось каждые 8-9 дней и контролировало всё происходящее в государстве.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6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Diagram 19"/>
          <p:cNvGrpSpPr/>
          <p:nvPr/>
        </p:nvGrpSpPr>
        <p:grpSpPr>
          <a:xfrm>
            <a:off x="691200" y="330120"/>
            <a:ext cx="7972920" cy="5814360"/>
            <a:chOff x="691200" y="330120"/>
            <a:chExt cx="7972920" cy="5814360"/>
          </a:xfrm>
        </p:grpSpPr>
        <p:sp>
          <p:nvSpPr>
            <p:cNvPr id="159" name="_s1028"/>
            <p:cNvSpPr/>
            <p:nvPr/>
          </p:nvSpPr>
          <p:spPr>
            <a:xfrm flipH="1" flipV="1">
              <a:off x="2705760" y="2975760"/>
              <a:ext cx="991800" cy="244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0" name="_s1029"/>
            <p:cNvSpPr/>
            <p:nvPr/>
          </p:nvSpPr>
          <p:spPr>
            <a:xfrm>
              <a:off x="691200" y="1955520"/>
              <a:ext cx="2067480" cy="156420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ahoma"/>
                </a:rPr>
                <a:t>Распоряжа-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ahoma"/>
                </a:rPr>
                <a:t>лось 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ahoma"/>
                </a:rPr>
                <a:t>казной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1" name="_s1030"/>
            <p:cNvSpPr/>
            <p:nvPr/>
          </p:nvSpPr>
          <p:spPr>
            <a:xfrm flipH="1">
              <a:off x="3459600" y="4089960"/>
              <a:ext cx="613440" cy="637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" name="_s1031"/>
            <p:cNvSpPr/>
            <p:nvPr/>
          </p:nvSpPr>
          <p:spPr>
            <a:xfrm>
              <a:off x="1822320" y="4579920"/>
              <a:ext cx="2068200" cy="156456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Утверждало 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мирные 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договоры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" name="_s1032"/>
            <p:cNvSpPr/>
            <p:nvPr/>
          </p:nvSpPr>
          <p:spPr>
            <a:xfrm>
              <a:off x="5281920" y="4089960"/>
              <a:ext cx="614160" cy="637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" name="_s1033"/>
            <p:cNvSpPr/>
            <p:nvPr/>
          </p:nvSpPr>
          <p:spPr>
            <a:xfrm>
              <a:off x="5470920" y="4577760"/>
              <a:ext cx="2068200" cy="156420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Объявляло 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войну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" name="_s1034"/>
            <p:cNvSpPr/>
            <p:nvPr/>
          </p:nvSpPr>
          <p:spPr>
            <a:xfrm flipV="1">
              <a:off x="5657400" y="2975760"/>
              <a:ext cx="991800" cy="244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" name="_s1035"/>
            <p:cNvSpPr/>
            <p:nvPr/>
          </p:nvSpPr>
          <p:spPr>
            <a:xfrm>
              <a:off x="6596640" y="1953360"/>
              <a:ext cx="2067480" cy="156420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Принимало</a:t>
              </a: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законы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7" name="_s1036"/>
            <p:cNvSpPr/>
            <p:nvPr/>
          </p:nvSpPr>
          <p:spPr>
            <a:xfrm flipV="1">
              <a:off x="4678200" y="1891800"/>
              <a:ext cx="0" cy="788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8" name="_s1037"/>
            <p:cNvSpPr/>
            <p:nvPr/>
          </p:nvSpPr>
          <p:spPr>
            <a:xfrm>
              <a:off x="3645360" y="330120"/>
              <a:ext cx="2067480" cy="156420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Выбирало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стратега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" name="_s1038"/>
            <p:cNvSpPr/>
            <p:nvPr/>
          </p:nvSpPr>
          <p:spPr>
            <a:xfrm>
              <a:off x="3645360" y="2680560"/>
              <a:ext cx="2067480" cy="1564200"/>
            </a:xfrm>
            <a:prstGeom prst="ellipse">
              <a:avLst/>
            </a:prstGeom>
            <a:solidFill>
              <a:srgbClr val="99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Функции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народного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собрания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Голосов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Поднятием рук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мешками или глиняными черепкам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ahoma"/>
              </a:rPr>
              <a:t>Остракизм –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собое голосование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 помощью остраконов (черепков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ревнегреческие острако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BF3C34BB"/>
          <p:cNvPicPr/>
          <p:nvPr/>
        </p:nvPicPr>
        <p:blipFill>
          <a:blip r:embed="rId1"/>
          <a:stretch/>
        </p:blipFill>
        <p:spPr>
          <a:xfrm>
            <a:off x="1476360" y="1884240"/>
            <a:ext cx="691200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олосование  по  жребию</a:t>
            </a:r>
            <a:br>
              <a:rPr sz="44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етоны для голосования по жребию. Жетон с отверстием означал «виновен»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7" descr="1EA28737"/>
          <p:cNvPicPr/>
          <p:nvPr/>
        </p:nvPicPr>
        <p:blipFill>
          <a:blip r:embed="rId1"/>
          <a:stretch/>
        </p:blipFill>
        <p:spPr>
          <a:xfrm>
            <a:off x="2268360" y="2997360"/>
            <a:ext cx="4896000" cy="36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88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- Народное собрание – свобода слова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- Важные в государстве должностные лица – 10 стратегов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- Главный – первый стратег (армия, флот, военное строительство и отношения Афин с другими государствами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3T16:35:54Z</dcterms:created>
  <dc:creator>User</dc:creator>
  <dc:description/>
  <dc:language>en-US</dc:language>
  <cp:lastModifiedBy>комп</cp:lastModifiedBy>
  <dcterms:modified xsi:type="dcterms:W3CDTF">2012-01-25T06:21:47Z</dcterms:modified>
  <cp:revision>10</cp:revision>
  <dc:subject/>
  <dc:title>   РАСЦВЕТ ДЕМОКРАТИИ             В АФИНАХ  </dc:title>
</cp:coreProperties>
</file>