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064-74C6-470C-8B51-AC0956F1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4F1-723D-4FAE-B1D6-0443C933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B53-D14E-4524-A07F-4B3E347F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9DD-ABFC-4A53-9C03-8E365406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80743-E670-4793-97EC-687BE693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C2948-6B98-46E7-ABC4-F1346776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F47EB-8BF5-46DB-8B7E-A22E0738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F2506-719F-4839-A745-CF568DBA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DC239-46AD-4469-AB7A-557BF3E9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E8803-514F-492D-8ACB-DDBCDF1B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E77BA-3B31-43CA-98CE-39D3F8CE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BDE-438F-4866-AC3F-3AE413F3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E8DA8-B3C5-4F7E-B346-668E3A7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29D2-4B97-4264-9BE0-7BA8121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B1E15-ED5A-4B92-A5DE-95AEAE4B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C7570-653D-405F-8A33-2E5DB484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7411D-F409-43B9-ABAB-34CB8383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A2B-FB40-46CC-B61A-D8CD200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58B-45E6-4180-AD6B-879FCC28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BDF-9B82-4D10-B3F2-65E61924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A66-8710-47C9-B71D-9B7205CE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6E7-F381-464B-AE9E-9788CDA4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052-1272-466F-9FCF-B4446455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6C7-9E7A-438A-A41C-308921A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F711-1B91-42DB-801D-C879C385F9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CBF7-F1E7-42C7-AD8D-EC7A3A9B95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Школы Австрал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ahoma"/>
              </a:rPr>
              <a:t>HIGH SCHOOLS IN AUSTRALIA.</a:t>
            </a:r>
            <a:br>
              <a:rPr sz="2000"/>
            </a:br>
            <a:r>
              <a:rPr b="0" lang="en" sz="2000" spc="-1" strike="noStrike">
                <a:solidFill>
                  <a:srgbClr val="ffffff"/>
                </a:solidFill>
                <a:latin typeface="Tahoma"/>
              </a:rPr>
              <a:t>In Australia, according to recent estimates, is about 10 000 middle schools with an enrollment of more than 3 million students in all. Only one state, "New South Wales' schools are located in 2200. On the mainland only 71% of public high schools, respectively - 29% - private. All of Australia's secondary schools are divided into three types: joint (co-educational)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648320" y="1905120"/>
            <a:ext cx="4038480" cy="4114800"/>
            <a:chOff x="4648320" y="1905120"/>
            <a:chExt cx="4038480" cy="411480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648320" y="1905120"/>
              <a:ext cx="40384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4648320" y="1905120"/>
              <a:ext cx="40384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Школы СШ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Secondary education in the United States is mandatory. Complete secondary education are more than 85% of the U.S. population aged 25 years or older.</a:t>
            </a:r>
            <a:br>
              <a:rPr sz="2400"/>
            </a:br>
            <a:br>
              <a:rPr sz="2400"/>
            </a:b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Education in the United States is not regulated at the state level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48320" y="1905120"/>
            <a:ext cx="4038480" cy="4114800"/>
            <a:chOff x="4648320" y="1905120"/>
            <a:chExt cx="4038480" cy="411480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4648320" y="1905120"/>
              <a:ext cx="40384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4648320" y="1905120"/>
              <a:ext cx="40384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Школы Великобритан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ahoma"/>
              </a:rPr>
              <a:t>Education in the UK is compulsory for all citizens between the ages of 5 to 16 years. There are two sectors of education: the state (free education) and private (fee-paying schools, private schools). In the UK there are two systems of education, which are easy to get along together, one in England, Wales and Northern Ireland, the second - in Scotland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8320" y="1905120"/>
            <a:ext cx="4038480" cy="4114800"/>
            <a:chOff x="4648320" y="1905120"/>
            <a:chExt cx="4038480" cy="41148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648320" y="1905120"/>
              <a:ext cx="40384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4648320" y="1905120"/>
              <a:ext cx="40384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2:29:03Z</dcterms:created>
  <dc:creator>Пользователь</dc:creator>
  <dc:description/>
  <dc:language>en-US</dc:language>
  <cp:lastModifiedBy>алл</cp:lastModifiedBy>
  <dcterms:modified xsi:type="dcterms:W3CDTF">2012-02-16T14:12:39Z</dcterms:modified>
  <cp:revision>3</cp:revision>
  <dc:subject/>
  <dc:title>Школы Австралии</dc:title>
</cp:coreProperties>
</file>