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gif" ContentType="image/gif"/>
  <Override PartName="/ppt/media/image20.gif" ContentType="image/gif"/>
  <Override PartName="/ppt/media/image21.gif" ContentType="image/gif"/>
  <Override PartName="/ppt/media/image10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13.gif" ContentType="image/gif"/>
  <Override PartName="/ppt/media/image9.gif" ContentType="image/gif"/>
  <Override PartName="/ppt/media/image16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3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0.gif" ContentType="image/gif"/>
  <Override PartName="/ppt/media/image28.gif" ContentType="image/gif"/>
  <Override PartName="/ppt/media/image4.jpeg" ContentType="image/jpeg"/>
  <Override PartName="/ppt/media/image3.jpeg" ContentType="image/jpeg"/>
  <Override PartName="/ppt/media/image2.jpeg" ContentType="image/jpeg"/>
  <Override PartName="/ppt/media/image31.gif" ContentType="image/gi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7.jpeg" ContentType="image/jpeg"/>
  <Override PartName="/ppt/media/image23.gif" ContentType="image/gif"/>
  <Override PartName="/ppt/media/image22.gif" ContentType="image/gif"/>
  <Override PartName="/ppt/media/image18.jpeg" ContentType="image/jpeg"/>
  <Override PartName="/ppt/media/image14.jpeg" ContentType="image/jpe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098-F9C0-4B99-82DF-3B9A31B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B5-9142-4E18-A8AA-A3BC95F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321-0230-453F-8F99-19741C94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C65-AC65-45DD-AFD4-8E0A805B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FA2A-6AA8-4243-B1FF-1A30710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A67-F498-45E6-BB99-530BC42E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77EC-511B-4B42-B180-D0C3C35A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531-9F5D-42A9-95B9-0EA6166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7EEE-BEB9-4AE5-8732-CC83C398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10F8-8DBF-4609-B37E-A89F7C2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50B-50AD-465A-B01D-8B7089A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2C5-384D-469E-8E1B-9D1AE0C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24F9-8CB7-4481-841F-4058FD2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107-D13D-4F3E-9200-5AB4EB6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4CA-1376-434E-9DAF-EC24B175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957-0C8C-4928-8593-D541660F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D7B-2D4D-47DD-BE3C-0CBE9758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EF3-43F6-478E-B10E-A286E2B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312-4207-4E7A-AC7D-0081E83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C8D-35F9-4079-9280-8005638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9B7-25E1-434D-AA47-3AF17DC2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193-51E4-4FBD-932B-5C60A92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8B7-0B0F-491E-B83C-AA8741F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631-0EEC-4CC3-A840-DC6C0FB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1E3-45D3-4A43-AA7E-9B38F492FFA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6CB7-CBC2-4DC4-805E-8E30CD341EC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jpeg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691920"/>
            <a:ext cx="2879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очин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6408720" cy="38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54720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СЕМЕЙНЫЙ КОДЕКС РФ, Глава 11, Статья 58</a:t>
            </a:r>
            <a:br>
              <a:rPr sz="2400"/>
            </a:br>
            <a:br>
              <a:rPr sz="2400"/>
            </a:b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Экспертизу по данном вопросу проводит учитель истории и права Ю.В.Харитонов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Статья 58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Право ребенка на имя, отчество и фамил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. Ребенок имеет право на имя, отчество и фамили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. Имя ребенку дается по соглашению родителей, отчество присваивается по имени отца, если иное не предусмотрено законами субъектов Российской Федерации или не основано на национальном обыча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 Фамилия ребенка определяется фамилией родителей. При разных фамилиях родителей ребенку присваивается фамилия отца или фамилия матери по соглашению родителей, если иное не предусмотрено законами субъектов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. При отсутствии соглашения между родителями относительно имени и (или) фамилии ребенка возникшие разногласия разрешаются органом опеки и попечитель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. Если отцовство не установлено, имя ребенку дается по указанию матери, отчество присваивается по имени лица, записанного в качестве отца ребенка (пункт 3 статьи 51 настоящего Кодекса), фамилия - по фамилии матер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19700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12160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СЕМЕЙНЫЙ КОДЕКС РФ, Глава 11, Статья 5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Статья 59. Изменение имени и фамилии ребен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По совместной просьбе родителей до достижения ребенком возраста четырнадцати лет орган опеки и попечительства исходя из интересов ребенка вправе разрешить изменить имя ребенку, а также изменить присвоенную ему фамилию на фамилию другого родител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в ред. Федерального закона от 15.11.1997 N 140-ФЗ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Если родители проживают раздельно и родитель, с которым проживает ребенок, желает присвоить ему свою фамилию, орган опеки и попечительства разрешает этот вопрос в зависимости от интересов ребенка и с учетом мнения другого родителя. Учет мнения родителя не обязателен при невозможности установления его места нахождения, лишении его родительских прав, признании недееспособным, а также в случаях уклонения родителя без уважительных причин от воспитания и содержания ребен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Если ребенок рожден от лиц, не состоящих в браке между собой, и отцовство в законном порядке не установлено, орган опеки и попечительства исходя из интересов ребенка вправе разрешить изменить его фамилию на фамилию матери, которую она носит в момент обращения с такой просьбо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Изменение имени и (или) фамилии ребенка, достигшего возраста десяти лет, может быть произведено только с его соглас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28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5472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ГРАЖДАНСКИЙ КОДЕКС РФ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Статья 19. Имя гражданина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Статья 19. Имя гражданина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1. Гражданин приобретает и осуществляет права и обязанности под своим именем, включающим фамилию 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собственно имя, а также отчество, если иное не вытекает из закона или национального обыча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В случаях и в порядке, предусмотренных законом, гражданин может использовать псевдоним (вымышленное им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2. Гражданин вправе переменить свое имя в порядке, установленном законом. Перемена гражданином имени н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является основанием для прекращения или изменения его прав и обязанностей, приобретенных под прежни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имен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Гражданин обязан принимать необходимые меры для уведомления своих должников и кредиторов о перемен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своего имени и несет риск последствий, вызванных отсутствием у этих лиц сведений о перемене его и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Гражданин, переменивший имя, вправе требовать внесения за свой счет соответствующих изменений в документы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оформленные на его прежнее им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3. Имя, полученное гражданином при рождении, а также перемена имени подлежат регистрации в порядк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установленном для регистрации актов гражданского состоя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4. Приобретение прав и обязанностей под именем другого лица не допуск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5. Вред, причиненный гражданину в результате неправомерного использования его имени, подлежит возмещению 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соответствии с настоящим Кодекс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ри искажении либо использовании имени гражданина способами или в форме, которые затрагивают е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честь, достоинство или деловую репутацию, применяются правил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редусмотренные статьей 15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настоящего Кодекс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В ФАМИЛИЯХ РАЗЛИЧНЫХ ЛИЦ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ПОРОЮ НАМ ЗНАКОМЫ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ЗВЧАТ НАЗВАНЬЯ РЫБ И ПТИЦ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ЗВЕРЕЙ И НАСЕКОМЫХ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ЛИСИЧКИН,                              РАКОВ,                                ИНДЮКОВ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СЕЛЕДКИН,                                  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 МЫШКИН,   ТЕЛКИН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МОКРИЦЫН,  ВОЛКОВ,                                 МОТЫЛЬКОВ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БОБРОВ            И ПЕРЕПЕЛКИН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С.МИХАЛК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50920" y="213840"/>
            <a:ext cx="5221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Неблагозвучные фамил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1439640" cy="839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493640" cy="180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794400">
            <a:off x="3588840" y="2260440"/>
            <a:ext cx="1295640" cy="995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284720" y="3500280"/>
            <a:ext cx="728640" cy="79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724360" y="1989000"/>
            <a:ext cx="1584360" cy="1168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619280" y="3573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492360" y="5229360"/>
            <a:ext cx="1081080" cy="72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446040" y="4869000"/>
            <a:ext cx="1028880" cy="136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2700360" y="386064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6948360" y="3213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60280"/>
            <a:ext cx="67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КОМПОЗИЦИЯ СОЧИН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1125360"/>
            <a:ext cx="698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СТУПЛЕНИЕ – ОСНОВНАЯ ЧАСТЬ - 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1844640"/>
            <a:ext cx="6335640" cy="50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141720"/>
            <a:ext cx="4969080" cy="503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ЗИЦИЯ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4437000"/>
            <a:ext cx="3598920" cy="50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ГУМЕ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3789360"/>
            <a:ext cx="4392720" cy="43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БСТВЕННОЕ 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492280"/>
            <a:ext cx="5616360" cy="505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ММЕНТАРИЙ К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360" y="5950080"/>
            <a:ext cx="2087640" cy="35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157720"/>
            <a:ext cx="2880000" cy="503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ГУМЕНТ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3280" y="36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14200"/>
            <a:ext cx="5400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ВИДЫ И ФОРМЫ ВСТУПЛ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133720"/>
            <a:ext cx="1944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284640"/>
            <a:ext cx="1944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БЩИЕ С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 ПРОБЛ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365720"/>
            <a:ext cx="1944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ССЫЛКА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АВТОРИТЕТ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МНЕНИЕ ПО ВОПРОСУ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БЛИЗКОМУ 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ОБСУЖДАЕМОЙ ПРОБЛЕМ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661000"/>
            <a:ext cx="1944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РЕДЕЛ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ЭМОЦИОНА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НАСТР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2133720"/>
            <a:ext cx="6408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ЧТО ТАКОЕ БЛАГОРОДСТВО И КАКУЮ РОЛЬ ЭТО ПОНЯТИЕ ИГРАЕТ В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БЩЕСТВА? НАД ЭТОЙ ПРОБЛЕМОЙ РАЗМЫШЛЯЕТ Д.С.ЛИХ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ЧТО ЛУЧШЕ:ТОСКОВАТЬ О НЕСБЫВШЕЙСЯ МЕЧТЕ ИЛИ, ПРЕОДОЛЕВ ТРУД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ДОСТИЧЬ ЖЕЛАЕМОГО? ТАКОВА ПРОБЛЕМА, КОТОРАЯ ПРИВЛЕКЛА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АВ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284640"/>
            <a:ext cx="64087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Ы УЖЕ ДАВНО СЛЫШИМ СЕТОВАНИЯ НА ТО, ЧТО ЛЮДИ СТАЛИ МЕНЬШ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ЧИТАТЬ, ЧТО ТЕЛЕВИЗОР И КОМПЬЮТЕР ПОТЕСНИЛИ КНИГ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ДЕЙСТВИТЕЛЬНО ЛИ ЭТО ТАК? КАКОВА РОЛЬ КНИГИ В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СОВРЕМЕННОГО ЧЕЛОВЕКА? ЭТОЙ ПРОБЛЕМЕ ПОСВЯЩЕН ТЕКСТ Д.С.ЛИХАЧ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365720"/>
            <a:ext cx="6408720" cy="1150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ПСИХОЛОГИ УТВЕРЖДАЮТ, ЧТО ЗАВИСИМОСТЬ ОТ КОМПЬЮТЕРА  - ЭТО НАСТОЯЩАЯ БОЛЕЗ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МНОГИХ ЧЛЕНОВ СОВРЕМЕННОГО ОБЩЕСТВА. ДЕЙСТВИТЕЛЬНО, КАЖДОМУ ИЗ НАС ТРУДН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ПРЕДСТАВИТЬ ТЕПЕРЬ СВОЮ ЖИЗНЬ БЕЗ КОМПЬЮТЕРА. КАКУЮ ЖЕ РОЛЬ ОН ИГРАЕТ В ЖИЗН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ЧЕЛОВЕКА? ЧТО ПРИНОСИТ КОМПЬЮТЕР В НАШ ДОМ – БЛАГО ИЛИ ЗЛО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НАД ЭТОЙ ПРОБЛЕМОЙ ЗАУМАЛСЯ В. СОЛОУХИ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661000"/>
            <a:ext cx="633708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ВПЕЧАТЛЕНИЯ ДЕТСТВА, НАВЕРНОЕ, ОДНИ ИЗ САМЫХ ДОРОГИХ ВОСПОМИН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В ЧЕЛОВЕЧЕСКОЙ ЖИЗНИ. МЕСТА, С КОТОРЫМИ СВЯЗАНО СТАНОВЛЕНИЕ ЛИЧНОСТ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НАВСЕГДА ОСТАЮТСЯ В ПАМЯТИ, И МЫ НЕ ОДНАЖДЫ МЫСЛЕННО ВОЗВРАЩАЕМСЯ В ЭТО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МИР, РАСЦВЕЧЕННЫЙ ЯРКИМИ КРАСКАМИ. КАКУЮ ЖЕ РОЛЬ ИГРАЕТ В ЖИЗНИ ЧЕЛОВЕ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ПАМЯТЬ О РОДНОМ ДОМЕ? НАД ЭТОЙ ПРОБЛЕМОЙ РАЗМЫШЛЯЕТ АВТ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2349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234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716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4797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8000" y="595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716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052640"/>
            <a:ext cx="784872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ЦЕЛЬ ВСТУПЛЕНИЯ – ПОДВЕСТИ К ФОРМУЛИРОВК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213840"/>
            <a:ext cx="67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ВИДЫ И ФОРМЫ ВСТУПЛ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223640" cy="1160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1989000"/>
            <a:ext cx="187308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ИСАНИЕ ЧУВ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ЫСЛ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ПЕЧАТЛ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ОЗНИКЛ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716280"/>
            <a:ext cx="1873080" cy="1152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ЦИТАТА ИЗ ИСХОД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ТЕКС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ИЛИ ИЗ ДРУГ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ИСТОЧНИКА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СВЯЗАННАЯ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РАССМАТРИВАЕМ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ПРОБЛЕМ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5157720"/>
            <a:ext cx="1800000" cy="129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БРАЩЕНИЕ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ФА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БИОГРАФИИ АВТОР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ЕГО ВЗГЛЯД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УБЕЖД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1413000"/>
            <a:ext cx="6480360" cy="20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ПРОЧИТАВ ТЕКСТ Ф. ИСКАНДЕРА, Я ВСПОМНИЛ ВСЕ ЛУЧШ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МОМЕНТЫ СВОЕГО ДЕТСТВА: ПОЕЗДКИ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И ДРУЗЬЯМИ ЗА ГОРОД, ПОБЕДЫ НА СПОРТИВ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ОРЕВНОВАНИЯХ, ЛЕТО В ЛАГЕРЕ ОТДЫХ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КОЛЬКО СВЕТЛЫХ ДЕТСКИХ ВОСПОМИНАНИЙ ХРАНИТ ПАМ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КАЖДОГО ИЗ НАС! ПОЧЕМУ ЖЕ ДЕТСТВО ТАК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ЗНАЧИТ ДЛЯ ЧЕЛОВЕКА? КАКУЮ РО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ИГРАЕТ ДЕТСТВО В ЖИЗНИ КАЖДОГО ИЗ НАС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ЭТА ПРОБЛЕМА ПРИВЛЕКАЕТ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645000"/>
            <a:ext cx="6553440" cy="129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«МОЖНО ЛИ ПРЕДСТАВИТЬ СОВРЕМЕННЫЙ МИР, ЛИШ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ЕЧАТНОГО ЗНАКА»,- ПИШЕТ Ю.БОНДАРЕВ, ПРИГЛАШ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ВОИХ ЧИТАТЕЛЕЙ К РАЗМЫШЛЕНИЮ НАД ПРОБЛЕ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ЗНАЧЕНИЯ КНИГИ В ЖИЗНИ ЧЕЛОВЕКА И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5157720"/>
            <a:ext cx="6481800" cy="151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СЯ ЖИЗНЬ ВАЛЕНТИНА РАСПУТИНА СВЯЗАНА С СИБИР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Н И СЕЙЧАС ЖИВЕТ В НЕБОЛЬШОМ ПОСЕЛКЕ НЕДАЛЕКО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ЗНАМЕНИТОГО ОЗЕРА БАЙКАЛ. НЕ СЛУЧАЙНО ОДНА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АЖНЕЙШИХ ПРОБЛЕМ, К КОТОРОЙ ЧАСТО ОБРАЩ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ПИСАТЕЛЬ, - ПРОБЛЕМА СОХРАНЕНИЯ ДЛЯ ПОТОМКОВ БАЙК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БЕРЕЖЕНИЯ  ЕГО КРАСОТЫ И ПРИРОДНЫХ БОГАТСТВ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2276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8000" y="263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8000" y="4149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8000" y="5661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95640" y="260280"/>
            <a:ext cx="5400720" cy="1297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ahoma"/>
              </a:rPr>
              <a:t>НАЛАДИТЬ КОНТАКТ С ЧИТАТЕЛ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ahoma"/>
              </a:rPr>
              <a:t>ВВЕСТИ ЧИТАТЕЛЯ В Т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ahoma"/>
              </a:rPr>
              <a:t>ПОДГОТОВИТЬ К ВОСПРИЯТИЮ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700280"/>
            <a:ext cx="7705800" cy="792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ОСНОВНЫЕ ПРИЕМЫ НАПИСАНИЯ В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797360"/>
            <a:ext cx="3744720" cy="719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ООБЩЕНИЕ О ПРОЧТЕНИИ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3284640"/>
            <a:ext cx="4103640" cy="647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ИТОРИЧЕСКОЕ ВОСКЛИЦ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6021360"/>
            <a:ext cx="2139840" cy="625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И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5516640"/>
            <a:ext cx="3166920" cy="647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ФО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284640"/>
            <a:ext cx="4392360" cy="647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ОБЩЕНИЕ 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005360"/>
            <a:ext cx="3959280" cy="71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ОБЩЕНИЕ ОБ АВ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492280"/>
            <a:ext cx="4105440" cy="720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ИТОРИЧЕСКИ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005360"/>
            <a:ext cx="3816360" cy="71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ЫВНО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516640"/>
            <a:ext cx="3146400" cy="64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АРАД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2492280"/>
            <a:ext cx="4390920" cy="719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ОПРОСНО-ОТВЕТНАЯ 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4797360"/>
            <a:ext cx="3814560" cy="647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НА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64087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ОСНОВНЫЕ ПРОБЛЕМЫ ТЕКСТА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(по  Л.В.УСПЕНСКОМ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565360"/>
            <a:ext cx="2808360" cy="165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Проблема влия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милии на отно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 челове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Влияет ли фами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а отношение к челове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торый ее носит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4437000"/>
            <a:ext cx="2808360" cy="194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блема 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человека к сво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милии (В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заклю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собенности вос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человеком сво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милии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2565360"/>
            <a:ext cx="5616720" cy="165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чень часто происходит, что фамилия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дежда, определяет отношение к челове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торый ее носит, и должно пройти извес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ремя, чтобы это отношение измен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4437000"/>
            <a:ext cx="5616720" cy="194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нередко воспринимает св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амилию как источник бесконе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приятностей, бывает, недоброжел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евращают фамилию в «оружие, спос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увствительно рани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916280"/>
            <a:ext cx="2665440" cy="433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сновны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1916280"/>
            <a:ext cx="4968720" cy="433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вторска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Толерант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00720" y="201780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Я пришел в этот м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е для того, чтобы оправдать твои надежды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е для того, чтобы соответствовать твоим  ожидания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ты пришел в этот ми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е для того, чтобы соответствовать моим ожиданиям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е для того, чтобы отвечать моим интересам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е для того, чтобы оправдать мо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адежд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Потому что </a:t>
            </a: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я – это я, а ты – это ты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если 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мы встретились и поняли друг друга –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то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 это прекрасно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178776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816360" cy="3111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68360" y="5734080"/>
            <a:ext cx="806292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В нашем обществе не должно быть места оскорблению, насмешке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выражению пренебрежения, игнорированию челове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4033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Слово о писател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ниги замечатель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ингвиста Льва Васильевич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пенского увлекатель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ссказывают о свойст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языка, его истории, о языках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уществующих в мире сейч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 существовавших в далек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шлом, о том, ч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нимается великолеп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ука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языкознани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158904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47628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1347840" cy="201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020000" y="2349360"/>
            <a:ext cx="147456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443640" y="4581360"/>
            <a:ext cx="12891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213840"/>
            <a:ext cx="3024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Я СВОЙ СОВЕТ ДАЮ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НОСИТЕ ВСЕ С ДОСТОИНСТВОМ ФАМИЛИЮ СВОЮ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3745080" cy="2496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788000" y="3573360"/>
            <a:ext cx="3816360" cy="18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Автор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Решетникова Анна Петровна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МОУ «СОШ № 14» города Брат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писать сочинение по тексту Л.Успенского (в тетрадях для контрольных работ) к 7 февра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6920" y="3960720"/>
            <a:ext cx="7632720" cy="2451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588000" y="11592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6913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Знакомство с текстом русского писателя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Л. Успенского о фамилиях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Имя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стихия разумного общ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живых существ в свете смысла 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умной гармонии, откров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таинственных ликов и светл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ознание живых энерг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И нет границ жизни имени, 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еры для его могущества. Именем и словами создан 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ержится ми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А.Ф.Лосе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3760" y="115920"/>
            <a:ext cx="1722240" cy="1830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927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1116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ИСТОРИЧЕСКАЯ СПРАВ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492280"/>
            <a:ext cx="720108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Что такое фамилия?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еные говорят так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фамилия – общее имя чле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одной семь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 Оно передается от одного покол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 друго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 Руси фамилии появились примерно 400 лет наза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вый человек по фамилии Никифоров был сын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икифора, а Петров – сыном Пет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исходили фамилии и от названия места, где жи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(Москвин, Самарцев). По фамилиям 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ределяем занятия наших далеких предков (Кузнец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нчаров, Пастухов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5543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Фамилия судьбой дана не просто так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она совсем не прихоть- названье человека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записанное в паспорте, казалось  бы, пустяк-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придуманное слово, дошедшее от предка.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Я слышу иногда, как говорят:  "Отныне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меня зовут не так, я стал совсем другим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фамилию сменил , а с отчеством и имя 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и прошлое моё ушло, как серый дым.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Все данные теперь, созвучны, как поэма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не будет стыдно детям и внукам на веку! "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Не понял человек, что память предков предал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и этим в Мирозданье свой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Род</a:t>
            </a: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перечеркнул.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Давайте ж будем чтить своих отцов и дедов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фамилию нести, как гордость, сквозь века,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 и может в час лихой направит нас к победе </a:t>
            </a:r>
            <a:br>
              <a:rPr sz="1400"/>
            </a:b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незримая, но сильная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РОД</a:t>
            </a:r>
            <a:r>
              <a:rPr b="1" i="1" lang="ru-RU" sz="1400" spc="-1" strike="noStrike">
                <a:solidFill>
                  <a:srgbClr val="333399"/>
                </a:solidFill>
                <a:latin typeface="Tahoma"/>
              </a:rPr>
              <a:t>имая рука... 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61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ФАМИЛИЯ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семья, семейство;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род,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колено, поколение, племя, предки и потом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05480" y="3213000"/>
            <a:ext cx="2129040" cy="230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87280" y="260280"/>
            <a:ext cx="6048720" cy="1081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Даль все так же нужен почему-т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Даль незамени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. Матус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561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Что в имени тебе моем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48956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Мне имя дали пр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крещенье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Анна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Сладчайшее для г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людских и слуха..."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ак, и не без гордост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исала о себе поэте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Анна Андре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Ахма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16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9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На Руси есть такие прозвища, что только плюнешь да перекрестишьс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коли услышишь. </a:t>
            </a:r>
            <a:br>
              <a:rPr sz="1800"/>
            </a:b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 Н. В. Гоголь. Женить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421000"/>
            <a:ext cx="3384360" cy="396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ЮДСКИЕ И ЛОШАДИ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..А фамилию вот и забыл!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асильичу... Черт... Как же 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амилия?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акая еще простая фамилия.., слов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к бы лошадиная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- Кобылин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- Нет, не Кобылин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- Жеребцов, нешт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- Нет и не Жеребцов. Помн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амилия лошадиная, а как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з головы вышибл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 П. Ч е х о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ошадиная 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4076640"/>
            <a:ext cx="4535280" cy="230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Приехали ко мне гости: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Захар Кириллович Чухопупенко,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Степан Иванович Курочка,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Тарас Иванович Смачненький.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заседатель Харлампий Кириллович Хлоста;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приехал еще... вот позабыл, право, имя и фамилию...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Осип... Осип... Боже мой, его знает весь Миргород!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он еще, когда говорит, то всегда щелкнет напе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пальцем и подопрется в боки..." 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Tahoma"/>
              </a:rPr>
              <a:t>      Н. В. Гоголь. Вечера на хуторе близ Дикань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773360"/>
            <a:ext cx="4248000" cy="194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..Я не Живаго, я не Жива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Я не Мертваго, я не Мертва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Я не Мертваго, я не Дурна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Я не Петраго, я не Петра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Я не Петраго, не Солова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Я -- Ванька Каин, я -- Ванька Каи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 К. Толст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Юмористическая пьеска в письмах к неизвест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645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Изучает фамилии особая наука 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нтропоним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96576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Когда фамилий список пишут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Невольно мучает вопрос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"Зачем же люди клички ищу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По цвету кожи, глаз, волос...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А часто и по тем предметам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Которых канул в лету век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По сказочным порой примет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Обозван милый человек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Порядок был когда-то русский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Спроси:"Ты чей, каких родов?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Ответ был ясен, горд по-русск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"Я сын Петра. Я есть Петров"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Отец Андрей. Я дочь Андрея 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Андреева(я из крестьян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А паспорт - данность берендеев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Смешавших тюрок и славя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«О фамилиях»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Людмила Онучи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2664000" cy="221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8360" y="3500280"/>
            <a:ext cx="3816360" cy="2859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от и живут среди нас в изобил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чень простые,"земные" фамил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Щедро природа нам всё подарил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Даже фамилии дать на забы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ы разберись в родословной сво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ожет, найдёшь в ней из сказки 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482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По отцу и сыну че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480360" cy="431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08720" y="115920"/>
            <a:ext cx="35272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9:52:20Z</dcterms:created>
  <dc:creator>МАМА</dc:creator>
  <dc:description/>
  <dc:language>en-US</dc:language>
  <cp:lastModifiedBy>МАМА</cp:lastModifiedBy>
  <dcterms:modified xsi:type="dcterms:W3CDTF">2012-02-24T13:20:30Z</dcterms:modified>
  <cp:revision>71</cp:revision>
  <dc:subject/>
  <dc:title>ВСТУПЛЕНИЕ</dc:title>
</cp:coreProperties>
</file>