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7D3A-9416-43BA-BC4C-007A9D947F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833-79CD-4B45-841C-D92D272EA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A19-AF95-4D2E-AE30-0220573B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385-E943-42F4-99F1-734B28A7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726-65AD-4F5B-8CA9-35B3E61C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3C5-CF2F-4B36-9D6B-DD841F01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3324-C614-4F5F-9606-782F6899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C215-E8B1-431A-9928-6AD1B821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B546-5242-4B45-9A98-BCA246AA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FE38-43FD-4866-A735-332B569B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0E78-6C91-4925-B8C2-CE2028F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7FDB-160C-4824-98D0-CADE66A7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BAC1-22F4-4265-98F6-73E364B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6B8-F080-43F0-BA79-74EA608D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B7F0-57A7-4575-8A9B-CA4E389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EFCC-B7CB-40DB-969E-5D646CA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B687-2D31-4BBF-B51F-8479DCA0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7348-95CB-4346-B9F5-FB6D454C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F16D-7878-4C01-826F-2EB23271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997-3F4B-4785-A48B-9289EE1C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C56-48CD-435E-9EDC-E4C73CCA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630-B7B3-4944-81D1-EA868FDA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6B6-A6D6-4F0A-A362-265C4ED6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A84-4AC3-4EAD-A211-6B4E16C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951-49A8-4C73-A3D3-BE17B06B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A2E-569F-4195-83E8-F94B4F48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1A5-2E5D-4C2E-B93C-D4A43A7297C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5075-9339-4385-A4A5-960C5CBDF7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196640"/>
            <a:ext cx="762300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Сводный график хода среднесуточных температур </a:t>
            </a:r>
            <a:br>
              <a:rPr sz="4600"/>
            </a:b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 зимние месяцы </a:t>
            </a:r>
            <a:br>
              <a:rPr sz="4600"/>
            </a:b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2008 - 2010 гг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6765120"/>
            <a:ext cx="65534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анализируем, сделаем вывод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самый холодный и теплый месяц зим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какой период зимы приходятся низкие и высокие показания температу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долго держалась та или иная температур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числить среднемесячные температуры за данные перио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числить среднюю температуру зим 2008-2009 год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График хода средней температуры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за январь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на территории микрорайона Ключево г.Сергача Нижегородской области.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1785960" y="2000160"/>
          <a:ext cx="6286320" cy="38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2000160"/>
                    <a:ext cx="62863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График хода средней температуры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за февраль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на территории микрорайона Ключево г.Сергача Нижегородской области.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428840" y="1714680"/>
          <a:ext cx="6715080" cy="45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1714680"/>
                    <a:ext cx="671508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График хода средней температуры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за декабрь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на территории микрорайона Ключево г.Сергача Нижегородской области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1500120" y="2143080"/>
          <a:ext cx="614376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2143080"/>
                    <a:ext cx="614376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4356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правление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 ветра за зимний период 2008 – 2010 гг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2924280"/>
          <a:ext cx="3097080" cy="3504960"/>
        </p:xfrm>
        <a:graphic>
          <a:graphicData uri="http://schemas.openxmlformats.org/drawingml/2006/table">
            <a:tbl>
              <a:tblPr/>
              <a:tblGrid>
                <a:gridCol w="1031760"/>
                <a:gridCol w="1033560"/>
                <a:gridCol w="10317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-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-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-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-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00720" y="0"/>
          <a:ext cx="4186080" cy="3357720"/>
        </p:xfrm>
        <a:graphic>
          <a:graphicData uri="http://schemas.openxmlformats.org/drawingml/2006/table">
            <a:tbl>
              <a:tblPr/>
              <a:tblGrid>
                <a:gridCol w="1150920"/>
                <a:gridCol w="1015920"/>
                <a:gridCol w="1009440"/>
                <a:gridCol w="10098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-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-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-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-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572000" y="3465360"/>
          <a:ext cx="4110120" cy="3394080"/>
        </p:xfrm>
        <a:graphic>
          <a:graphicData uri="http://schemas.openxmlformats.org/drawingml/2006/table">
            <a:tbl>
              <a:tblPr/>
              <a:tblGrid>
                <a:gridCol w="1203480"/>
                <a:gridCol w="922320"/>
                <a:gridCol w="992160"/>
                <a:gridCol w="992160"/>
              </a:tblGrid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-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-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-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-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а ветров декабря 2009 год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071720" y="1214280"/>
          <a:ext cx="7538760" cy="47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214280"/>
                    <a:ext cx="753876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а ветров января 2010 год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1071720" y="857160"/>
          <a:ext cx="7257960" cy="524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857160"/>
                    <a:ext cx="7257960" cy="52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а ветров февраля 2010 год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428840" y="1214280"/>
          <a:ext cx="6429240" cy="44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1214280"/>
                    <a:ext cx="642924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22:19:35Z</dcterms:created>
  <dc:creator>Admin</dc:creator>
  <dc:description/>
  <dc:language>en-US</dc:language>
  <cp:lastModifiedBy>елена</cp:lastModifiedBy>
  <dcterms:modified xsi:type="dcterms:W3CDTF">2012-02-24T16:35:49Z</dcterms:modified>
  <cp:revision>8</cp:revision>
  <dc:subject/>
  <dc:title>Средняя температура  «Зима 2008, 2009, 2010 годы»</dc:title>
</cp:coreProperties>
</file>