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DB2-C7AB-4AF8-9310-45A82381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6DA-EB3C-4B4B-B435-1DD154A8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2BCE-DAD4-4705-8FF2-CA1D295F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8808-ADEA-4362-BA82-6FBE68DA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A9E-180D-4B30-AEBF-68BD4F57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28D-FE3C-46E5-B81C-A12A5010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5940-4409-4B42-B2C6-332780B3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B12-6B77-4C17-ADA1-1381F055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5DC-46D1-40F4-B72C-B65D8198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379-C4F9-463B-9617-F6E79005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922-C658-469D-A278-4A10382F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D17F-5253-4E52-AC98-860BDA15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f8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B7C7-D042-4672-9F7C-5490D5383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f8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685800"/>
            <a:ext cx="54957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ВОЙСТВО 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ЕРТИКАЛЬНЫХ УГЛОВ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4191120"/>
            <a:ext cx="4191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ПАТ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СОШ №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УМЕНКО Н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f8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267080" y="152280"/>
            <a:ext cx="4724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Segoe Script"/>
              </a:rPr>
              <a:t>Записать па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Segoe Script"/>
              </a:rPr>
              <a:t>вертикальных уг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514600"/>
            <a:ext cx="259056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219320" y="2286000"/>
            <a:ext cx="83808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4920" y="3200040"/>
            <a:ext cx="297180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209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2286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56386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2819520"/>
            <a:ext cx="39625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819520"/>
            <a:ext cx="396252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724280" y="2819520"/>
            <a:ext cx="396252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723920" y="373392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61048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362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4582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44197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505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76312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1406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f8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3808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Свойство вертикальных уг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57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аница 2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447920"/>
            <a:ext cx="2895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57200" y="1219320"/>
            <a:ext cx="220968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1981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1219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343400" y="1066680"/>
                <a:ext cx="4572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ертикальны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3733920" y="1676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каз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334120" y="1676520"/>
                <a:ext cx="15382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2767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80880" y="3276720"/>
                <a:ext cx="35816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смежны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343400" y="3276720"/>
                <a:ext cx="35305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смежны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80880" y="39625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 как сумма смежных углов равна 180  ,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3886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7200" y="4572000"/>
                <a:ext cx="2743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886200" y="4572000"/>
                <a:ext cx="28195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5335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905120" y="5486400"/>
                <a:ext cx="23619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5029200" y="55627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egoe Script"/>
              </a:rPr>
              <a:t>Что и требовалось доказ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f8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914400"/>
            <a:ext cx="2895840" cy="41148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295280" y="838080"/>
            <a:ext cx="1524240" cy="48006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1752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251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32004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457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181480" y="380880"/>
                <a:ext cx="17463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038480" y="1295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1" lang="en-US" sz="2400" spc="-1" strike="noStrike">
                <a:solidFill>
                  <a:srgbClr val="000000"/>
                </a:solidFill>
                <a:latin typeface="Segoe Script"/>
              </a:rPr>
              <a:t>остальные уг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2057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886200" y="2514600"/>
                <a:ext cx="3981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смежны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4191120" y="3124080"/>
            <a:ext cx="4495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 как сумма смежных углов равна 180  ,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35053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419720" y="3886200"/>
                <a:ext cx="31446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886200" y="4495680"/>
                <a:ext cx="5094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ертикальны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429000" y="5105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 как вертикальные углы равны,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733920" y="5791320"/>
                <a:ext cx="198756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943600" y="5867280"/>
                <a:ext cx="19414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4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129528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M</cp:lastModifiedBy>
  <dcterms:modified xsi:type="dcterms:W3CDTF">2012-02-24T16:55:3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