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2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2A2-4151-4231-853D-2CCC9E8C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FCA-4BC4-48E9-B6E7-41711B6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4F6-DF38-4545-B66B-B67D962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7E8-2EBB-46BC-B38B-F3C6570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54AB-3567-40D0-BCE0-54E4834A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A0B-28AA-458E-ACCB-96E21724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7952-A7CD-4DA4-AF6A-D116A358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599-70DA-487C-A837-CE6A34A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E9A8-302D-454B-B783-9728A4E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BFF-B242-4BB4-A584-97F93268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403-AC5D-4194-A534-45659F1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049-EEA1-4E94-B33C-6420ACDF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BA1-CB7C-4203-8759-20AAA7D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6928-A898-4EA9-A652-D6874C4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64C-57F0-4726-A805-5D80D15F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586D-6FC7-44CD-8881-2331E83F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EFB-62DD-4CEE-9F6B-06E27970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B52-EDC6-42D6-A543-97F3A1C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8D5-6805-4408-9930-C1D429E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ACB-FC74-45C1-B9C1-F1BCA952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A28-19B9-4093-B723-D044E77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839-15CB-4AB0-80B2-573C9F4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A74-EA6D-40D4-80F3-0FE4A26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389-94C5-41FB-9F44-244921E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FF93-8B4F-410A-82BD-8485677349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3D1-36D1-40E5-B2FF-715290F2FD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estival.1september.ru/authors/102-730-003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72400" cy="36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выполнении ручных работ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 rot="2822400">
            <a:off x="705600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47592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35600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211640" y="5129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. Что нужно сделать по окончании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осчитать количество иголок и булавок в игольнице. Их должно быть столько, сколько было в начале работ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убрать рабочее мест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втор: </a:t>
            </a:r>
            <a:r>
              <a:rPr b="0" lang="ru-RU" sz="29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Рахманова Ольга Олеговна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учитель технолог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. Опасности в работе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7812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вреждение пальцев игл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ли булавко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руки ножницами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глаз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. Что нужно сделать до начала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считать количество иголок и булавок в игольниц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оложить инструменты и приспособления в отведённое для них мест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. Что нужно делать во время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712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ледить за правильной посадкой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116000" y="2781360"/>
            <a:ext cx="3816360" cy="360036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5219640" y="2924280"/>
            <a:ext cx="3529080" cy="33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8" descr="C:\Documents and Settings\User1\Рабочий стол\Урок\1.jpg"/>
          <p:cNvPicPr/>
          <p:nvPr/>
        </p:nvPicPr>
        <p:blipFill>
          <a:blip r:embed="rId2"/>
          <a:stretch/>
        </p:blipFill>
        <p:spPr>
          <a:xfrm>
            <a:off x="1258920" y="2981160"/>
            <a:ext cx="3457440" cy="319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Documents and Settings\User1\Рабочий стол\Урок\2.jpg"/>
          <p:cNvPicPr/>
          <p:nvPr/>
        </p:nvPicPr>
        <p:blipFill>
          <a:blip r:embed="rId3"/>
          <a:stretch/>
        </p:blipFill>
        <p:spPr>
          <a:xfrm>
            <a:off x="5508720" y="3213000"/>
            <a:ext cx="300024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4"/>
          <p:cNvSpPr/>
          <p:nvPr/>
        </p:nvSpPr>
        <p:spPr>
          <a:xfrm>
            <a:off x="5219640" y="2708280"/>
            <a:ext cx="3673440" cy="33116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50920" y="2708280"/>
            <a:ext cx="3600360" cy="33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2388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держать в чистоте и порядке рабочее мест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7" descr="C:\Documents and Settings\User1\Рабочий стол\Урок\3.jpg"/>
          <p:cNvPicPr/>
          <p:nvPr/>
        </p:nvPicPr>
        <p:blipFill>
          <a:blip r:embed="rId2"/>
          <a:stretch/>
        </p:blipFill>
        <p:spPr>
          <a:xfrm>
            <a:off x="468360" y="2997360"/>
            <a:ext cx="3071880" cy="27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User1\Рабочий стол\Урок\4.jpg"/>
          <p:cNvPicPr/>
          <p:nvPr/>
        </p:nvPicPr>
        <p:blipFill>
          <a:blip r:embed="rId3"/>
          <a:stretch/>
        </p:blipFill>
        <p:spPr>
          <a:xfrm>
            <a:off x="5429160" y="3000240"/>
            <a:ext cx="3214800" cy="2786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21040" y="2924280"/>
            <a:ext cx="13176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калывать иглы и булавки только в игольницу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4000" y="2565360"/>
            <a:ext cx="3528720" cy="32400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292720" y="2852640"/>
            <a:ext cx="3456000" cy="323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9" descr="PICT007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11280" y="2781360"/>
            <a:ext cx="2879640" cy="27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ICT0079"/>
          <p:cNvPicPr/>
          <p:nvPr/>
        </p:nvPicPr>
        <p:blipFill>
          <a:blip r:embed="rId3">
            <a:lum contrast="18000"/>
          </a:blip>
          <a:srcRect l="0" t="0" r="0" b="2094"/>
          <a:stretch/>
        </p:blipFill>
        <p:spPr>
          <a:xfrm>
            <a:off x="5580000" y="3076560"/>
            <a:ext cx="2952720" cy="27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80000" y="1413000"/>
            <a:ext cx="171432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девать напёрсток на средний палец правой руки, чтобы не уколоть ег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979640" y="2637000"/>
            <a:ext cx="3600360" cy="35240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C:\Documents and Settings\User1\Рабочий стол\Урок\7.jpg"/>
          <p:cNvPicPr/>
          <p:nvPr/>
        </p:nvPicPr>
        <p:blipFill>
          <a:blip r:embed="rId2"/>
          <a:stretch/>
        </p:blipFill>
        <p:spPr>
          <a:xfrm>
            <a:off x="2195640" y="2924280"/>
            <a:ext cx="3168360" cy="296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77080" y="1700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27640" y="3716280"/>
            <a:ext cx="22608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5364000" y="2781360"/>
            <a:ext cx="3384720" cy="331308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620280"/>
            <a:ext cx="723888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класть ножницы справа с сомкнутыми лезвиями, направленными от себя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476360" y="2781360"/>
            <a:ext cx="3386160" cy="3308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C:\Documents and Settings\User1\Рабочий стол\Урок\8.jpg"/>
          <p:cNvPicPr/>
          <p:nvPr/>
        </p:nvPicPr>
        <p:blipFill>
          <a:blip r:embed="rId2"/>
          <a:stretch/>
        </p:blipFill>
        <p:spPr>
          <a:xfrm>
            <a:off x="1714680" y="3143160"/>
            <a:ext cx="29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Documents and Settings\User1\Рабочий стол\Урок\9.jpg"/>
          <p:cNvPicPr/>
          <p:nvPr/>
        </p:nvPicPr>
        <p:blipFill>
          <a:blip r:embed="rId3"/>
          <a:stretch/>
        </p:blipFill>
        <p:spPr>
          <a:xfrm>
            <a:off x="5643720" y="3071880"/>
            <a:ext cx="2928960" cy="27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596360" y="1125360"/>
            <a:ext cx="1258560" cy="125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0" y="494172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 rot="421800"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1258920" y="2852640"/>
            <a:ext cx="3529080" cy="34578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5292720" y="2852640"/>
            <a:ext cx="3456000" cy="34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38880" cy="18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ередавать ножницы только с сомкнутыми лезвиями и кольцами вперёд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5" name="Picture 7" descr="C:\Documents and Settings\User1\Рабочий стол\Урок\10.jpg"/>
          <p:cNvPicPr/>
          <p:nvPr/>
        </p:nvPicPr>
        <p:blipFill>
          <a:blip r:embed="rId2"/>
          <a:stretch/>
        </p:blipFill>
        <p:spPr>
          <a:xfrm>
            <a:off x="1500120" y="3214800"/>
            <a:ext cx="2959200" cy="2714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Documents and Settings\User1\Рабочий стол\Урок\11.jpg"/>
          <p:cNvPicPr/>
          <p:nvPr/>
        </p:nvPicPr>
        <p:blipFill>
          <a:blip r:embed="rId3"/>
          <a:stretch/>
        </p:blipFill>
        <p:spPr>
          <a:xfrm>
            <a:off x="5500800" y="321480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77080" y="68400"/>
            <a:ext cx="194292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ks3</cp:lastModifiedBy>
  <dcterms:modified xsi:type="dcterms:W3CDTF">2012-02-24T05:23:57Z</dcterms:modified>
  <cp:revision>18</cp:revision>
  <dc:subject/>
  <dc:title>PowerPoint Presentation</dc:title>
</cp:coreProperties>
</file>