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D54-A013-403A-B9E3-82C66303E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61F-B0DF-4E27-90BC-062AC22A1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51C-E41C-458B-BD86-8252CFE7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6A1-35A4-4F96-967F-E3D519D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8A1-EC19-4D9C-BBF7-FAF10115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3AA-9F33-4852-BBB5-4152CC07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C12-AF7A-48C3-9A28-F391655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B5B-B92E-4C60-94C4-C9A7590F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B52-A4DD-439A-9116-787681B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6F6-E59D-4612-9054-54A1EBB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4CE-3E43-4057-8A71-E8B9341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DBF-644E-45EF-82E5-DA6DF51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991-109F-4C3B-921B-DBCFBD8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45F-338F-48E7-8BF6-7C16B8B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87A-8803-4980-A5CF-3ECD5218F7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нгерская народная сказ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Два жадных медвежонка»</a:t>
            </a:r>
            <a:br>
              <a:rPr sz="36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литературного чтения во 2 клас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600" y="5285880"/>
            <a:ext cx="635796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читель высшей категор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ОУ – СОШ №4 г. Асино Григорьева С.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1"/>
          <p:cNvGraphicFramePr/>
          <p:nvPr/>
        </p:nvGraphicFramePr>
        <p:xfrm>
          <a:off x="3357720" y="3000240"/>
          <a:ext cx="128556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3000240"/>
                    <a:ext cx="1285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4500720" y="2857680"/>
          <a:ext cx="1214280" cy="178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2857680"/>
                    <a:ext cx="1214280" cy="17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Я приду на помощь человеку, когда он позовёт меня!</a:t>
            </a: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Жизнь дана на добрые дел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"/>
          <p:cNvGraphicFramePr/>
          <p:nvPr/>
        </p:nvGraphicFramePr>
        <p:xfrm>
          <a:off x="1143000" y="2214720"/>
          <a:ext cx="5500800" cy="38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14720"/>
                    <a:ext cx="55008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Оцени себя са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br>
              <a:rPr sz="18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-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я молодец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я стараюсь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479249"/>
                </a:solidFill>
                <a:latin typeface="Calibri"/>
              </a:rPr>
              <a:t>- не совсем получается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8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857160" y="1071720"/>
            <a:ext cx="857520" cy="85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785880" y="250020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1000080" y="128592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1428840" y="128592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1000080" y="271476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1357200" y="2714760"/>
            <a:ext cx="14472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857160" y="392904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1428840" y="407196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1000080" y="407196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1214280" y="2786040"/>
            <a:ext cx="71640" cy="287280"/>
          </a:xfrm>
          <a:prstGeom prst="flowChartConnec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 flipH="1">
            <a:off x="1285920" y="4214880"/>
            <a:ext cx="46080" cy="216000"/>
          </a:xfrm>
          <a:prstGeom prst="flowChartConnec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1285920" y="1357200"/>
            <a:ext cx="73080" cy="289080"/>
          </a:xfrm>
          <a:prstGeom prst="flowChartConnec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43000" y="4572000"/>
            <a:ext cx="358920" cy="21600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 rot="10800000">
            <a:off x="1142640" y="1571400"/>
            <a:ext cx="358920" cy="21564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1071720" y="3143160"/>
            <a:ext cx="358560" cy="71640"/>
          </a:xfrm>
          <a:prstGeom prst="flowChartTermina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500040" y="500040"/>
          <a:ext cx="62150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500040"/>
                    <a:ext cx="6215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8"/>
          <p:cNvSpPr/>
          <p:nvPr/>
        </p:nvSpPr>
        <p:spPr>
          <a:xfrm>
            <a:off x="1214280" y="1214280"/>
            <a:ext cx="86364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4000680" y="1214280"/>
            <a:ext cx="86328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1357200" y="1428840"/>
            <a:ext cx="14472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1785960" y="142884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4143240" y="1428840"/>
            <a:ext cx="14472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4572000" y="142884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"/>
          <p:cNvSpPr/>
          <p:nvPr/>
        </p:nvSpPr>
        <p:spPr>
          <a:xfrm>
            <a:off x="6357960" y="1214280"/>
            <a:ext cx="86364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7"/>
          <p:cNvSpPr/>
          <p:nvPr/>
        </p:nvSpPr>
        <p:spPr>
          <a:xfrm>
            <a:off x="6929280" y="1428840"/>
            <a:ext cx="14472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6500880" y="1428840"/>
            <a:ext cx="144360" cy="144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4429080" y="1500120"/>
            <a:ext cx="71640" cy="287280"/>
          </a:xfrm>
          <a:prstGeom prst="flowChartConnec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6786720" y="1500120"/>
            <a:ext cx="71280" cy="287280"/>
          </a:xfrm>
          <a:prstGeom prst="flowChartConnec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1643040" y="1500120"/>
            <a:ext cx="73080" cy="289080"/>
          </a:xfrm>
          <a:prstGeom prst="flowChartConnec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6643800" y="1928880"/>
            <a:ext cx="358560" cy="21600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 rot="10800000">
            <a:off x="1499760" y="1857240"/>
            <a:ext cx="358920" cy="21600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4286160" y="1928880"/>
            <a:ext cx="358920" cy="71280"/>
          </a:xfrm>
          <a:prstGeom prst="flowChartTermina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0040" y="2143080"/>
            <a:ext cx="6215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Моё на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Кто ничего не замечает, тот ничего не изуч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           </a:t>
            </a: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Кто ничего не изучает, тот вечно хнычет и  скуч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                                                 </a:t>
            </a: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(Р. Се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аз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ссказ о чём-то необычном, во что трудно поверить, о невероятном, фантастическ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очная страна.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 : Юрченко Даниил , ученик 2 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нол"/>
          <p:cNvPicPr/>
          <p:nvPr/>
        </p:nvPicPr>
        <p:blipFill>
          <a:blip r:embed="rId1"/>
          <a:stretch/>
        </p:blipFill>
        <p:spPr>
          <a:xfrm>
            <a:off x="1714680" y="2143080"/>
            <a:ext cx="5643360" cy="350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2960" y="2071800"/>
            <a:ext cx="7858080" cy="40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нгерская народная сказк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ва жадных медвежон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640108"/>
          <p:cNvPicPr/>
          <p:nvPr/>
        </p:nvPicPr>
        <p:blipFill>
          <a:blip r:embed="rId2"/>
          <a:stretch/>
        </p:blipFill>
        <p:spPr>
          <a:xfrm>
            <a:off x="1428840" y="1571760"/>
            <a:ext cx="521496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Calibri"/>
              </a:rPr>
              <a:t>стеклянные горы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Calibri"/>
              </a:rPr>
              <a:t>шёлковый луг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Calibri"/>
              </a:rPr>
              <a:t>нехоженый густой л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714680" y="2786040"/>
          <a:ext cx="2819160" cy="346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2786040"/>
                    <a:ext cx="281916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4143240" y="2786040"/>
          <a:ext cx="2786040" cy="335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786040"/>
                    <a:ext cx="278604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                      </a:t>
            </a:r>
            <a:r>
              <a:rPr b="1" i="1" lang="ru-RU" sz="2800" spc="-1" strike="noStrike">
                <a:solidFill>
                  <a:srgbClr val="343437"/>
                </a:solidFill>
                <a:latin typeface="Calibri"/>
              </a:rPr>
              <a:t>Работа в группах.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Читател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р. 50   Какой наказ давала медведица своим сыновьям?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читайт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Друзь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 51.  Как хотели поделить головку сыра медвежата. Что им помешало?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читай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Любознательные:</a:t>
            </a:r>
            <a:br>
              <a:rPr sz="28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тр.51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очитайте выразительно,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ую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мощь предложила лиса </a:t>
            </a:r>
            <a:r>
              <a:rPr b="0" lang="ru-RU" sz="2900" spc="-1" strike="noStrike">
                <a:solidFill>
                  <a:srgbClr val="151516"/>
                </a:solidFill>
                <a:latin typeface="Calibri"/>
              </a:rPr>
              <a:t>медвежатам?</a:t>
            </a:r>
            <a:br>
              <a:rPr sz="2900"/>
            </a:br>
            <a:r>
              <a:rPr b="1" lang="ru-RU" sz="2900" spc="-1" strike="noStrike">
                <a:solidFill>
                  <a:srgbClr val="151516"/>
                </a:solidFill>
                <a:latin typeface="Calibri"/>
              </a:rPr>
              <a:t>                 </a:t>
            </a:r>
            <a:r>
              <a:rPr b="1" lang="ru-RU" sz="2900" spc="-1" strike="noStrike">
                <a:solidFill>
                  <a:srgbClr val="0033cc"/>
                </a:solidFill>
                <a:latin typeface="Calibri"/>
              </a:rPr>
              <a:t>Добрые:</a:t>
            </a:r>
            <a:br>
              <a:rPr sz="29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.51-53.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Сосчитайт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сколько раз делила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исица сыр.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Почему?</a:t>
            </a:r>
            <a:br>
              <a:rPr sz="2500"/>
            </a:br>
            <a:br>
              <a:rPr sz="2900"/>
            </a:br>
            <a:br>
              <a:rPr sz="28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Читатели: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ясните, как вы понимаете пословиц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434a5a"/>
                </a:solidFill>
                <a:latin typeface="Calibri"/>
              </a:rPr>
              <a:t>Жадность последнего ума лишает.</a:t>
            </a:r>
            <a:br>
              <a:rPr sz="2800"/>
            </a:br>
            <a:r>
              <a:rPr b="0" lang="ru-RU" sz="2800" spc="-1" strike="noStrike">
                <a:solidFill>
                  <a:srgbClr val="434a5a"/>
                </a:solidFill>
                <a:latin typeface="Calibri"/>
              </a:rPr>
              <a:t>        Глаза заведущи, руки загребущи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Друзья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ова: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ака, любовь, ненависть, злость, скупость, помощь, беда, уважение, улыбка, добро, обида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делите на 2 группы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ружба  </a:t>
            </a:r>
            <a:r>
              <a:rPr b="0" lang="ru-RU" sz="2800" spc="-1" strike="noStrike">
                <a:solidFill>
                  <a:srgbClr val="434a5a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жадность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Любознательные: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кажите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ходят маленькие медвежата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хитрые лисы?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Добрые: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акими словами можно охарактеризовать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лису в сказках? Какая она?</a:t>
            </a:r>
            <a:br>
              <a:rPr sz="2800"/>
            </a:br>
            <a:br>
              <a:rPr sz="28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Жадность </a:t>
            </a:r>
            <a:r>
              <a:rPr b="0" lang="ru-RU" sz="3600" spc="-1" strike="noStrike">
                <a:solidFill>
                  <a:srgbClr val="0033cc"/>
                </a:solidFill>
                <a:latin typeface="Calibri"/>
              </a:rPr>
              <a:t>    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 Дружба</a:t>
            </a:r>
            <a:br>
              <a:rPr sz="3600"/>
            </a:br>
            <a:r>
              <a:rPr b="0" lang="ru-RU" sz="3600" spc="-1" strike="noStrike">
                <a:solidFill>
                  <a:srgbClr val="434a5a"/>
                </a:solidFill>
                <a:latin typeface="Calibri"/>
              </a:rPr>
              <a:t>                 </a:t>
            </a:r>
            <a:br>
              <a:rPr sz="3600"/>
            </a:br>
            <a:r>
              <a:rPr b="0" lang="ru-RU" sz="3600" spc="-1" strike="noStrike">
                <a:solidFill>
                  <a:srgbClr val="434a5a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нависть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любовь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бида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уважение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еда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добро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купость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улыбк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злость   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омощь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рака       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рас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1180978325_smayl_48"/>
          <p:cNvPicPr/>
          <p:nvPr/>
        </p:nvPicPr>
        <p:blipFill>
          <a:blip r:embed="rId2"/>
          <a:stretch/>
        </p:blipFill>
        <p:spPr>
          <a:xfrm>
            <a:off x="2786040" y="3857760"/>
            <a:ext cx="1857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Calibri"/>
              </a:rPr>
              <a:t>Какая лиса в сказк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"/>
          <p:cNvGraphicFramePr/>
          <p:nvPr/>
        </p:nvGraphicFramePr>
        <p:xfrm>
          <a:off x="1500120" y="2071800"/>
          <a:ext cx="5072040" cy="40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2071800"/>
                    <a:ext cx="507204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17:16Z</dcterms:created>
  <dc:creator>Артём</dc:creator>
  <dc:description/>
  <dc:language>en-US</dc:language>
  <cp:lastModifiedBy>Кривенцов Леонид Александрович</cp:lastModifiedBy>
  <dcterms:modified xsi:type="dcterms:W3CDTF">2011-10-20T12:15:29Z</dcterms:modified>
  <cp:revision>42</cp:revision>
  <dc:subject/>
  <dc:title>Венгерская народная сказка  «Два жадных медвежонка» Урок литературного чтения во 2 классе</dc:title>
</cp:coreProperties>
</file>