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B45B-409F-4EDE-9DE0-AAED9515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70EE-700D-4116-A944-3A582610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B1FB-EAE6-4A75-A63C-E79574A1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6097-AF69-48E0-8C13-DF23D966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E45A-4F09-4548-974A-13ED0200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4DB0-D9DD-4522-A3A2-5A5AA0B8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0CCB-496D-4E87-9E42-4B6D1A9D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0B88-6238-4DC8-9275-A1CF1E8D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16A5-E285-48E9-B510-E1571106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DF83-5E32-4501-B753-407CE2A5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5A6D-F748-4D85-A170-3C45A9A5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7C89-F1A8-4A6F-B95B-138AA994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E53B-667C-43F9-8873-4135C6E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581A-2A63-4C50-BBE2-7CCD9FF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CD0E-0AB7-4216-8187-D471D6A7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7564-6D2F-43CE-AC67-4534FC7B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2C46-391F-48F9-896E-3D819DC0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76D2E-5461-4806-AD3B-2227EB8F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BB3B6-E1AD-483D-B940-F360E9DF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9BA10-429D-4149-A88B-9103E354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49883-D63E-43E7-8C7E-E3F25EDF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8AA0C-7399-4924-A7FE-5D814CD2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CD30-E35D-4009-88E7-DFF644B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EDB9B-9C1D-4022-A1A4-310FD4E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21262-BD24-4582-B65A-060D702F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94EDE-3B1C-42BA-B10A-F5B5317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5F503-E0B2-43A4-AAD9-9DBDCF13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D4202-5773-4A3E-84E8-5B84C5B4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895F3-8F6E-4D56-B08A-81CC314B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0C74E-100C-4E69-9402-3B19EED9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879E2-6A91-44AB-883D-6E1E992F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CA47-E105-40F8-B406-BB6F8C2A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A083-4E0F-4D11-822A-39836AC4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659F-4021-4B04-BF7A-69298369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C7CA-FC31-4D4C-9786-F682354F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701E-B786-433E-987F-82ED5BA0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E7E0-757D-4882-81FB-06E64BE4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831D-A964-4513-8A94-3C42FB1B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E91C0-C5C4-474C-A8B9-D35AA6D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2414-3A82-4C9A-845D-D71024A2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EB47-D3C9-4159-8D35-597248BC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9B1F-EDDE-46F2-9F72-B76D5CEF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6531-6572-464C-8418-711FB96A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BA6FE8-37B6-42EE-8CAB-440542F2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A3B9-B142-4197-A5AF-C6A71068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F0E7BF-7790-4409-BD48-B2B46644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EAD2E-BE0A-4BCA-96FC-24C1B634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E9B750-AB91-4F55-9D89-839CD0A5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1E067B-B966-4443-95CE-FD3421FB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73B060-3BDB-4D06-B6C5-3CBCC519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FFB441-BA16-4707-8505-BE45F18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75A0EE-7B79-4264-9E7A-D851E7B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5656FC-1B87-4062-9D8C-2D19C907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79F560-6D87-47F6-8385-869F47D7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C474ED-60EB-48BE-B67E-7E3B1F2C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B0F4-ECAB-4589-B511-5A8F3E45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450EFD-8C7C-4AEF-BFB2-F57F54CF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CA8F-8F8A-438F-8A3C-4195955E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15A7F-C8C0-4DFE-9776-94641AB9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635A-AA6E-4826-8CF6-9A3EA03C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81C80-8DE0-4991-90E1-288E7750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950B-6D06-4E3F-A447-11CC34B8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7BD84-025B-4862-9E43-26FF70C5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0B7B7-2AEA-478F-A01E-A407AE09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EF672-CFDC-422B-BA7D-E5BA1823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6D79-64A7-47F5-950D-412C04F3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8D3B-DEC5-4AFF-BBCE-651CD332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4A2BE-AAEC-42BE-9B36-D198D59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45582-FF30-4960-AE59-684AA0F0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CD869-4EEF-4870-B462-8EBC2F49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0764-71A5-43A1-98A6-6F9170F2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1AF9-B579-41AE-9BAB-2A4F91B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1326-F81B-4703-8B31-B83C9DCF5CE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B179-1E6D-44E7-802B-41280FD39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9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982-EA2E-40DA-B4AC-73CFECF06E9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EC48-C75E-4DF6-9832-C0D6C054FD7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FD22-EA90-4607-BAC7-3F7B9840C4D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5732-6C3F-4A7D-9D6B-D9140EC38B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WordArt 4" descr=""/>
          <p:cNvPicPr/>
          <p:nvPr/>
        </p:nvPicPr>
        <p:blipFill>
          <a:blip r:embed="rId1"/>
          <a:stretch/>
        </p:blipFill>
        <p:spPr>
          <a:xfrm>
            <a:off x="1036800" y="2054160"/>
            <a:ext cx="7211880" cy="1328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Администратор\Мои документы\Мои рисунки\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7" descr=""/>
          <p:cNvPicPr/>
          <p:nvPr/>
        </p:nvPicPr>
        <p:blipFill>
          <a:blip r:embed="rId3"/>
          <a:stretch/>
        </p:blipFill>
        <p:spPr>
          <a:xfrm>
            <a:off x="1238400" y="1676520"/>
            <a:ext cx="6881760" cy="22302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8"/>
          <p:cNvSpPr/>
          <p:nvPr/>
        </p:nvSpPr>
        <p:spPr>
          <a:xfrm>
            <a:off x="2556000" y="3645000"/>
            <a:ext cx="43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a9432"/>
                </a:solidFill>
                <a:latin typeface="Times New Roman"/>
                <a:ea typeface="Times New Roman"/>
              </a:rPr>
              <a:t>Урок-путешеств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4"/>
          <p:cNvSpPr/>
          <p:nvPr/>
        </p:nvSpPr>
        <p:spPr>
          <a:xfrm>
            <a:off x="1432080" y="189000"/>
            <a:ext cx="53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Impact"/>
              </a:rPr>
              <a:t>     </a:t>
            </a:r>
            <a:r>
              <a:rPr b="1" lang="ru-RU" sz="6000" spc="-1" strike="noStrike">
                <a:solidFill>
                  <a:srgbClr val="002060"/>
                </a:solidFill>
                <a:latin typeface="Impact"/>
              </a:rPr>
              <a:t>Био-Био</a:t>
            </a:r>
            <a:r>
              <a:rPr b="0" lang="ru-RU" sz="7200" spc="-1" strike="noStrike">
                <a:solidFill>
                  <a:srgbClr val="ffffff"/>
                </a:solidFill>
                <a:latin typeface="Impact"/>
              </a:rPr>
              <a:t> 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50920" y="537372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а Био-Био была открыта испанским конкистадором Хуаном Баутистой Пастене в 1544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Картинка 58 из 225"/>
          <p:cNvPicPr/>
          <p:nvPr/>
        </p:nvPicPr>
        <p:blipFill>
          <a:blip r:embed="rId1"/>
          <a:stretch/>
        </p:blipFill>
        <p:spPr>
          <a:xfrm>
            <a:off x="900000" y="1773360"/>
            <a:ext cx="7020000" cy="3206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Картинка 89 из 225"/>
          <p:cNvPicPr/>
          <p:nvPr/>
        </p:nvPicPr>
        <p:blipFill>
          <a:blip r:embed="rId1"/>
          <a:stretch/>
        </p:blipFill>
        <p:spPr>
          <a:xfrm>
            <a:off x="468360" y="1484280"/>
            <a:ext cx="7956360" cy="339876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1835280" y="260280"/>
            <a:ext cx="446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Impact"/>
              </a:rPr>
              <a:t>Био-Би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324000" y="51577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и, питающиеся снегами  Анд и зимними дождями, имеют двойной паводок (декабрь-январь и июнь-июль) и очень важны как источники орошения и гидроэнергии. Южнее реки полноводны в течение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0" y="1890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Impact"/>
              </a:rPr>
              <a:t>Флора и фауна рек Тихого оке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Картинка 1 из 160051"/>
          <p:cNvPicPr/>
          <p:nvPr/>
        </p:nvPicPr>
        <p:blipFill>
          <a:blip r:embed="rId1"/>
          <a:stretch/>
        </p:blipFill>
        <p:spPr>
          <a:xfrm>
            <a:off x="0" y="907920"/>
            <a:ext cx="4140360" cy="2901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Картинка 14 из 11402"/>
          <p:cNvPicPr/>
          <p:nvPr/>
        </p:nvPicPr>
        <p:blipFill>
          <a:blip r:embed="rId2"/>
          <a:stretch/>
        </p:blipFill>
        <p:spPr>
          <a:xfrm>
            <a:off x="4427640" y="3762360"/>
            <a:ext cx="4392360" cy="28828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>
            <a:off x="4211640" y="907920"/>
            <a:ext cx="4932360" cy="2775960"/>
          </a:xfrm>
          <a:prstGeom prst="rect">
            <a:avLst/>
          </a:prstGeom>
          <a:solidFill>
            <a:srgbClr val="db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ногие виды явля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пулярными аквариум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ыб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0" y="3789360"/>
            <a:ext cx="421164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еса по берегам рек встреч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 в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дельных рощ, состоящих и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раукарии, платана и эвкалип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6836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 Южной Америке много озер различного происхож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Назовите крупнейшие из ни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-513000" y="981000"/>
            <a:ext cx="819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4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зера Южной Амер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324000" y="465300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Картинка 31 из 300"/>
          <p:cNvPicPr/>
          <p:nvPr/>
        </p:nvPicPr>
        <p:blipFill>
          <a:blip r:embed="rId1"/>
          <a:stretch/>
        </p:blipFill>
        <p:spPr>
          <a:xfrm>
            <a:off x="539640" y="1197000"/>
            <a:ext cx="4248360" cy="5013360"/>
          </a:xfrm>
          <a:prstGeom prst="rect">
            <a:avLst/>
          </a:prstGeom>
          <a:ln w="0">
            <a:noFill/>
          </a:ln>
        </p:spPr>
      </p:pic>
      <p:sp>
        <p:nvSpPr>
          <p:cNvPr id="317" name="WordArt 6"/>
          <p:cNvSpPr txBox="1"/>
          <p:nvPr/>
        </p:nvSpPr>
        <p:spPr>
          <a:xfrm>
            <a:off x="2771640" y="333360"/>
            <a:ext cx="460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о Титикака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788000" y="1197000"/>
            <a:ext cx="4178160" cy="33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ое большое высокогор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зер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оложено на высоте 4000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ереводе на рус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вятое озер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4"/>
          <p:cNvSpPr txBox="1"/>
          <p:nvPr/>
        </p:nvSpPr>
        <p:spPr>
          <a:xfrm>
            <a:off x="1835280" y="333360"/>
            <a:ext cx="568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о Маракайбо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0" name="Picture 5" descr="Карта озера"/>
          <p:cNvPicPr/>
          <p:nvPr/>
        </p:nvPicPr>
        <p:blipFill>
          <a:blip r:embed="rId1"/>
          <a:stretch/>
        </p:blipFill>
        <p:spPr>
          <a:xfrm>
            <a:off x="250920" y="1197000"/>
            <a:ext cx="3240000" cy="2709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3492360" y="1052640"/>
            <a:ext cx="54723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лоноватое, расположено в Венесуэ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ысота над уровнем моря 0 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лощадь зеркала 13210 км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ибольшая глубина 60 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ъём 280 км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падающая река Кататумб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7" descr="Картинка 10 из 16027"/>
          <p:cNvPicPr/>
          <p:nvPr/>
        </p:nvPicPr>
        <p:blipFill>
          <a:blip r:embed="rId2"/>
          <a:stretch/>
        </p:blipFill>
        <p:spPr>
          <a:xfrm>
            <a:off x="336600" y="1152360"/>
            <a:ext cx="3155760" cy="515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1"/>
          <p:cNvPicPr/>
          <p:nvPr/>
        </p:nvPicPr>
        <p:blipFill>
          <a:blip r:embed="rId1"/>
          <a:stretch/>
        </p:blipFill>
        <p:spPr>
          <a:xfrm>
            <a:off x="611280" y="363600"/>
            <a:ext cx="7848360" cy="41799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6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Настоящим чудом природы этих мест являются "молнии Кататумбо"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Молния бьёт  от 140 до 160 дней в год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практически непрерывно по 7–10 часов за н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Это явление является настоящим маяком озера Маракайб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4"/>
          <p:cNvSpPr txBox="1"/>
          <p:nvPr/>
        </p:nvSpPr>
        <p:spPr>
          <a:xfrm>
            <a:off x="1692360" y="476280"/>
            <a:ext cx="2950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6" name="Picture 6" descr="Картинка 171 из 162434"/>
          <p:cNvPicPr/>
          <p:nvPr/>
        </p:nvPicPr>
        <p:blipFill>
          <a:blip r:embed="rId1"/>
          <a:stretch/>
        </p:blipFill>
        <p:spPr>
          <a:xfrm>
            <a:off x="0" y="1125360"/>
            <a:ext cx="4356000" cy="3084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Картинка 30 из 70208"/>
          <p:cNvPicPr/>
          <p:nvPr/>
        </p:nvPicPr>
        <p:blipFill>
          <a:blip r:embed="rId2"/>
          <a:stretch/>
        </p:blipFill>
        <p:spPr>
          <a:xfrm>
            <a:off x="4716360" y="4205160"/>
            <a:ext cx="4427640" cy="26528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5"/>
          <p:cNvSpPr/>
          <p:nvPr/>
        </p:nvSpPr>
        <p:spPr>
          <a:xfrm>
            <a:off x="4500720" y="1125360"/>
            <a:ext cx="464328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000"/>
                </a:solidFill>
                <a:latin typeface="Times New Roman"/>
                <a:ea typeface="Times New Roman"/>
              </a:rPr>
              <a:t>По берегам Маракайбо насчитывается до 700 видов орхи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0" y="4365720"/>
            <a:ext cx="4500720" cy="25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6000"/>
                </a:solidFill>
                <a:latin typeface="Times New Roman"/>
                <a:ea typeface="Times New Roman"/>
              </a:rPr>
              <a:t>Здесь растут кофейное и хинное дерево, различные виды пальм, лавры кипарисы, саман - гигантская мимоза, древовидные папоротники, высотой до 3 метров, агавы, различные виды какту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Флора и фауна озер Южной Амер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1"/>
          <p:cNvSpPr/>
          <p:nvPr/>
        </p:nvSpPr>
        <p:spPr>
          <a:xfrm>
            <a:off x="82692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полните табли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116000" y="836640"/>
          <a:ext cx="6985080" cy="5689440"/>
        </p:xfrm>
        <a:graphic>
          <a:graphicData uri="http://schemas.openxmlformats.org/drawingml/2006/table">
            <a:tbl>
              <a:tblPr/>
              <a:tblGrid>
                <a:gridCol w="1071720"/>
                <a:gridCol w="1357200"/>
                <a:gridCol w="1008000"/>
                <a:gridCol w="1219320"/>
                <a:gridCol w="1174680"/>
                <a:gridCol w="1154160"/>
              </a:tblGrid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ь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ж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т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и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Атлантический оке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лиянием рек Мараньон и Укая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Атлантический оке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новодн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новодна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ождев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22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ихий оке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Реки берут начало в озерах и ледниках высокогорья Ан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ихий оке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новод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едники замерзают уровень воды пада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еимущественно ледников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араграф 40, ответить на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общение о водопадах  Южной Амер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1763640" y="476280"/>
            <a:ext cx="55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4a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«Я жалею о том, что не видел лица всей земли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   </a:t>
            </a: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Всех ее океанов, вершин и закат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   </a:t>
            </a: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Только парус мечты вел по свету мои корабли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    </a:t>
            </a: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Только в стеклах витрин я встречал альбатросов и скат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Я не слышал как в Лондоне час отбивает Биг-Бен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Я не видел, как звезды сползают к фьордам все ниже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   </a:t>
            </a: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Как кипит за кормой горький снег атлантических пе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   </a:t>
            </a:r>
            <a:r>
              <a:rPr b="0" lang="ru-RU" sz="2700" spc="-1" strike="noStrike">
                <a:solidFill>
                  <a:srgbClr val="ffff4a"/>
                </a:solidFill>
                <a:latin typeface="Arial"/>
              </a:rPr>
              <a:t>И в начале весны голубеют фиалки в Париже.»                           Р.Рождественски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39280" y="5300280"/>
            <a:ext cx="814716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  <a:ea typeface="HG明朝E"/>
              </a:rPr>
              <a:t>   </a:t>
            </a:r>
            <a:r>
              <a:rPr b="1" lang="ru-RU" sz="2800" spc="-1" strike="noStrike">
                <a:solidFill>
                  <a:srgbClr val="ffff4a"/>
                </a:solidFill>
                <a:latin typeface="Times New Roman"/>
                <a:ea typeface="HG明朝E"/>
              </a:rPr>
              <a:t>Устье Амазонки было открыто испанцем Висенте Яньесом Пинсоном в 1500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WordArt 6"/>
          <p:cNvSpPr txBox="1"/>
          <p:nvPr/>
        </p:nvSpPr>
        <p:spPr>
          <a:xfrm>
            <a:off x="1258920" y="333360"/>
            <a:ext cx="68421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мазонка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7" name="Picture 5" descr="Река Амазонка (18 фото)"/>
          <p:cNvPicPr/>
          <p:nvPr/>
        </p:nvPicPr>
        <p:blipFill>
          <a:blip r:embed="rId1"/>
          <a:stretch/>
        </p:blipFill>
        <p:spPr>
          <a:xfrm>
            <a:off x="1403280" y="1125360"/>
            <a:ext cx="672804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5867280" y="764640"/>
            <a:ext cx="28908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Протекает по территории Амазонской низмен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</a:rPr>
              <a:t>Исток</a:t>
            </a: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 слияние рек Мараньон и Укая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</a:rPr>
              <a:t>Устье </a:t>
            </a: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Атлантический оке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</a:rPr>
              <a:t>Длина</a:t>
            </a: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 6400 к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</a:rPr>
              <a:t>Площадь бассейна</a:t>
            </a: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 7180 тыс. к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WordArt 4"/>
          <p:cNvSpPr txBox="1"/>
          <p:nvPr/>
        </p:nvSpPr>
        <p:spPr>
          <a:xfrm>
            <a:off x="755640" y="333360"/>
            <a:ext cx="4968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мазонка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Picture 5" descr="karta"/>
          <p:cNvPicPr/>
          <p:nvPr/>
        </p:nvPicPr>
        <p:blipFill>
          <a:blip r:embed="rId1"/>
          <a:stretch/>
        </p:blipFill>
        <p:spPr>
          <a:xfrm>
            <a:off x="684360" y="1484280"/>
            <a:ext cx="498312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5280" y="4797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</a:rPr>
              <a:t>Амазонка имеет сложный и своеобразный режим. Она полноводна в течении всего года. На долю Амазонки приходится 15-17% от стока всех  рек земного ша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WordArt 4"/>
          <p:cNvSpPr txBox="1"/>
          <p:nvPr/>
        </p:nvSpPr>
        <p:spPr>
          <a:xfrm>
            <a:off x="2700360" y="333360"/>
            <a:ext cx="331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мазонка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3" name="Picture 5" descr="Закат на реке Амазонке"/>
          <p:cNvPicPr/>
          <p:nvPr/>
        </p:nvPicPr>
        <p:blipFill>
          <a:blip r:embed="rId1"/>
          <a:stretch/>
        </p:blipFill>
        <p:spPr>
          <a:xfrm>
            <a:off x="826920" y="1197000"/>
            <a:ext cx="7043760" cy="2997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WordArt 4" descr=""/>
          <p:cNvPicPr/>
          <p:nvPr/>
        </p:nvPicPr>
        <p:blipFill>
          <a:blip r:embed="rId1"/>
          <a:stretch/>
        </p:blipFill>
        <p:spPr>
          <a:xfrm>
            <a:off x="1689120" y="328680"/>
            <a:ext cx="6010200" cy="652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Закат на реке Амазонке"/>
          <p:cNvPicPr/>
          <p:nvPr/>
        </p:nvPicPr>
        <p:blipFill>
          <a:blip r:embed="rId2"/>
          <a:stretch/>
        </p:blipFill>
        <p:spPr>
          <a:xfrm>
            <a:off x="250920" y="1341360"/>
            <a:ext cx="4284720" cy="2630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0" y="4221000"/>
            <a:ext cx="4572000" cy="26370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АНАКО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Средние размеры взрос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анаконды  5-6 м, но изре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встречаются особи д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10 м дли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Закат на реке Амазонке"/>
          <p:cNvPicPr/>
          <p:nvPr/>
        </p:nvPicPr>
        <p:blipFill>
          <a:blip r:embed="rId3"/>
          <a:stretch/>
        </p:blipFill>
        <p:spPr>
          <a:xfrm>
            <a:off x="4716360" y="4076640"/>
            <a:ext cx="4176720" cy="25639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4643280" y="1413000"/>
            <a:ext cx="4500720" cy="244764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ПИРАН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Пираньи принадлежат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отряду карпообразных. Са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крупные из них достиг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HG明朝E"/>
              </a:rPr>
              <a:t>60 см в дли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4"/>
          <p:cNvSpPr txBox="1"/>
          <p:nvPr/>
        </p:nvSpPr>
        <p:spPr>
          <a:xfrm>
            <a:off x="1258920" y="404640"/>
            <a:ext cx="640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уна   Амазонии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Picture 6" descr="Закат на реке Амазонке"/>
          <p:cNvPicPr/>
          <p:nvPr/>
        </p:nvPicPr>
        <p:blipFill>
          <a:blip r:embed="rId1"/>
          <a:stretch/>
        </p:blipFill>
        <p:spPr>
          <a:xfrm>
            <a:off x="179280" y="1484280"/>
            <a:ext cx="3888000" cy="23702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7"/>
          <p:cNvSpPr/>
          <p:nvPr/>
        </p:nvSpPr>
        <p:spPr>
          <a:xfrm>
            <a:off x="0" y="4221000"/>
            <a:ext cx="4140360" cy="26370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ЧЕРНЫЙ КАЙ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HG明朝E"/>
              </a:rPr>
              <a:t>самый крупный ви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HG明朝E"/>
              </a:rPr>
              <a:t>аллигатор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HG明朝E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HG明朝E"/>
              </a:rPr>
              <a:t>и второе по величине живот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HG明朝E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HG明朝E"/>
              </a:rPr>
              <a:t>Южной Америки, пос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HG明朝E"/>
              </a:rPr>
              <a:t>Оринокского  крокодила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HG明朝E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АРАПАИМА"/>
          <p:cNvPicPr/>
          <p:nvPr/>
        </p:nvPicPr>
        <p:blipFill>
          <a:blip r:embed="rId2"/>
          <a:stretch/>
        </p:blipFill>
        <p:spPr>
          <a:xfrm>
            <a:off x="4500720" y="4076640"/>
            <a:ext cx="4319280" cy="25750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4643280" y="1268280"/>
            <a:ext cx="4500720" cy="24480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АРАПА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Известна в Бразилии под назва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ираруку и является такж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одной из крупнейших совреме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есноводных рыб. По одним данны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она достигает длины 2,4 м и веса 90 к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о другим — 4,6 м и 200 к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http://foto.awd.ru/data/media/65/mauritius171.jpg"/>
          <p:cNvPicPr/>
          <p:nvPr/>
        </p:nvPicPr>
        <p:blipFill>
          <a:blip r:embed="rId1"/>
          <a:stretch/>
        </p:blipFill>
        <p:spPr>
          <a:xfrm>
            <a:off x="0" y="1413000"/>
            <a:ext cx="4211640" cy="250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11" descr="Виктория регия  - фото (фотографии)"/>
          <p:cNvPicPr/>
          <p:nvPr/>
        </p:nvPicPr>
        <p:blipFill>
          <a:blip r:embed="rId2"/>
          <a:stretch/>
        </p:blipFill>
        <p:spPr>
          <a:xfrm>
            <a:off x="4500720" y="4049640"/>
            <a:ext cx="4248000" cy="25686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4"/>
          <p:cNvSpPr/>
          <p:nvPr/>
        </p:nvSpPr>
        <p:spPr>
          <a:xfrm>
            <a:off x="4716360" y="1413000"/>
            <a:ext cx="4427640" cy="265428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 тихих заводях произрастает интересное растение кувшинка виктория -рег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1835280" y="333360"/>
            <a:ext cx="53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Impact"/>
              </a:rPr>
              <a:t>Флора   Амазон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19"/>
          <p:cNvSpPr/>
          <p:nvPr/>
        </p:nvSpPr>
        <p:spPr>
          <a:xfrm>
            <a:off x="0" y="4149720"/>
            <a:ext cx="4211640" cy="270828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круглые листья имеют диаметр до 2 метров и выдерживают вес до 50 килогра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Файл:Mapa río Biobío.png"/>
          <p:cNvPicPr/>
          <p:nvPr/>
        </p:nvPicPr>
        <p:blipFill>
          <a:blip r:embed="rId1"/>
          <a:stretch/>
        </p:blipFill>
        <p:spPr>
          <a:xfrm>
            <a:off x="395280" y="1557360"/>
            <a:ext cx="4141800" cy="489600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7"/>
          <p:cNvSpPr/>
          <p:nvPr/>
        </p:nvSpPr>
        <p:spPr>
          <a:xfrm>
            <a:off x="4932360" y="1557360"/>
            <a:ext cx="396072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Протекает примерно в 500 км югу от Сантья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</a:rPr>
              <a:t>Исток</a:t>
            </a: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 у озер в Анд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</a:rPr>
              <a:t>Устье </a:t>
            </a: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Тихий оке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</a:rPr>
              <a:t>Длина</a:t>
            </a: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 380к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Times New Roman"/>
              </a:rPr>
              <a:t>Площадь бассейна</a:t>
            </a:r>
            <a:r>
              <a:rPr b="0" lang="ru-RU" sz="2800" spc="-1" strike="noStrike">
                <a:solidFill>
                  <a:srgbClr val="ffff4a"/>
                </a:solidFill>
                <a:latin typeface="Times New Roman"/>
              </a:rPr>
              <a:t> 24264  кв.к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2771640" y="0"/>
            <a:ext cx="3178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Impact"/>
              </a:rPr>
              <a:t>Био-Би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21:59:00Z</dcterms:created>
  <dc:creator>Долгорукова</dc:creator>
  <dc:description/>
  <dc:language>en-US</dc:language>
  <cp:lastModifiedBy>Admin</cp:lastModifiedBy>
  <dcterms:modified xsi:type="dcterms:W3CDTF">2012-02-24T04:27:58Z</dcterms:modified>
  <cp:revision>86</cp:revision>
  <dc:subject/>
  <dc:title>Внутренние воды Южной Америки</dc:title>
</cp:coreProperties>
</file>