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920-FBB6-4025-A95E-277A2B3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84B-AB8F-4027-840F-4C846EC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48F-C2A1-46A8-9F04-CA5C1D5D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27E-233C-4BF9-9CAD-DA478B54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8F8C-ADB0-4328-BC04-7DA167AF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247-9A89-49F5-8A15-2544F02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6F5A-8902-44D2-A11A-6409854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FFDF-9A9B-4484-BC06-4D4216CD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46E-4557-4F5D-B31A-C5D50693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C293-0998-4359-8994-102501FC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31F6-C68D-40CA-9D30-62259F5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0CB-12AE-4547-8CC6-BB2E0F32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95C-B563-4006-BF09-6A7B1FC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AE4-33F1-4B4E-9978-B37BDC4A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05D6-A2B4-439A-9DDF-705FF63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5D31-7AC8-47AC-8521-3706A645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537F-3597-4FE4-BA98-12687D3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83D0-3AD5-4B6D-B2EB-BC392157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618F-A5D9-4184-9DEC-4832BFE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B5AD-4AF2-4AE8-A2B6-1F328B4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3875-C75E-4E34-B951-3AF194B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FF8C-77B2-49DE-A5AA-040F9C9E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AF1-8E0C-4B95-9B25-2F466BDD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DA5D-FC47-48CC-BC5E-3C61DC9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3B48-41C4-4F60-A389-8A696FA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E316-9778-44A5-93EF-6426ED1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41E3-407C-4D9F-83BA-EEB3793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50C4-52CF-4A85-ACC1-FEA720FB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9029-6A13-4E80-B943-ED5BCA09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9FD0-D735-4C4A-BF96-F63BDBAD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E71F-68E4-48BF-A1F2-FEA75397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F6D1-9B4A-4FC6-9EC1-C176FFA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0061-3C55-46F1-BDB6-2072D2B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29A-8E72-4AC1-9C86-BDDE15F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FF94-5881-47A7-8562-4574E29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12AA-6AC8-434D-80C7-8C98C141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CBD4-7E31-43B5-9B56-41F8049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728C-01BF-44DA-8D45-47718F2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D744-A7D4-41C9-B16A-3B04FB3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1CE7-C8BC-4551-BD29-6C0061C0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C808-4B57-4CAF-B360-BA067C2C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9693-64C9-4E6C-AAB6-82D4CD1D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09DA-C799-4016-AEAC-C1D3CB49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88EA0-47C0-4174-A039-1B6677BF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C06-923C-40DD-B470-A00337AD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E836-1705-4603-9B96-D265A2A0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89DD-B770-4BAA-9706-29941D9C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03EBD-3B46-415C-87F3-ED53B6D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EF78-D3F8-4D14-8821-88D73A3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A899-57D8-4DBF-B730-AA86474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9BA7-9A6C-48DE-94F1-CA6A653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31340-FF68-4C61-AA17-4429EE0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CA4E-0805-4E83-B2FE-464AB681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7F60-F60C-4CC9-9C65-C53A0AF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5A91-21FF-4D93-87CA-743EC50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884-E9CA-408E-9776-F2BD2D24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A968-1EDC-4A0B-96EC-7D1FBF6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0849-14D7-4D46-B91C-5C28E5F4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2149-B94E-4F65-8A8B-7E97A2D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8EDB1-77EC-41E2-AB58-31F68A98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F88B-484A-4B9A-9A61-A80759D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68362-5484-4D1F-B645-C5B19A6F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C57D-C070-40C4-BED0-44D37FFD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1042-6CCB-4765-9029-4FC3EEB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C3AD-1883-4F1F-BE5B-325BB0E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C829-B989-42F1-86DD-903E50F6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DEC-60A4-4E3B-9524-C32DC4C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64C3-C8E8-4369-B533-B868359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13604-C2E1-4EDA-A356-B2FB5F5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BC63-0251-4397-BCE6-46BE069B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933-6CFD-4FAD-B9B2-39403C6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4A7-C61C-43D2-A7F4-7F18F5A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013-AED3-4268-8FAB-524A95EC035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0D4-3E81-411D-AA60-5896F083CAB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30F7-A8B5-43BE-8707-F366ED8202C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41B-D4D9-4D63-9EC8-FA7FF475CB2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1C8-773E-428C-A9AC-150DDC1813E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elix Titling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6E3-0B02-41B9-B831-73E1FC87651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1008.jpg"/>
          <p:cNvPicPr/>
          <p:nvPr/>
        </p:nvPicPr>
        <p:blipFill>
          <a:blip r:embed="rId1"/>
          <a:stretch/>
        </p:blipFill>
        <p:spPr>
          <a:xfrm>
            <a:off x="-396720" y="-2692440"/>
            <a:ext cx="9540720" cy="13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elix Titling"/>
              </a:rPr>
              <a:t>М.И.Кутузов - главнокомандующий русской армией </a:t>
            </a:r>
            <a:r>
              <a:rPr b="0" lang="ru-RU" sz="3200" spc="-1" strike="noStrike">
                <a:solidFill>
                  <a:srgbClr val="ff0000"/>
                </a:solidFill>
                <a:latin typeface="Felix Titling"/>
              </a:rPr>
              <a:t>(1745-1813)</a:t>
            </a:r>
            <a:endParaRPr b="0" lang="en-US" sz="32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2214720"/>
            <a:ext cx="43164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енищев-Кутузов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тлейший кн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ленск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льдмарш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4859280" y="1563840"/>
            <a:ext cx="388944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Группа 4"/>
          <p:cNvGrpSpPr/>
          <p:nvPr/>
        </p:nvGrpSpPr>
        <p:grpSpPr>
          <a:xfrm>
            <a:off x="-47520" y="0"/>
            <a:ext cx="9191520" cy="6858000"/>
            <a:chOff x="-47520" y="0"/>
            <a:chExt cx="9191520" cy="6858000"/>
          </a:xfrm>
        </p:grpSpPr>
        <p:pic>
          <p:nvPicPr>
            <p:cNvPr id="289" name="Picture 3" descr=""/>
            <p:cNvPicPr/>
            <p:nvPr/>
          </p:nvPicPr>
          <p:blipFill>
            <a:blip r:embed="rId1"/>
            <a:stretch/>
          </p:blipFill>
          <p:spPr>
            <a:xfrm>
              <a:off x="-47520" y="0"/>
              <a:ext cx="9191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Box 2"/>
            <p:cNvSpPr/>
            <p:nvPr/>
          </p:nvSpPr>
          <p:spPr>
            <a:xfrm>
              <a:off x="500040" y="2857320"/>
              <a:ext cx="278604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22 августа 1812г.  русская армия развернулась вдоль р.Колочи у с.Бородино под Можайском, примерно в 125км от Москвы. В русской армии насчитывалось – 120 тыс. человек и 600 орудий. У Наполеона  -135 тыс. человек  и чуть меньше 600 оруд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Управляющая кнопка: фильм 4"/>
          <p:cNvGrpSpPr/>
          <p:nvPr/>
        </p:nvGrpSpPr>
        <p:grpSpPr>
          <a:xfrm>
            <a:off x="7559640" y="201600"/>
            <a:ext cx="1455840" cy="596880"/>
            <a:chOff x="7559640" y="201600"/>
            <a:chExt cx="1455840" cy="596880"/>
          </a:xfrm>
        </p:grpSpPr>
        <p:pic>
          <p:nvPicPr>
            <p:cNvPr id="292" name="Управляющая кнопка: фильм 4" descr=""/>
            <p:cNvPicPr/>
            <p:nvPr/>
          </p:nvPicPr>
          <p:blipFill>
            <a:blip r:embed="rId2"/>
            <a:stretch/>
          </p:blipFill>
          <p:spPr>
            <a:xfrm>
              <a:off x="7559640" y="201600"/>
              <a:ext cx="14558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643880" y="28584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Группа 8"/>
          <p:cNvGrpSpPr/>
          <p:nvPr/>
        </p:nvGrpSpPr>
        <p:grpSpPr>
          <a:xfrm>
            <a:off x="3373560" y="531720"/>
            <a:ext cx="4321080" cy="3568680"/>
            <a:chOff x="3373560" y="531720"/>
            <a:chExt cx="4321080" cy="3568680"/>
          </a:xfrm>
        </p:grpSpPr>
        <p:grpSp>
          <p:nvGrpSpPr>
            <p:cNvPr id="295" name="Полилиния 6"/>
            <p:cNvGrpSpPr/>
            <p:nvPr/>
          </p:nvGrpSpPr>
          <p:grpSpPr>
            <a:xfrm>
              <a:off x="3373560" y="531720"/>
              <a:ext cx="4321080" cy="3568680"/>
              <a:chOff x="3373560" y="531720"/>
              <a:chExt cx="4321080" cy="3568680"/>
            </a:xfrm>
          </p:grpSpPr>
          <p:pic>
            <p:nvPicPr>
              <p:cNvPr id="296" name="Полилиния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73560" y="531720"/>
                <a:ext cx="4321080" cy="35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3451680" y="630720"/>
                <a:ext cx="4150440" cy="336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98" name="TextBox 7" descr=""/>
            <p:cNvPicPr/>
            <p:nvPr/>
          </p:nvPicPr>
          <p:blipFill>
            <a:blip r:embed="rId4"/>
            <a:stretch/>
          </p:blipFill>
          <p:spPr>
            <a:xfrm>
              <a:off x="3636720" y="2120400"/>
              <a:ext cx="2740320" cy="172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Picture 6" descr="E:\Документы\Мои рисунки\new_11011.gif"/>
          <p:cNvPicPr/>
          <p:nvPr/>
        </p:nvPicPr>
        <p:blipFill>
          <a:blip r:embed="rId5"/>
          <a:stretch/>
        </p:blipFill>
        <p:spPr>
          <a:xfrm>
            <a:off x="7072200" y="1714680"/>
            <a:ext cx="64944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elix Titling"/>
              </a:rPr>
              <a:t>Бородинское сраж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elix Titling"/>
              </a:rPr>
              <a:t>(26 августа)</a:t>
            </a:r>
            <a:endParaRPr b="0" lang="en-US" sz="4000" spc="-1" strike="noStrike">
              <a:solidFill>
                <a:srgbClr val="ffffff"/>
              </a:solidFill>
              <a:latin typeface="Felix Titling"/>
            </a:endParaRPr>
          </a:p>
        </p:txBody>
      </p:sp>
      <p:pic>
        <p:nvPicPr>
          <p:cNvPr id="301" name="Picture 9" descr="brdn012"/>
          <p:cNvPicPr/>
          <p:nvPr/>
        </p:nvPicPr>
        <p:blipFill>
          <a:blip r:embed="rId1"/>
          <a:stretch/>
        </p:blipFill>
        <p:spPr>
          <a:xfrm>
            <a:off x="2362320" y="1752480"/>
            <a:ext cx="4647960" cy="3048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brdn017"/>
          <p:cNvPicPr/>
          <p:nvPr/>
        </p:nvPicPr>
        <p:blipFill>
          <a:blip r:embed="rId2"/>
          <a:stretch/>
        </p:blipFill>
        <p:spPr>
          <a:xfrm>
            <a:off x="5410080" y="388620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8052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8" descr="brdn004"/>
          <p:cNvPicPr/>
          <p:nvPr/>
        </p:nvPicPr>
        <p:blipFill>
          <a:blip r:embed="rId3"/>
          <a:stretch/>
        </p:blipFill>
        <p:spPr>
          <a:xfrm>
            <a:off x="228600" y="3809880"/>
            <a:ext cx="37321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4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4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elix Titling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Felix Titling"/>
              </a:rPr>
              <a:t>1 сентября 1812г. – совет в Филях</a:t>
            </a:r>
            <a:endParaRPr b="0" lang="en-US" sz="40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4200" y="4581000"/>
            <a:ext cx="87868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ка будет еще существовать армия и находится в состоянии противится неприятелю, до тех пор останется еще надежда с честью окончить войну, но при уничтожении армии не только Москва, но и вся Россия была бы потеряна.»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утузо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1403280" y="1079640"/>
            <a:ext cx="6408720" cy="346068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elix Titling"/>
              </a:rPr>
              <a:t>2 сентября 1812г.- оставлена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Felix Titling"/>
              </a:rPr>
              <a:t>Москва</a:t>
            </a:r>
            <a:endParaRPr b="0" lang="en-US" sz="3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628640"/>
            <a:ext cx="5186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Напрасно ждал Наполеон 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Последним счастьем упоенный,                        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Москвы коленопреклонённ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С ключами старого Кремля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Нет , не пошла Москва мо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К нему с повинной головою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М. Ю. Лермонтов                                         «Бородино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5962680" y="2496960"/>
            <a:ext cx="1409760" cy="273240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Felix Titling"/>
              </a:rPr>
              <a:t>           </a:t>
            </a:r>
            <a:r>
              <a:rPr b="1" lang="ru-RU" sz="4100" spc="-1" strike="noStrike">
                <a:solidFill>
                  <a:srgbClr val="ff0000"/>
                </a:solidFill>
                <a:latin typeface="Felix Titling"/>
              </a:rPr>
              <a:t>Пожар в Москве 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elix Titling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19240" y="1052640"/>
            <a:ext cx="8718480" cy="571500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elix Titling"/>
              </a:rPr>
              <a:t>         </a:t>
            </a:r>
            <a:r>
              <a:rPr b="1" lang="ru-RU" sz="4600" spc="-1" strike="noStrike">
                <a:solidFill>
                  <a:srgbClr val="ff0000"/>
                </a:solidFill>
                <a:latin typeface="Felix Titling"/>
              </a:rPr>
              <a:t>Французы  в Москве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179280" y="1122480"/>
            <a:ext cx="8713800" cy="568152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elix Titling"/>
              </a:rPr>
              <a:t>Партизанская война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асилиса Кожина                                              Герасим Ку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ла отрядом из подростков          Отряд крепостного крестья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 женщин в лесах Смоленска.                  насчитывал 5 тыс, действовал 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московье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3203640" y="357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Денис Давы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560520" y="3067200"/>
            <a:ext cx="2163600" cy="2595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2"/>
          <a:stretch/>
        </p:blipFill>
        <p:spPr>
          <a:xfrm>
            <a:off x="3133800" y="3992400"/>
            <a:ext cx="2297160" cy="2401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3"/>
          <a:stretch/>
        </p:blipFill>
        <p:spPr>
          <a:xfrm>
            <a:off x="6126120" y="3067200"/>
            <a:ext cx="2225880" cy="26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4" descr=""/>
          <p:cNvPicPr/>
          <p:nvPr/>
        </p:nvPicPr>
        <p:blipFill>
          <a:blip r:embed="rId2"/>
          <a:stretch/>
        </p:blipFill>
        <p:spPr>
          <a:xfrm>
            <a:off x="-12600" y="-79200"/>
            <a:ext cx="9175680" cy="682560"/>
          </a:xfrm>
          <a:prstGeom prst="rect">
            <a:avLst/>
          </a:prstGeom>
          <a:ln w="0">
            <a:noFill/>
          </a:ln>
        </p:spPr>
      </p:pic>
      <p:grpSp>
        <p:nvGrpSpPr>
          <p:cNvPr id="323" name="Группа 6"/>
          <p:cNvGrpSpPr/>
          <p:nvPr/>
        </p:nvGrpSpPr>
        <p:grpSpPr>
          <a:xfrm>
            <a:off x="6715080" y="1643040"/>
            <a:ext cx="1785960" cy="571680"/>
            <a:chOff x="6715080" y="1643040"/>
            <a:chExt cx="1785960" cy="571680"/>
          </a:xfrm>
        </p:grpSpPr>
        <p:sp>
          <p:nvSpPr>
            <p:cNvPr id="324" name="5-конечная звезда 3"/>
            <p:cNvSpPr/>
            <p:nvPr/>
          </p:nvSpPr>
          <p:spPr>
            <a:xfrm>
              <a:off x="6715080" y="1955160"/>
              <a:ext cx="283320" cy="259560"/>
            </a:xfrm>
            <a:custGeom>
              <a:avLst/>
              <a:gdLst>
                <a:gd name="textAreaLeft" fmla="*/ 87480 w 283320"/>
                <a:gd name="textAreaRight" fmla="*/ 195840 w 283320"/>
                <a:gd name="textAreaTop" fmla="*/ 99000 h 259560"/>
                <a:gd name="textAreaBottom" fmla="*/ 198360 h 259560"/>
              </a:gdLst>
              <a:ahLst/>
              <a:rect l="textAreaLeft" t="textAreaTop" r="textAreaRight" b="textAreaBottom"/>
              <a:pathLst>
                <a:path w="285752" h="285752">
                  <a:moveTo>
                    <a:pt x="0" y="109147"/>
                  </a:moveTo>
                  <a:lnTo>
                    <a:pt x="109148" y="109148"/>
                  </a:lnTo>
                  <a:lnTo>
                    <a:pt x="142876" y="0"/>
                  </a:lnTo>
                  <a:lnTo>
                    <a:pt x="176604" y="109148"/>
                  </a:lnTo>
                  <a:lnTo>
                    <a:pt x="285752" y="109147"/>
                  </a:lnTo>
                  <a:lnTo>
                    <a:pt x="197449" y="176604"/>
                  </a:lnTo>
                  <a:lnTo>
                    <a:pt x="231178" y="285751"/>
                  </a:lnTo>
                  <a:lnTo>
                    <a:pt x="142876" y="218294"/>
                  </a:lnTo>
                  <a:lnTo>
                    <a:pt x="54574" y="285751"/>
                  </a:lnTo>
                  <a:lnTo>
                    <a:pt x="88303" y="176604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5" name="TextBox 5" descr=""/>
            <p:cNvPicPr/>
            <p:nvPr/>
          </p:nvPicPr>
          <p:blipFill>
            <a:blip r:embed="rId3"/>
            <a:stretch/>
          </p:blipFill>
          <p:spPr>
            <a:xfrm>
              <a:off x="6983640" y="1643040"/>
              <a:ext cx="1517400" cy="49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Группа 7"/>
          <p:cNvGrpSpPr/>
          <p:nvPr/>
        </p:nvGrpSpPr>
        <p:grpSpPr>
          <a:xfrm>
            <a:off x="6429240" y="2071800"/>
            <a:ext cx="2286000" cy="655560"/>
            <a:chOff x="6429240" y="2071800"/>
            <a:chExt cx="2286000" cy="655560"/>
          </a:xfrm>
        </p:grpSpPr>
        <p:sp>
          <p:nvSpPr>
            <p:cNvPr id="327" name="5-конечная звезда 8"/>
            <p:cNvSpPr/>
            <p:nvPr/>
          </p:nvSpPr>
          <p:spPr>
            <a:xfrm>
              <a:off x="6429240" y="2071800"/>
              <a:ext cx="282240" cy="241560"/>
            </a:xfrm>
            <a:custGeom>
              <a:avLst/>
              <a:gdLst>
                <a:gd name="textAreaLeft" fmla="*/ 87120 w 282240"/>
                <a:gd name="textAreaRight" fmla="*/ 195120 w 282240"/>
                <a:gd name="textAreaTop" fmla="*/ 92160 h 241560"/>
                <a:gd name="textAreaBottom" fmla="*/ 184680 h 241560"/>
              </a:gdLst>
              <a:ahLst/>
              <a:rect l="textAreaLeft" t="textAreaTop" r="textAreaRight" b="textAreaBottom"/>
              <a:pathLst>
                <a:path w="285752" h="285509">
                  <a:moveTo>
                    <a:pt x="0" y="109054"/>
                  </a:moveTo>
                  <a:lnTo>
                    <a:pt x="109148" y="109055"/>
                  </a:lnTo>
                  <a:lnTo>
                    <a:pt x="142876" y="0"/>
                  </a:lnTo>
                  <a:lnTo>
                    <a:pt x="176604" y="109055"/>
                  </a:lnTo>
                  <a:lnTo>
                    <a:pt x="285752" y="109054"/>
                  </a:lnTo>
                  <a:lnTo>
                    <a:pt x="197449" y="176453"/>
                  </a:lnTo>
                  <a:lnTo>
                    <a:pt x="231178" y="285508"/>
                  </a:lnTo>
                  <a:lnTo>
                    <a:pt x="142876" y="218108"/>
                  </a:lnTo>
                  <a:lnTo>
                    <a:pt x="54574" y="285508"/>
                  </a:lnTo>
                  <a:lnTo>
                    <a:pt x="88303" y="176453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8" name="TextBox 9" descr=""/>
            <p:cNvPicPr/>
            <p:nvPr/>
          </p:nvPicPr>
          <p:blipFill>
            <a:blip r:embed="rId4"/>
            <a:stretch/>
          </p:blipFill>
          <p:spPr>
            <a:xfrm>
              <a:off x="6684120" y="2268360"/>
              <a:ext cx="203112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Полилиния 10"/>
          <p:cNvSpPr/>
          <p:nvPr/>
        </p:nvSpPr>
        <p:spPr>
          <a:xfrm>
            <a:off x="206280" y="593640"/>
            <a:ext cx="1338480" cy="6202440"/>
          </a:xfrm>
          <a:custGeom>
            <a:avLst/>
            <a:gdLst/>
            <a:ahLst/>
            <a:rect l="l" t="t" r="r" b="b"/>
            <a:pathLst>
              <a:path w="1338649" h="6203092">
                <a:moveTo>
                  <a:pt x="28832" y="0"/>
                </a:moveTo>
                <a:cubicBezTo>
                  <a:pt x="14416" y="105032"/>
                  <a:pt x="0" y="210065"/>
                  <a:pt x="16476" y="308919"/>
                </a:cubicBezTo>
                <a:cubicBezTo>
                  <a:pt x="32952" y="407773"/>
                  <a:pt x="105032" y="486033"/>
                  <a:pt x="127686" y="593125"/>
                </a:cubicBezTo>
                <a:cubicBezTo>
                  <a:pt x="150340" y="700217"/>
                  <a:pt x="123568" y="885568"/>
                  <a:pt x="152400" y="951471"/>
                </a:cubicBezTo>
                <a:cubicBezTo>
                  <a:pt x="181232" y="1017374"/>
                  <a:pt x="257432" y="932936"/>
                  <a:pt x="300681" y="988541"/>
                </a:cubicBezTo>
                <a:cubicBezTo>
                  <a:pt x="343930" y="1044146"/>
                  <a:pt x="325395" y="1233616"/>
                  <a:pt x="411892" y="1285103"/>
                </a:cubicBezTo>
                <a:cubicBezTo>
                  <a:pt x="498389" y="1336590"/>
                  <a:pt x="739346" y="1274806"/>
                  <a:pt x="819665" y="1297460"/>
                </a:cubicBezTo>
                <a:cubicBezTo>
                  <a:pt x="899984" y="1320114"/>
                  <a:pt x="862913" y="1367481"/>
                  <a:pt x="893805" y="1421027"/>
                </a:cubicBezTo>
                <a:cubicBezTo>
                  <a:pt x="924697" y="1474573"/>
                  <a:pt x="959708" y="1571367"/>
                  <a:pt x="1005016" y="1618735"/>
                </a:cubicBezTo>
                <a:cubicBezTo>
                  <a:pt x="1050324" y="1666103"/>
                  <a:pt x="1147119" y="1645509"/>
                  <a:pt x="1165654" y="1705233"/>
                </a:cubicBezTo>
                <a:cubicBezTo>
                  <a:pt x="1184189" y="1764957"/>
                  <a:pt x="1124465" y="1882346"/>
                  <a:pt x="1116227" y="1977081"/>
                </a:cubicBezTo>
                <a:cubicBezTo>
                  <a:pt x="1107989" y="2071816"/>
                  <a:pt x="1110049" y="2207741"/>
                  <a:pt x="1116227" y="2273644"/>
                </a:cubicBezTo>
                <a:cubicBezTo>
                  <a:pt x="1122405" y="2339547"/>
                  <a:pt x="1163594" y="2341606"/>
                  <a:pt x="1153297" y="2372498"/>
                </a:cubicBezTo>
                <a:cubicBezTo>
                  <a:pt x="1143000" y="2403390"/>
                  <a:pt x="1085335" y="2417806"/>
                  <a:pt x="1054443" y="2458995"/>
                </a:cubicBezTo>
                <a:cubicBezTo>
                  <a:pt x="1023551" y="2500184"/>
                  <a:pt x="998838" y="2574325"/>
                  <a:pt x="967946" y="2619633"/>
                </a:cubicBezTo>
                <a:cubicBezTo>
                  <a:pt x="937054" y="2664941"/>
                  <a:pt x="899984" y="2720547"/>
                  <a:pt x="869092" y="2730844"/>
                </a:cubicBezTo>
                <a:cubicBezTo>
                  <a:pt x="838200" y="2741141"/>
                  <a:pt x="829963" y="2669060"/>
                  <a:pt x="782595" y="2681417"/>
                </a:cubicBezTo>
                <a:cubicBezTo>
                  <a:pt x="735227" y="2693774"/>
                  <a:pt x="652848" y="2765854"/>
                  <a:pt x="584886" y="2804984"/>
                </a:cubicBezTo>
                <a:cubicBezTo>
                  <a:pt x="516924" y="2844114"/>
                  <a:pt x="407773" y="2879125"/>
                  <a:pt x="374822" y="2916195"/>
                </a:cubicBezTo>
                <a:cubicBezTo>
                  <a:pt x="341871" y="2953265"/>
                  <a:pt x="376881" y="2998574"/>
                  <a:pt x="387178" y="3027406"/>
                </a:cubicBezTo>
                <a:cubicBezTo>
                  <a:pt x="397475" y="3056238"/>
                  <a:pt x="409832" y="3064477"/>
                  <a:pt x="436605" y="3089190"/>
                </a:cubicBezTo>
                <a:cubicBezTo>
                  <a:pt x="463378" y="3113903"/>
                  <a:pt x="537519" y="3134498"/>
                  <a:pt x="547816" y="3175687"/>
                </a:cubicBezTo>
                <a:cubicBezTo>
                  <a:pt x="558113" y="3216876"/>
                  <a:pt x="510746" y="3299255"/>
                  <a:pt x="498389" y="3336325"/>
                </a:cubicBezTo>
                <a:cubicBezTo>
                  <a:pt x="486032" y="3373395"/>
                  <a:pt x="479854" y="3365157"/>
                  <a:pt x="473676" y="3398108"/>
                </a:cubicBezTo>
                <a:cubicBezTo>
                  <a:pt x="467498" y="3431059"/>
                  <a:pt x="479854" y="3503141"/>
                  <a:pt x="461319" y="3534033"/>
                </a:cubicBezTo>
                <a:cubicBezTo>
                  <a:pt x="442784" y="3564925"/>
                  <a:pt x="389238" y="3556687"/>
                  <a:pt x="362465" y="3583460"/>
                </a:cubicBezTo>
                <a:cubicBezTo>
                  <a:pt x="335692" y="3610233"/>
                  <a:pt x="306859" y="3647304"/>
                  <a:pt x="300681" y="3694671"/>
                </a:cubicBezTo>
                <a:cubicBezTo>
                  <a:pt x="294503" y="3742038"/>
                  <a:pt x="308919" y="3830595"/>
                  <a:pt x="325395" y="3867665"/>
                </a:cubicBezTo>
                <a:cubicBezTo>
                  <a:pt x="341871" y="3904735"/>
                  <a:pt x="362465" y="3898557"/>
                  <a:pt x="399535" y="3917092"/>
                </a:cubicBezTo>
                <a:cubicBezTo>
                  <a:pt x="436605" y="3935627"/>
                  <a:pt x="510746" y="3941806"/>
                  <a:pt x="547816" y="3978876"/>
                </a:cubicBezTo>
                <a:cubicBezTo>
                  <a:pt x="584886" y="4015946"/>
                  <a:pt x="593125" y="4090087"/>
                  <a:pt x="621957" y="4139514"/>
                </a:cubicBezTo>
                <a:cubicBezTo>
                  <a:pt x="650789" y="4188941"/>
                  <a:pt x="700217" y="4232189"/>
                  <a:pt x="720811" y="4275438"/>
                </a:cubicBezTo>
                <a:cubicBezTo>
                  <a:pt x="741406" y="4318687"/>
                  <a:pt x="751703" y="4355757"/>
                  <a:pt x="745524" y="4399006"/>
                </a:cubicBezTo>
                <a:cubicBezTo>
                  <a:pt x="739346" y="4442255"/>
                  <a:pt x="694037" y="4473146"/>
                  <a:pt x="683740" y="4534930"/>
                </a:cubicBezTo>
                <a:cubicBezTo>
                  <a:pt x="673443" y="4596714"/>
                  <a:pt x="679621" y="4703805"/>
                  <a:pt x="683740" y="4769708"/>
                </a:cubicBezTo>
                <a:cubicBezTo>
                  <a:pt x="687859" y="4835611"/>
                  <a:pt x="691978" y="4833551"/>
                  <a:pt x="708454" y="4930346"/>
                </a:cubicBezTo>
                <a:cubicBezTo>
                  <a:pt x="724930" y="5027141"/>
                  <a:pt x="755822" y="5233087"/>
                  <a:pt x="782595" y="5350476"/>
                </a:cubicBezTo>
                <a:cubicBezTo>
                  <a:pt x="809368" y="5467865"/>
                  <a:pt x="817606" y="5542005"/>
                  <a:pt x="869092" y="5634681"/>
                </a:cubicBezTo>
                <a:cubicBezTo>
                  <a:pt x="920578" y="5727357"/>
                  <a:pt x="1029729" y="5834449"/>
                  <a:pt x="1091513" y="5906530"/>
                </a:cubicBezTo>
                <a:cubicBezTo>
                  <a:pt x="1153297" y="5978611"/>
                  <a:pt x="1204784" y="6038336"/>
                  <a:pt x="1239795" y="6067168"/>
                </a:cubicBezTo>
                <a:cubicBezTo>
                  <a:pt x="1274806" y="6096000"/>
                  <a:pt x="1285102" y="6056871"/>
                  <a:pt x="1301578" y="6079525"/>
                </a:cubicBezTo>
                <a:cubicBezTo>
                  <a:pt x="1318054" y="6102179"/>
                  <a:pt x="1328351" y="6152635"/>
                  <a:pt x="1338649" y="6203092"/>
                </a:cubicBezTo>
              </a:path>
            </a:pathLst>
          </a:custGeom>
          <a:noFill/>
          <a:ln w="76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elix Titling"/>
              </a:rPr>
              <a:t>    </a:t>
            </a:r>
            <a:r>
              <a:rPr b="0" lang="ru-RU" sz="4600" spc="-1" strike="noStrike">
                <a:solidFill>
                  <a:srgbClr val="ff0000"/>
                </a:solidFill>
                <a:latin typeface="Felix Titling"/>
              </a:rPr>
              <a:t>Отступление французов</a:t>
            </a:r>
            <a:endParaRPr b="0" lang="en-US" sz="4600" spc="-1" strike="noStrike">
              <a:solidFill>
                <a:srgbClr val="ffffff"/>
              </a:solidFill>
              <a:latin typeface="Felix Titling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44440" y="1341360"/>
            <a:ext cx="8705880" cy="504036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elix Titling"/>
              </a:rPr>
              <a:t>Цель урока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азать, что Отечественная война 1812г. является справедливой войной народа за свободу и независимость своей Род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, что народ, задавленный крепостным гнетом, вынес на себе основную тяжесть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черкнуть мужество и героизм русской армии, народа, отметить полководческое мастерство М.И.Кутуз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57120" y="357120"/>
            <a:ext cx="842976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усские войска вынудили французскую армию свернуть на разорённую смоленскую дорогу 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чественная война закончилась, но угроза европейскому миру ещё существовала. Необходимо было идти дальше, перенести военные действия за пределы Росс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уничтожить наполеоновскую империю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2214720" y="3643200"/>
            <a:ext cx="4500360" cy="290520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Felix Titling"/>
              </a:rPr>
              <a:t>             </a:t>
            </a:r>
            <a:r>
              <a:rPr b="0" lang="ru-RU" sz="4100" spc="-1" strike="noStrike">
                <a:solidFill>
                  <a:srgbClr val="ff0000"/>
                </a:solidFill>
                <a:latin typeface="Felix Titling"/>
              </a:rPr>
              <a:t>Благодарная    Россия</a:t>
            </a:r>
            <a:endParaRPr b="0" lang="en-US" sz="4100" spc="-1" strike="noStrike">
              <a:solidFill>
                <a:srgbClr val="ffffff"/>
              </a:solidFill>
              <a:latin typeface="Felix Titling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3071880" cy="441036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1673280" cy="328608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37" name="TextBox 7"/>
          <p:cNvSpPr/>
          <p:nvPr/>
        </p:nvSpPr>
        <p:spPr>
          <a:xfrm>
            <a:off x="5429160" y="550080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даль в честь победы в войне 1812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642960" y="564372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  М.И.Кутузуву  в Санкт-Петербур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Хронология военных действий.jpg"/>
          <p:cNvPicPr/>
          <p:nvPr/>
        </p:nvPicPr>
        <p:blipFill>
          <a:blip r:embed="rId1"/>
          <a:stretch/>
        </p:blipFill>
        <p:spPr>
          <a:xfrm>
            <a:off x="468360" y="-171360"/>
            <a:ext cx="828036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elix Titling"/>
              </a:rPr>
              <a:t>Нашествие Наполеона на Росс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Группа 6"/>
          <p:cNvGrpSpPr/>
          <p:nvPr/>
        </p:nvGrpSpPr>
        <p:grpSpPr>
          <a:xfrm>
            <a:off x="3000240" y="2000160"/>
            <a:ext cx="2500560" cy="857520"/>
            <a:chOff x="3000240" y="2000160"/>
            <a:chExt cx="2500560" cy="857520"/>
          </a:xfrm>
        </p:grpSpPr>
        <p:sp>
          <p:nvSpPr>
            <p:cNvPr id="261" name="Овал 3"/>
            <p:cNvSpPr/>
            <p:nvPr/>
          </p:nvSpPr>
          <p:spPr>
            <a:xfrm>
              <a:off x="3000240" y="2357280"/>
              <a:ext cx="214200" cy="5004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"/>
            <p:cNvSpPr/>
            <p:nvPr/>
          </p:nvSpPr>
          <p:spPr>
            <a:xfrm>
              <a:off x="3214440" y="2000160"/>
              <a:ext cx="22863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Барклай де Тол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7"/>
          <p:cNvGrpSpPr/>
          <p:nvPr/>
        </p:nvGrpSpPr>
        <p:grpSpPr>
          <a:xfrm>
            <a:off x="2428920" y="3214800"/>
            <a:ext cx="1571760" cy="714240"/>
            <a:chOff x="2428920" y="3214800"/>
            <a:chExt cx="1571760" cy="714240"/>
          </a:xfrm>
        </p:grpSpPr>
        <p:sp>
          <p:nvSpPr>
            <p:cNvPr id="264" name="Овал 8"/>
            <p:cNvSpPr/>
            <p:nvPr/>
          </p:nvSpPr>
          <p:spPr>
            <a:xfrm>
              <a:off x="2428920" y="3571920"/>
              <a:ext cx="214200" cy="3571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Box 9"/>
            <p:cNvSpPr/>
            <p:nvPr/>
          </p:nvSpPr>
          <p:spPr>
            <a:xfrm>
              <a:off x="2643120" y="3214800"/>
              <a:ext cx="13575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Баграти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Группа 10"/>
          <p:cNvGrpSpPr/>
          <p:nvPr/>
        </p:nvGrpSpPr>
        <p:grpSpPr>
          <a:xfrm>
            <a:off x="3214800" y="5500800"/>
            <a:ext cx="1428480" cy="1071360"/>
            <a:chOff x="3214800" y="5500800"/>
            <a:chExt cx="1428480" cy="1071360"/>
          </a:xfrm>
        </p:grpSpPr>
        <p:sp>
          <p:nvSpPr>
            <p:cNvPr id="267" name="Овал 11"/>
            <p:cNvSpPr/>
            <p:nvPr/>
          </p:nvSpPr>
          <p:spPr>
            <a:xfrm>
              <a:off x="3214800" y="5929200"/>
              <a:ext cx="214200" cy="642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Box 12"/>
            <p:cNvSpPr/>
            <p:nvPr/>
          </p:nvSpPr>
          <p:spPr>
            <a:xfrm>
              <a:off x="3357360" y="5500800"/>
              <a:ext cx="12859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Тормас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189000"/>
            <a:ext cx="87487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Если я возьму Киев , я              возьму Россию за ног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ли я овладею Петербургом , я  возьму её за голову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няв Москву , я поражу её в сердце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5286240" y="357192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2 июня 1812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3429000" cy="421812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elix Titling"/>
              </a:rPr>
              <a:t>Михаил Богданович Барклай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Felix Titling"/>
              </a:rPr>
              <a:t>де Толли (1761-1818)</a:t>
            </a:r>
            <a:endParaRPr b="0" lang="en-US" sz="3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0400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2 году –военный министр и командующий 1-й Западной армией, гене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4году-за взятие Парижа получит чин генерал- фельдмарш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отландец, получивш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звище «Болтай-да-и-Тольк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5132520" y="1633680"/>
            <a:ext cx="3462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ётр Иванович Баграти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1765 - 181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281160" y="1987560"/>
            <a:ext cx="4443120" cy="36082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6"/>
          <p:cNvSpPr/>
          <p:nvPr/>
        </p:nvSpPr>
        <p:spPr>
          <a:xfrm>
            <a:off x="4714920" y="21430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2d0"/>
                </a:solidFill>
                <a:latin typeface="Arial"/>
              </a:rPr>
              <a:t>Выдающийся русский полководец, генерал.</a:t>
            </a:r>
            <a:br>
              <a:rPr sz="2400"/>
            </a:br>
            <a:r>
              <a:rPr b="0" lang="ru-RU" sz="2400" spc="-1" strike="noStrike">
                <a:solidFill>
                  <a:srgbClr val="d4d2d0"/>
                </a:solidFill>
                <a:latin typeface="Arial"/>
              </a:rPr>
              <a:t>Участник 15 войн и 150 сра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4d2d0"/>
                </a:solidFill>
                <a:latin typeface="Arial"/>
              </a:rPr>
              <a:t>В1812г. командующий  2-й Западной армией.</a:t>
            </a:r>
            <a:br>
              <a:rPr sz="2400"/>
            </a:br>
            <a:r>
              <a:rPr b="0" lang="ru-RU" sz="2400" spc="-1" strike="noStrike">
                <a:solidFill>
                  <a:srgbClr val="d4d2d0"/>
                </a:solidFill>
                <a:latin typeface="Arial"/>
              </a:rPr>
              <a:t>(1765-18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elix Titling"/>
              </a:rPr>
              <a:t>Тормасов Александр Петрович (1752-1819)</a:t>
            </a:r>
            <a:endParaRPr b="0" lang="en-US" sz="3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7120" y="1643040"/>
            <a:ext cx="47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усский  генера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1812году 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ующ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й Западной арми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4919760" y="1633680"/>
            <a:ext cx="3779640" cy="46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elix Titling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борона Смоленска 4-5 августа 1812г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786800" cy="3875040"/>
          </a:xfrm>
          <a:prstGeom prst="rect">
            <a:avLst/>
          </a:prstGeom>
          <a:ln cap="sq" w="3816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43:42Z</dcterms:created>
  <dc:creator>m15-r08</dc:creator>
  <dc:description/>
  <dc:language>en-US</dc:language>
  <cp:lastModifiedBy>НАДЕЖДА</cp:lastModifiedBy>
  <dcterms:modified xsi:type="dcterms:W3CDTF">2011-11-28T18:38:09Z</dcterms:modified>
  <cp:revision>101</cp:revision>
  <dc:subject/>
  <dc:title>ОТЕЧЕСТВЕННАЯ ВОЙНА 1812 года</dc:title>
</cp:coreProperties>
</file>